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4F1-0816-48C0-A51E-952DC3F5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8DF-B053-4A8A-878A-F3614899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E06-C423-49E3-978A-964E898B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05C-750B-44CA-8CD0-8DBFBC24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9FE-9DFF-41F7-B648-A1C645C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395-7D1C-4BA0-88FA-AD0ABD4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4B2-BDAD-4573-B5A1-8C977BF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575-5F7E-41E7-A775-F9E37C4E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18F-1363-4B91-B680-AEB7FD75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336-F5F6-4464-BB78-28F973F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61B-16A0-415D-B2C7-0453261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E92-2145-4BAE-8109-81B2E4E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CD0-38A9-479F-9580-2868EC2B0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Admin</cp:lastModifiedBy>
  <dcterms:modified xsi:type="dcterms:W3CDTF">2013-02-26T19:21:15Z</dcterms:modified>
  <cp:revision>56</cp:revision>
  <dc:subject/>
  <dc:title>Законы Кеплера - законы движения небесных тел</dc:title>
</cp:coreProperties>
</file>