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gif" ContentType="image/gif"/>
  <Override PartName="/ppt/media/image21.png" ContentType="image/png"/>
  <Override PartName="/ppt/media/image10.jpeg" ContentType="image/jpeg"/>
  <Override PartName="/ppt/media/image7.jpeg" ContentType="image/jpeg"/>
  <Override PartName="/ppt/media/image5.jpeg" ContentType="image/jpeg"/>
  <Override PartName="/ppt/media/image25.gif" ContentType="image/gif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8.gif" ContentType="image/gif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2F0-1197-4CBB-A52F-EF73FFFE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9E5-ED32-417E-9F2D-26378EA2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DF0-A795-4C56-9861-01F14B35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AD6-C462-4F48-9B4B-46F47570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32F-68B4-4933-8D32-8466371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D27-3CCD-4B85-8878-0E17896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D36-31C8-4A08-99F6-A6304AF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6E0-3BF1-4AD2-9653-38F3B91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428-D7B3-4B68-ACA9-432A2323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4BB-6B87-4093-8F54-2A9F5BE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2B6-03A2-4647-B009-2C311C0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663-A706-4402-9BD9-8D155D4C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2327-DCAD-4080-ABB2-B8380BE1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вой называют верхний плодородный слой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(порядок) поиска отве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ть статью в учеб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нужну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ределиться, кто будет отв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и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что такое «лесные 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о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ие животные поделили между собой лесные «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Эк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ую роль в жизни леса играют грибы, лесная подстил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Верхний яр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920"/>
          <p:cNvPicPr/>
          <p:nvPr/>
        </p:nvPicPr>
        <p:blipFill>
          <a:blip r:embed="rId1"/>
          <a:srcRect l="0" t="-18075" r="0" b="30123"/>
          <a:stretch/>
        </p:blipFill>
        <p:spPr>
          <a:xfrm>
            <a:off x="250920" y="1341360"/>
            <a:ext cx="4464000" cy="468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502"/>
          <p:cNvPicPr/>
          <p:nvPr/>
        </p:nvPicPr>
        <p:blipFill>
          <a:blip r:embed="rId2"/>
          <a:stretch/>
        </p:blipFill>
        <p:spPr>
          <a:xfrm>
            <a:off x="4788000" y="1484280"/>
            <a:ext cx="3632040" cy="242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503"/>
          <p:cNvPicPr/>
          <p:nvPr/>
        </p:nvPicPr>
        <p:blipFill>
          <a:blip r:embed="rId3"/>
          <a:stretch/>
        </p:blipFill>
        <p:spPr>
          <a:xfrm>
            <a:off x="5219640" y="4076640"/>
            <a:ext cx="302436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Средний яр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01"/>
          <p:cNvPicPr/>
          <p:nvPr/>
        </p:nvPicPr>
        <p:blipFill>
          <a:blip r:embed="rId1"/>
          <a:stretch/>
        </p:blipFill>
        <p:spPr>
          <a:xfrm>
            <a:off x="755640" y="1268280"/>
            <a:ext cx="3517920" cy="250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08"/>
          <p:cNvPicPr/>
          <p:nvPr/>
        </p:nvPicPr>
        <p:blipFill>
          <a:blip r:embed="rId2"/>
          <a:stretch/>
        </p:blipFill>
        <p:spPr>
          <a:xfrm>
            <a:off x="4794120" y="1628640"/>
            <a:ext cx="4068720" cy="453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521"/>
          <p:cNvPicPr/>
          <p:nvPr/>
        </p:nvPicPr>
        <p:blipFill>
          <a:blip r:embed="rId3"/>
          <a:stretch/>
        </p:blipFill>
        <p:spPr>
          <a:xfrm>
            <a:off x="468360" y="4049640"/>
            <a:ext cx="3744720" cy="247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con_018"/>
          <p:cNvPicPr/>
          <p:nvPr/>
        </p:nvPicPr>
        <p:blipFill>
          <a:blip r:embed="rId4"/>
          <a:stretch/>
        </p:blipFill>
        <p:spPr>
          <a:xfrm>
            <a:off x="3708360" y="3429000"/>
            <a:ext cx="13683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ижний яр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45"/>
          <p:cNvPicPr/>
          <p:nvPr/>
        </p:nvPicPr>
        <p:blipFill>
          <a:blip r:embed="rId1"/>
          <a:stretch/>
        </p:blipFill>
        <p:spPr>
          <a:xfrm>
            <a:off x="762120" y="402264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040"/>
          <p:cNvPicPr/>
          <p:nvPr/>
        </p:nvPicPr>
        <p:blipFill>
          <a:blip r:embed="rId2"/>
          <a:stretch/>
        </p:blipFill>
        <p:spPr>
          <a:xfrm>
            <a:off x="4932360" y="1628640"/>
            <a:ext cx="3514680" cy="25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031"/>
          <p:cNvPicPr/>
          <p:nvPr/>
        </p:nvPicPr>
        <p:blipFill>
          <a:blip r:embed="rId3"/>
          <a:stretch/>
        </p:blipFill>
        <p:spPr>
          <a:xfrm>
            <a:off x="900000" y="134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08"/>
          <p:cNvPicPr/>
          <p:nvPr/>
        </p:nvPicPr>
        <p:blipFill>
          <a:blip r:embed="rId4"/>
          <a:stretch/>
        </p:blipFill>
        <p:spPr>
          <a:xfrm>
            <a:off x="4284720" y="4292640"/>
            <a:ext cx="3816360" cy="2146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con_018"/>
          <p:cNvPicPr/>
          <p:nvPr/>
        </p:nvPicPr>
        <p:blipFill>
          <a:blip r:embed="rId5"/>
          <a:stretch/>
        </p:blipFill>
        <p:spPr>
          <a:xfrm>
            <a:off x="3851280" y="3141720"/>
            <a:ext cx="13622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и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что такое «лесные 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о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ие животные поделили между собой лесные «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Эк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ую роль в жизни леса играют грибы, лесная подстил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ЖИВОТ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77164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203640" cy="2852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4005360"/>
            <a:ext cx="2592360" cy="2852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0" y="1197000"/>
            <a:ext cx="3233880" cy="2352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156360" y="4199040"/>
            <a:ext cx="28083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04000" y="3933720"/>
            <a:ext cx="2340000" cy="292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27280" y="4005360"/>
            <a:ext cx="2448000" cy="2852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050920" y="1197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1197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125892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13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21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22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589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1700280"/>
            <a:ext cx="12589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Bookman Old Style"/>
              </a:rPr>
              <a:t>Восстанови цепи питания, сложившиеся в лес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а) осина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_______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ястре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б) сосна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жук-короед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__________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) _________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белка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ку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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Какую роль играют растения леса в жизни живот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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Какую роль играют лесные животные в жизни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64360" y="4365720"/>
            <a:ext cx="2879640" cy="2492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2519280" cy="28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30956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очвой называют верхний плодородный слой земли.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уществуют мало типов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 каких обитателях леса идё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на гор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од гор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 берёз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од ёл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ров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в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шляпках молод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643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и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что такое «лесные 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о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ие животные поделили между собой лесные «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Эк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ую роль в жизни леса играют грибы, лесная подстил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Нужны ли лесу гриб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су грибы ну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ибы помогают деревьям высасывать из почвы воду с растворёнными с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ибами питаются и лечатся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ибы способствуют разложению растительных оста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700360" cy="328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8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4076640"/>
            <a:ext cx="244764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ЛЕСНАЯ ПОДСТИ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6ff"/>
                </a:solidFill>
                <a:latin typeface="Arial"/>
              </a:rPr>
              <a:t>Какое значение в жизни леса имеет лесная подстил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3059280" cy="2852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0" y="1413000"/>
            <a:ext cx="4392720" cy="29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1720800"/>
            <a:ext cx="40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Bookman Old Style"/>
              </a:rPr>
              <a:t>Пополняет почву перегно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ookman Old Style"/>
              </a:rPr>
              <a:t>Помогает выжить зимой некоторым живот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Bookman Old Style"/>
              </a:rPr>
              <a:t>Защищает животных от хол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59120" y="4889520"/>
            <a:ext cx="53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59120" y="4437000"/>
            <a:ext cx="52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образовании лесной подстилки участвуют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319640" cy="1628640"/>
          </a:xfrm>
          <a:prstGeom prst="upArrowCallout">
            <a:avLst>
              <a:gd name="adj1" fmla="val 66313"/>
              <a:gd name="adj2" fmla="val 66307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575316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икр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Жизн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едите примеры экологического равновесия в лес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ираясь на данную сх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789360"/>
            <a:ext cx="248436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4437000"/>
            <a:ext cx="237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5661000"/>
            <a:ext cx="2232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2997360"/>
            <a:ext cx="2158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3657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Неж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4869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84360" y="3357360"/>
            <a:ext cx="3959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5877000"/>
            <a:ext cx="395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1" idx="2"/>
            <a:endCxn id="130" idx="0"/>
          </p:cNvCxnSpPr>
          <p:nvPr/>
        </p:nvCxnSpPr>
        <p:spPr>
          <a:xfrm flipH="1">
            <a:off x="7559280" y="3911400"/>
            <a:ext cx="37440" cy="174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9" idx="3"/>
            <a:endCxn id="131" idx="1"/>
          </p:cNvCxnSpPr>
          <p:nvPr/>
        </p:nvCxnSpPr>
        <p:spPr>
          <a:xfrm flipV="1">
            <a:off x="5940000" y="3453840"/>
            <a:ext cx="577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3"/>
            <a:endCxn id="130" idx="1"/>
          </p:cNvCxnSpPr>
          <p:nvPr/>
        </p:nvCxnSpPr>
        <p:spPr>
          <a:xfrm>
            <a:off x="5940360" y="4894200"/>
            <a:ext cx="50400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.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Жизнь леса. Лес – природное сооб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Цель урока: узнать, почему лес является природным сообщ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игли ли мы цели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узнали нов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оцениваете работу своей груп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был интере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105520"/>
            <a:ext cx="632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175-181, тетр., стр.55, № 2,5-9. собирать материал для Красной книги Волгоград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вой называют верхний плодородный слой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уют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мн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ипов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амыми плодородными являются тундровые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вой называют верхний плодородный слой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уют много типов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ми плодородными являются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черноземные поч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 территории нашего края преобладают черноземные 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вой называют верхний плодородный слой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уют много типов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ми плодородными являются черноземные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рритории нашего края преобладают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подзолистые  поч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Почвы не нуждаются в ох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вой называют верхний плодородный слой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уют много типов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ми плодородными являются черноземные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рритории нашего края преобладают подзолистые 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вы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уждаю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х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3272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.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Жизнь леса. Лес – природное сооб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Цель урока: узнать, почему лес является природным сообщ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и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что такое «лесные 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о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ие животные поделили между собой лесные «этаж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Эколог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знать, какую роль в жизни леса играют грибы, лесная подстил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34:30Z</dcterms:created>
  <dc:creator>Шабанова С.Ю.</dc:creator>
  <dc:description/>
  <dc:language>en-US</dc:language>
  <cp:lastModifiedBy>SPEEDxp</cp:lastModifiedBy>
  <dcterms:modified xsi:type="dcterms:W3CDTF">2008-12-08T17:28:47Z</dcterms:modified>
  <cp:revision>2</cp:revision>
  <dc:subject/>
  <dc:title>Слайд 1</dc:title>
</cp:coreProperties>
</file>