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33C-F850-40ED-8BFE-07A203E9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659-0874-433A-9ED1-E2C1503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ABB-6194-40DA-8194-3B93BAEC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B03-50D1-46CE-8BA9-9C8AE4BB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BE3-DC7A-4CEB-9186-C92BCE1F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93E-0491-4194-A8CF-4357D80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243-2D11-4514-B6C0-4C1115A4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FF0-0D24-460E-8080-6428FF7D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6FC-EDA2-4C5C-998B-2681118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A14-F49B-4A02-A013-7B0D119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264-E2B7-4EC9-9DF3-A04BD56D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33B-5672-485E-90A8-9531352A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1104-A866-4B77-854D-C18CF3DE3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Box 2"/>
          <p:cNvSpPr/>
          <p:nvPr/>
        </p:nvSpPr>
        <p:spPr>
          <a:xfrm>
            <a:off x="1476360" y="141300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ЧУДЕСА ПРИР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51280" y="5013360"/>
            <a:ext cx="40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Выполнил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Чернявская Элизаб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Рыбакова Еле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МБОУ 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Г.Новый Урен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По мнению великого французского мыслителя Дидро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 «чудеса -там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где в них верят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и чем больше верят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тем чаще они встречаются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as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286000" y="2505240"/>
            <a:ext cx="4572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Озеро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уникальное озеро расположено в Южной Сибири, у российско-монгольской гра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глубочайшее в мире пресноводное озеро (1 620 м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озеро байкал"/>
          <p:cNvPicPr/>
          <p:nvPr/>
        </p:nvPicPr>
        <p:blipFill>
          <a:blip r:embed="rId2"/>
          <a:stretch/>
        </p:blipFill>
        <p:spPr>
          <a:xfrm>
            <a:off x="5407200" y="96840"/>
            <a:ext cx="36036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na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286000" y="1982880"/>
            <a:ext cx="457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Гигантская секвой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Вечнозеленая и гигантская секвойи образуют величественный шатер над ковром опавших лист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Ископаемые образцы говорят о том, что эти гигантские деревья существовали уже в юрский период, между 208 и 144 миллионами лет наз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sa_death_valley_01"/>
          <p:cNvPicPr/>
          <p:nvPr/>
        </p:nvPicPr>
        <p:blipFill>
          <a:blip r:embed="rId1"/>
          <a:stretch/>
        </p:blipFill>
        <p:spPr>
          <a:xfrm>
            <a:off x="250920" y="115920"/>
            <a:ext cx="8602560" cy="6172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623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ина смерти (Большой кань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01198.wav" descr=""/>
          <p:cNvPicPr/>
          <p:nvPr/>
        </p:nvPicPr>
        <p:blipFill>
          <a:blip r:embed="rId2"/>
          <a:stretch/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 интернета «Атлас  чудес прир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0" y="-36360"/>
          <a:ext cx="9144000" cy="689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6360"/>
                    <a:ext cx="9144000" cy="68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7"/>
          <p:cNvSpPr/>
          <p:nvPr/>
        </p:nvSpPr>
        <p:spPr>
          <a:xfrm>
            <a:off x="755640" y="692280"/>
            <a:ext cx="770400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е семь чудес прир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New seven wonders of nat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нкурс, который должен выявить семь важнейших природных мест мира с помощью всемирного народного голос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стартовал в декабре 2007 года. До 7 июля 2009 года происходило выдвижение и предварительный отбор кандида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июля экспертный совет конкурса выбрал из их числа 28 финалистов, которые были допущены к всеобщему голосованию. Голосование будет продолжаться до 2011 го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ВОДОХРАНИЛИЩА в районе перевала Гримзель (Швейцарские Альпы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-11880" y="3244680"/>
            <a:ext cx="91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дохранилища в Альпах, Швейц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Гора Еле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376000" y="3244680"/>
            <a:ext cx="43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рег Антаркт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Файл:KKosaS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71640" y="501336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уршская коса  Песчаный пляж на побережье Балтийского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ilos Island Greece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94480" y="3244680"/>
            <a:ext cx="85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калы и утёсы на о. Милос в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Ozero titikaka"/>
          <p:cNvPicPr/>
          <p:nvPr/>
        </p:nvPicPr>
        <p:blipFill>
          <a:blip r:embed="rId1"/>
          <a:srcRect l="1260" t="189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2286000" y="3105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итикака - самое большое высокогорное озеро в мире, Анды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eu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286000" y="28130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Беловежский 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тот древний лес на северо-востоке Польши простоял почти нетронутым больше 500 л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Файл:Alba al Gan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1619280" y="5950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 Black"/>
              </a:rPr>
              <a:t>Река  Ганг (инд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озеро байкал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9880" y="3244680"/>
            <a:ext cx="87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олевые ванны в Памуккале, Тур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4:13:19Z</dcterms:created>
  <dc:creator>Янкина Ольга Васильевна</dc:creator>
  <dc:description/>
  <dc:language>en-US</dc:language>
  <cp:lastModifiedBy>admin</cp:lastModifiedBy>
  <dcterms:modified xsi:type="dcterms:W3CDTF">2013-04-20T14:17:19Z</dcterms:modified>
  <cp:revision>10</cp:revision>
  <dc:subject/>
  <dc:title>Слайд 1</dc:title>
</cp:coreProperties>
</file>