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C870D-8A3E-472C-AFE6-ED32FCDB6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7B8E5-ACD8-445A-9ACA-4D1197952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2B780-D0B9-4C19-B30B-ED4E8FEA6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FC8F3-0DA2-46B1-8B13-66F8008FB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F9E7F-D9DC-41A6-B2BB-0A727958E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20C2D-A6BC-4F9C-8A8B-36CF5D056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BA3EE-E57B-47DD-8D83-873E6D321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4EA76-78DB-4539-847D-E7382201A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36EAE-5D76-4445-8F2C-7CABD124F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8DB25-F2F1-4967-939F-753FB980A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6A080-3011-4021-865C-1FA185378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99220-4496-45EC-BBFF-FBB5E766B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D8C22-CA98-431A-924A-0C7F23B75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2D884-BB8C-4DAB-9451-A40544A5D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6FD4D-C2BB-4F7D-8F64-B730D5A79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45282-E534-4C2B-BEEA-BD574ED23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681DA-D701-4D35-8FC7-98EB4AE84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63A9E-C137-41E3-8EF9-155E0DCEB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04E7F-8702-4648-A39D-64AA470D6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A4CD0-C78D-4BFF-B111-CBA104B51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A96FB-3595-4CF3-B9BA-AA7427816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66E92-9F1D-4AA2-A55A-63BC9CC56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34B34-499A-471A-A803-90837081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CC5B5-5150-48C1-9C86-9B9508ED1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DEF9-83E3-4FB1-8D02-9DC917853A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1E5A-7742-4645-AB4F-2AFA88CFFB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708360" y="907920"/>
            <a:ext cx="58672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Иван Андреевич Крылов</a:t>
            </a:r>
            <a:endParaRPr b="0" lang="en-US" sz="4400" spc="-1" strike="noStrike">
              <a:solidFill>
                <a:srgbClr val="b7e7ff"/>
              </a:solidFill>
              <a:latin typeface="Arial"/>
            </a:endParaRPr>
          </a:p>
        </p:txBody>
      </p:sp>
      <p:sp>
        <p:nvSpPr>
          <p:cNvPr id="83" name="PlaceHolder 2"/>
          <p:cNvSpPr>
            <a:spLocks noGrp="1"/>
          </p:cNvSpPr>
          <p:nvPr>
            <p:ph type="subTitle"/>
          </p:nvPr>
        </p:nvSpPr>
        <p:spPr>
          <a:xfrm>
            <a:off x="4932360" y="4723920"/>
            <a:ext cx="3992400" cy="17780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ыполнила</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Шабаркина Марина Евгеньевна</a:t>
            </a:r>
            <a:endParaRPr b="0" lang="en-US" sz="3200" spc="-1" strike="noStrike">
              <a:solidFill>
                <a:srgbClr val="ffffff"/>
              </a:solidFill>
              <a:latin typeface="Arial"/>
            </a:endParaRPr>
          </a:p>
        </p:txBody>
      </p:sp>
      <p:pic>
        <p:nvPicPr>
          <p:cNvPr id="84" name="" descr=""/>
          <p:cNvPicPr/>
          <p:nvPr/>
        </p:nvPicPr>
        <p:blipFill>
          <a:blip r:embed="rId2"/>
          <a:stretch/>
        </p:blipFill>
        <p:spPr>
          <a:xfrm>
            <a:off x="0" y="1268280"/>
            <a:ext cx="3768840" cy="453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152280" y="1219320"/>
            <a:ext cx="4038840" cy="5181480"/>
          </a:xfrm>
          <a:prstGeom prst="rect">
            <a:avLst/>
          </a:prstGeom>
          <a:ln w="0">
            <a:noFill/>
          </a:ln>
        </p:spPr>
      </p:pic>
      <p:sp>
        <p:nvSpPr>
          <p:cNvPr id="86" name=""/>
          <p:cNvSpPr/>
          <p:nvPr/>
        </p:nvSpPr>
        <p:spPr>
          <a:xfrm>
            <a:off x="4267080" y="1752480"/>
            <a:ext cx="4648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Кто не слыхал его живого слов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Кто в жизни с ним не встретился свое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Бессмертные творения Крылов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Мы с каждым годом любим всё сильней.</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М. Исаковский</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284720" y="115920"/>
            <a:ext cx="4402080" cy="67420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Знаменитый российский баснописец Иван Андреевич Крылов родился в 1769 году в Москве, в семье бедного дворянина, а после смерти отца, который оставил ему только книги, жил с матерью в бедности. Мать ходила читать и отпевать покойников в богатые купеческие и дворянские дворы, а Иван Андреевич определился на службу «подканцеляристом», где очень скоро познакомился с судебным беспределом, взяточничеством, наговорами и всей унизительной атмосферой человеческого бесправия. Этот неприятный опыт глубоко поразил юношу и стал основой для его сатирического творчества</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Из-за недостатка средств в семье Крылов стал даже учиться в школе. Но желание получить образование было у него настолько ильным, что он самостоятельно изучил языки, овладел математикой и стал высокообразованным для своего времени человеком.</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8" name="" descr=""/>
          <p:cNvPicPr/>
          <p:nvPr/>
        </p:nvPicPr>
        <p:blipFill>
          <a:blip r:embed="rId2"/>
          <a:stretch/>
        </p:blipFill>
        <p:spPr>
          <a:xfrm>
            <a:off x="468360" y="692280"/>
            <a:ext cx="3809880" cy="520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284720" y="404280"/>
            <a:ext cx="4402080" cy="626436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cc99"/>
                </a:solidFill>
                <a:latin typeface="Arial"/>
              </a:rPr>
              <a:t>В юном возрасте Крылов написал несколько комедий для театра, но ни одна из них не попала на сцену. Позднее он стал сотрудничать с журналами «Лекарство от скуки и забот» и «Ранние часы», и там в 1788 г. Опубликовал свои первые басни. В следующем году он уже сам издает журнал «Почта духов», где в придуманной им переписке волшебников, фантастических духов – гномов, сильфов, ондинов, которые невидимо живут среди людей, - появляются сатирические образы катериновской эпохи: пышные вельможи, живодеры-чиновники и судьи взяточники. Но сатирический журнал «Зритель», в котором писатель особенно смело осуждал произвол самодержавия и помещиков, прекращает свое существование по приказу императрицы. Комедии Крылова, за небольшими исключениями, не доходят до театра. В конце концов Иван Андреевич останавливается на басне.</a:t>
            </a:r>
            <a:endParaRPr b="0" lang="en-US" sz="1800" spc="-1" strike="noStrike">
              <a:solidFill>
                <a:srgbClr val="ffffff"/>
              </a:solidFill>
              <a:latin typeface="Arial"/>
            </a:endParaRPr>
          </a:p>
        </p:txBody>
      </p:sp>
      <p:pic>
        <p:nvPicPr>
          <p:cNvPr id="90" name="" descr=""/>
          <p:cNvPicPr/>
          <p:nvPr/>
        </p:nvPicPr>
        <p:blipFill>
          <a:blip r:embed="rId2"/>
          <a:stretch/>
        </p:blipFill>
        <p:spPr>
          <a:xfrm>
            <a:off x="826920" y="260280"/>
            <a:ext cx="2376720" cy="3313080"/>
          </a:xfrm>
          <a:prstGeom prst="rect">
            <a:avLst/>
          </a:prstGeom>
          <a:ln w="0">
            <a:noFill/>
          </a:ln>
        </p:spPr>
      </p:pic>
      <p:pic>
        <p:nvPicPr>
          <p:cNvPr id="91" name="" descr=""/>
          <p:cNvPicPr/>
          <p:nvPr/>
        </p:nvPicPr>
        <p:blipFill>
          <a:blip r:embed="rId3"/>
          <a:stretch/>
        </p:blipFill>
        <p:spPr>
          <a:xfrm>
            <a:off x="826920" y="3789360"/>
            <a:ext cx="2376720" cy="3068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427280" y="475920"/>
            <a:ext cx="4392360" cy="57610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В 1804 г. Крылов в «Московском зрителе» публикует басни «Дуб и Тростинка», «Привередливая невеста», благодаря которым занимает почетное место в литературе как создатель российской классической басни. Басни Крылова имеют чудодейственную силу. Они содержат мудрые истины, которые дала их создателю сама жизнь. Аллегорично изображая современный ему мир, Иван Андреевич изображал сложные, живые, существующие характеры. Увлечения, привычки, выражения басенных персонажей близкие и понятные читателю.</a:t>
            </a:r>
            <a:endParaRPr b="0" lang="en-US" sz="2000" spc="-1" strike="noStrike">
              <a:solidFill>
                <a:srgbClr val="ffffff"/>
              </a:solidFill>
              <a:latin typeface="Arial"/>
            </a:endParaRPr>
          </a:p>
        </p:txBody>
      </p:sp>
      <p:pic>
        <p:nvPicPr>
          <p:cNvPr id="93" name="" descr=""/>
          <p:cNvPicPr/>
          <p:nvPr/>
        </p:nvPicPr>
        <p:blipFill>
          <a:blip r:embed="rId2"/>
          <a:stretch/>
        </p:blipFill>
        <p:spPr>
          <a:xfrm>
            <a:off x="324000" y="476280"/>
            <a:ext cx="4343400" cy="5715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859280" y="549000"/>
            <a:ext cx="4105440" cy="5546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В 1806 г. Иван Крылов переезжает в Петербург и начинает издавать комедии в журнале «Драматический вестник». В 1812 г. он занимает должность библиотекаря в Петербургской Публичной библиотеке, которой посвятил почти 30 лет. Умер Иван Андреевич Крылов 9 (21) ноября 1844 года в Петербурге.</a:t>
            </a:r>
            <a:endParaRPr b="0" lang="en-US" sz="2400" spc="-1" strike="noStrike">
              <a:solidFill>
                <a:srgbClr val="ffffff"/>
              </a:solidFill>
              <a:latin typeface="Arial"/>
            </a:endParaRPr>
          </a:p>
        </p:txBody>
      </p:sp>
      <p:pic>
        <p:nvPicPr>
          <p:cNvPr id="95" name="" descr=""/>
          <p:cNvPicPr/>
          <p:nvPr/>
        </p:nvPicPr>
        <p:blipFill>
          <a:blip r:embed="rId2"/>
          <a:stretch/>
        </p:blipFill>
        <p:spPr>
          <a:xfrm>
            <a:off x="1619280" y="189000"/>
            <a:ext cx="2313000" cy="3527280"/>
          </a:xfrm>
          <a:prstGeom prst="rect">
            <a:avLst/>
          </a:prstGeom>
          <a:ln w="0">
            <a:noFill/>
          </a:ln>
        </p:spPr>
      </p:pic>
      <p:pic>
        <p:nvPicPr>
          <p:cNvPr id="96" name="" descr=""/>
          <p:cNvPicPr/>
          <p:nvPr/>
        </p:nvPicPr>
        <p:blipFill>
          <a:blip r:embed="rId3"/>
          <a:stretch/>
        </p:blipFill>
        <p:spPr>
          <a:xfrm>
            <a:off x="539640" y="3860640"/>
            <a:ext cx="4248360" cy="2830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5280" y="476280"/>
            <a:ext cx="8291520" cy="30240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cc99"/>
                </a:solidFill>
                <a:latin typeface="Arial"/>
              </a:rPr>
              <a:t>На Руси первые басни появились в </a:t>
            </a:r>
            <a:r>
              <a:rPr b="0" lang="en-US" sz="2000" spc="-1" strike="noStrike">
                <a:solidFill>
                  <a:srgbClr val="00cc99"/>
                </a:solidFill>
                <a:latin typeface="Arial"/>
              </a:rPr>
              <a:t>XII</a:t>
            </a:r>
            <a:r>
              <a:rPr b="0" lang="ru-RU" sz="2000" spc="-1" strike="noStrike">
                <a:solidFill>
                  <a:srgbClr val="00cc99"/>
                </a:solidFill>
                <a:latin typeface="Arial"/>
              </a:rPr>
              <a:t> в. Но именно Крылов, по словам Белинского, «создал русскую басню». Заслуга Крылова состоит в том, что, сохранив традиционные признаки жанра, он взялся отображать конкретные социальные пороки современной ему российской жизни – социальные противоречия, пороки власть имущих, нравственно-бытовой уклад народной жизни. Басни Крылова обычно подразделяют на социально-политические (с критикой господствующего строя), нравственно-философские (отражающие взаимодействие личности и среды) и социально-бытовые (порицающие ложь, глупость, невежество, зазнайство, жадность, неблагодарность, зависть и др.)</a:t>
            </a:r>
            <a:endParaRPr b="0" lang="en-US" sz="2000" spc="-1" strike="noStrike">
              <a:solidFill>
                <a:srgbClr val="ffffff"/>
              </a:solidFill>
              <a:latin typeface="Arial"/>
            </a:endParaRPr>
          </a:p>
        </p:txBody>
      </p:sp>
      <p:pic>
        <p:nvPicPr>
          <p:cNvPr id="98" name="" descr=""/>
          <p:cNvPicPr/>
          <p:nvPr/>
        </p:nvPicPr>
        <p:blipFill>
          <a:blip r:embed="rId2"/>
          <a:stretch/>
        </p:blipFill>
        <p:spPr>
          <a:xfrm>
            <a:off x="2195640" y="3351240"/>
            <a:ext cx="4968720" cy="3506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57200" y="244440"/>
            <a:ext cx="8385120" cy="1432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Памятник Крылову</a:t>
            </a:r>
            <a:endParaRPr b="0" lang="en-US" sz="4400" spc="-1" strike="noStrike">
              <a:solidFill>
                <a:srgbClr val="ffffff"/>
              </a:solidFill>
              <a:latin typeface="Arial"/>
            </a:endParaRPr>
          </a:p>
        </p:txBody>
      </p:sp>
      <p:sp>
        <p:nvSpPr>
          <p:cNvPr id="100" name=""/>
          <p:cNvSpPr/>
          <p:nvPr/>
        </p:nvSpPr>
        <p:spPr>
          <a:xfrm>
            <a:off x="324000" y="1447920"/>
            <a:ext cx="4752720" cy="5079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cc99"/>
                </a:solidFill>
                <a:latin typeface="Arial"/>
              </a:rPr>
              <a:t>В Санкт-Петербурге, в Летнем саду, стоит памятник великому баснописцу. Крылов изображён сидящим в кресле, . Постамент памятника украшен фигурами героев его басен. До этого ни одному писателю памятников не сооружалось. Средства на него собирал весь народ. Устроили конкурс на лучший проект памятника. В конкурсе победил   Пётр Карлович Клодт. Он работал над памятником вместе с художниками Карлом Брюлловым и Александром Агиным.</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 descr=""/>
          <p:cNvPicPr/>
          <p:nvPr/>
        </p:nvPicPr>
        <p:blipFill>
          <a:blip r:embed="rId2"/>
          <a:stretch/>
        </p:blipFill>
        <p:spPr>
          <a:xfrm>
            <a:off x="5105520" y="1447920"/>
            <a:ext cx="3809880" cy="5181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9T11:33:07Z</dcterms:created>
  <dc:creator>Я</dc:creator>
  <dc:description/>
  <dc:language>en-US</dc:language>
  <cp:lastModifiedBy>Я</cp:lastModifiedBy>
  <dcterms:modified xsi:type="dcterms:W3CDTF">2013-10-04T09:06:36Z</dcterms:modified>
  <cp:revision>3</cp:revision>
  <dc:subject/>
  <dc:title>Иван Андреевич Крылов</dc:title>
</cp:coreProperties>
</file>