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319-D212-43A0-94C8-3CB76CC9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968-820D-4DD9-8208-4B047279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099-7D2E-4006-9871-6BA41FDB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DC9-F5E8-47FF-BB3E-2B8B58F6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C670-C6C4-4318-B405-E17E40ED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3C34-A421-4C9D-A184-5BA8C911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9102-11D8-4E60-8DD5-FED711AE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3C83-9CFE-4203-8A28-F4A3BB76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4A7F-0E2F-4E7E-AE99-E12D4B26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AE24-8DC7-4457-888B-0D904598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67A0-C109-46AD-BFF9-3481129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9C3-8D9A-4DF6-9E01-75970EA8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7312-319C-4179-A8CC-2F97EB17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1B4C-F7B0-4F2A-878D-2BE1749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32EF-2594-4C6D-9272-30F95A4B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D087-8B43-410C-8D0A-D4539E45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FC63-A91B-49A1-94A5-AC28A393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652-7F40-42A8-A9ED-2C7F86A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0D1-B38E-4E87-BFFB-269F1E0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168-70DF-41F3-A765-08659DD6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BF3-BD61-40B9-B839-5FB0BEF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40A-8F57-4572-96B0-6C50913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9D8-FABD-472E-ADA3-249DB719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098-C6C8-4004-AC3C-8F212117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25E7-A9FF-47C1-89BC-E97B46377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9374-801D-4379-A453-54150DF22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Arial Black"/>
              </a:rPr>
              <a:t>Урок математики.   2 класс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 Black"/>
              </a:rPr>
              <a:t>              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 Black"/>
              </a:rPr>
              <a:t>Тема урока : «Решение задач и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 Black"/>
              </a:rPr>
              <a:t> выражений .»</a:t>
            </a: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             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 Black"/>
              </a:rPr>
              <a:t>Цели урока :  формировать умение решать задачи , познакомить с новым типом задач «цена, количество , стоимость», развивать вычислительные навыки , закреплять знание особых случаев умножения и деления , развитие внимания и логики.</a:t>
            </a:r>
            <a:endParaRPr b="1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8920" y="5084280"/>
            <a:ext cx="84963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«а» класс . Учебник : М.И.Моро .   Учитель : Попкова О. 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5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Задание №2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-Вычисли, найди конечный результат: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3716280"/>
            <a:ext cx="720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141720"/>
            <a:ext cx="122364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14172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314172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314172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306864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3357720"/>
            <a:ext cx="71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03280" y="2565360"/>
            <a:ext cx="7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7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771640" y="2565360"/>
            <a:ext cx="64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a9a5f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+14</a:t>
            </a:r>
            <a:endParaRPr b="0" lang="en-US" sz="1800" spc="1" strike="noStrike">
              <a:ln w="12600">
                <a:solidFill>
                  <a:srgbClr val="5a9a5f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11640" y="2565360"/>
            <a:ext cx="7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24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24360" y="2565360"/>
            <a:ext cx="6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a9a5f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* 3</a:t>
            </a:r>
            <a:endParaRPr b="0" lang="en-US" sz="1800" spc="1" strike="noStrike">
              <a:ln w="12600">
                <a:solidFill>
                  <a:srgbClr val="5a9a5f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308720" y="2565360"/>
            <a:ext cx="5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a9a5f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:10</a:t>
            </a:r>
            <a:endParaRPr b="0" lang="en-US" sz="1800" spc="1" strike="noStrike">
              <a:ln w="12600">
                <a:solidFill>
                  <a:srgbClr val="5a9a5f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101080" y="3357720"/>
            <a:ext cx="5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a9a5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5a9a5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5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Задание №2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-Проверь.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3716280"/>
            <a:ext cx="720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141720"/>
            <a:ext cx="122364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14172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14172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314172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314172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67640" y="3068640"/>
            <a:ext cx="122400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640" y="3357720"/>
            <a:ext cx="71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03280" y="2565360"/>
            <a:ext cx="7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7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771640" y="2565360"/>
            <a:ext cx="64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a9a5f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+14</a:t>
            </a:r>
            <a:endParaRPr b="0" lang="en-US" sz="1800" spc="1" strike="noStrike">
              <a:ln w="12600">
                <a:solidFill>
                  <a:srgbClr val="5a9a5f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11640" y="2565360"/>
            <a:ext cx="7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a9a5f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24</a:t>
            </a:r>
            <a:endParaRPr b="0" lang="en-US" sz="1800" spc="1" strike="noStrike">
              <a:ln w="12600">
                <a:solidFill>
                  <a:srgbClr val="5a9a5f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24360" y="2565360"/>
            <a:ext cx="6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a9a5f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* 3</a:t>
            </a:r>
            <a:endParaRPr b="0" lang="en-US" sz="1800" spc="1" strike="noStrike">
              <a:ln w="12600">
                <a:solidFill>
                  <a:srgbClr val="5a9a5f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308720" y="2565360"/>
            <a:ext cx="5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a9a5f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:10</a:t>
            </a:r>
            <a:endParaRPr b="0" lang="en-US" sz="1800" spc="1" strike="noStrike">
              <a:ln w="12600">
                <a:solidFill>
                  <a:srgbClr val="5a9a5f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101080" y="3357720"/>
            <a:ext cx="5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a9a5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5a9a5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1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Задание №3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-Вычисли удобным способом: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0920" y="2253960"/>
            <a:ext cx="643428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4+9+16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+13+7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+11+2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+21+15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 Black"/>
              </a:rPr>
              <a:t>Задание №4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-Найди лишнюю запись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49200" y="1708200"/>
            <a:ext cx="6537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82 – у = 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 + В = 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3 + 16 = 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    2 = 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6 + 10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0    4 = 4  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43700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6021360"/>
            <a:ext cx="1425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602136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 Black"/>
              </a:rPr>
              <a:t>Задание №4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-Распредели в два столбик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49200" y="1708200"/>
            <a:ext cx="6537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2 – у = 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 + В = 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+ 16 = 2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   2 = 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   4 = 4   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43700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5229360"/>
            <a:ext cx="1425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03640" y="522936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 Black"/>
              </a:rPr>
              <a:t>Задание №4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-Проверь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81728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2 – у = 11            13 + 16 =2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 + В = С               6    2 = 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   4 = 4  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Повторим название компонентов дейст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285264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84720" y="371628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56720" y="3716280"/>
            <a:ext cx="1425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«Блиц-турнир»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-Составь выражения: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дной полке </a:t>
            </a:r>
            <a:r>
              <a:rPr b="0" lang="ru-RU" sz="2800" spc="-1" strike="noStrike">
                <a:solidFill>
                  <a:srgbClr val="f52717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ниг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другой </a:t>
            </a:r>
            <a:r>
              <a:rPr b="1" lang="en-US" sz="2800" spc="-1" strike="noStrike">
                <a:solidFill>
                  <a:srgbClr val="f52717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ниг. Сколько книг на двух пол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дной полке </a:t>
            </a:r>
            <a:r>
              <a:rPr b="1" lang="en-US" sz="2800" spc="-1" strike="noStrike">
                <a:solidFill>
                  <a:srgbClr val="f52717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ниг, на другой </a:t>
            </a:r>
            <a:r>
              <a:rPr b="1" lang="en-US" sz="2800" spc="-1" strike="noStrike">
                <a:solidFill>
                  <a:srgbClr val="f52717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ниг. На сколько книг на первой полке больше чем на втор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дной полку </a:t>
            </a:r>
            <a:r>
              <a:rPr b="1" lang="en-US" sz="2800" spc="-1" strike="noStrike">
                <a:solidFill>
                  <a:srgbClr val="f52717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ниг, на другой – на </a:t>
            </a:r>
            <a:r>
              <a:rPr b="1" lang="en-US" sz="2800" spc="-1" strike="noStrike">
                <a:solidFill>
                  <a:srgbClr val="f52717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ниг больше. Сколько книг на другой пол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ru-RU" sz="2800" spc="-1" strike="noStrike">
                <a:solidFill>
                  <a:srgbClr val="f52717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лки разложили </a:t>
            </a:r>
            <a:r>
              <a:rPr b="1" lang="ru-RU" sz="2800" spc="-1" strike="noStrike">
                <a:solidFill>
                  <a:srgbClr val="f52717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ниг. Сколько книг на каждой пол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олке </a:t>
            </a:r>
            <a:r>
              <a:rPr b="1" lang="en-US" sz="2800" spc="-1" strike="noStrike">
                <a:solidFill>
                  <a:srgbClr val="f52717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ниг. Сколько книг на </a:t>
            </a:r>
            <a:r>
              <a:rPr b="0" lang="ru-RU" sz="2800" spc="-1" strike="noStrike">
                <a:solidFill>
                  <a:srgbClr val="f52717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аких пол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нига стоит </a:t>
            </a:r>
            <a:r>
              <a:rPr b="1" i="1" lang="ru-RU" sz="2800" spc="-1" strike="noStrike">
                <a:solidFill>
                  <a:srgbClr val="f52717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ублей. Сколько стоят </a:t>
            </a:r>
            <a:r>
              <a:rPr b="1" i="1" lang="en-US" sz="2800" spc="-1" strike="noStrike">
                <a:solidFill>
                  <a:srgbClr val="f52717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их кни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полни таблицу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а             Количество         Сто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989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2637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9308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полни таблицу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а             Количество         Сто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989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637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89308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2781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6720" y="27082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ни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67840" y="27288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02000" y="26557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полни таблицу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а             Количество         Сто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руб.             4 к.                       ?  руб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1989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637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89308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Математика – царица наук!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8360" y="2420640"/>
            <a:ext cx="73087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ез неё не летят кораб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ез неё не поделишь ни метра зем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аже хлеба не купишь, рубля не сочтеш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то почем, не узнаеш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 узнав, не поймешь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Чему учимся на уроках математик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99200" y="4365720"/>
            <a:ext cx="2044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ик научит нас точному счёт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ей за работу, скорей за работу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Работа с учебником (страница 65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188040" y="3141720"/>
            <a:ext cx="29559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полни таблицу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а             Количество         Сто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989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2637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89308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№</a:t>
            </a: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8360" y="1905120"/>
          <a:ext cx="8377200" cy="2128680"/>
        </p:xfrm>
        <a:graphic>
          <a:graphicData uri="http://schemas.openxmlformats.org/drawingml/2006/table">
            <a:tbl>
              <a:tblPr/>
              <a:tblGrid>
                <a:gridCol w="3038400"/>
                <a:gridCol w="2670120"/>
                <a:gridCol w="266868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уб.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№</a:t>
            </a: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905120"/>
          <a:ext cx="8377200" cy="3525840"/>
        </p:xfrm>
        <a:graphic>
          <a:graphicData uri="http://schemas.openxmlformats.org/drawingml/2006/table">
            <a:tbl>
              <a:tblPr/>
              <a:tblGrid>
                <a:gridCol w="3038400"/>
                <a:gridCol w="2670120"/>
                <a:gridCol w="266868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№</a:t>
            </a: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905120"/>
          <a:ext cx="8377200" cy="3525840"/>
        </p:xfrm>
        <a:graphic>
          <a:graphicData uri="http://schemas.openxmlformats.org/drawingml/2006/table">
            <a:tbl>
              <a:tblPr/>
              <a:tblGrid>
                <a:gridCol w="3038400"/>
                <a:gridCol w="2670120"/>
                <a:gridCol w="266868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№</a:t>
            </a: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05120"/>
          <a:ext cx="8377200" cy="3525840"/>
        </p:xfrm>
        <a:graphic>
          <a:graphicData uri="http://schemas.openxmlformats.org/drawingml/2006/table">
            <a:tbl>
              <a:tblPr/>
              <a:tblGrid>
                <a:gridCol w="3038400"/>
                <a:gridCol w="2577960"/>
                <a:gridCol w="27608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РУБ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№</a:t>
            </a: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3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905120"/>
          <a:ext cx="8377200" cy="3525840"/>
        </p:xfrm>
        <a:graphic>
          <a:graphicData uri="http://schemas.openxmlformats.org/drawingml/2006/table">
            <a:tbl>
              <a:tblPr/>
              <a:tblGrid>
                <a:gridCol w="3038400"/>
                <a:gridCol w="2577960"/>
                <a:gridCol w="27608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РУБ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Расшифруй название сказки: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7+32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9 – 46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9+13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4 – 27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: 5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 – 25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+6+6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148428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98100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198900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249228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2997360"/>
            <a:ext cx="503280" cy="50292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350028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4005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900000" y="5229360"/>
          <a:ext cx="8002440" cy="1401480"/>
        </p:xfrm>
        <a:graphic>
          <a:graphicData uri="http://schemas.openxmlformats.org/drawingml/2006/table">
            <a:tbl>
              <a:tblPr/>
              <a:tblGrid>
                <a:gridCol w="1144080"/>
                <a:gridCol w="1141920"/>
                <a:gridCol w="1144440"/>
                <a:gridCol w="1141560"/>
                <a:gridCol w="1144080"/>
                <a:gridCol w="1142280"/>
                <a:gridCol w="1144080"/>
              </a:tblGrid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118728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4000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600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ычисли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88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7+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 – 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9+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4 – 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: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 – 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  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7280" y="522936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Чистописание.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еритесь, ребята, скорей за работ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читесь писать чтоб не сбиться со счё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49880" y="2924280"/>
            <a:ext cx="34434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Проверь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8317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7+32 = 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 – 46 = 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9+13 = 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4 – 27 = 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: 5 =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 – 25 =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  3 =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58920" y="522936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79344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асшифруй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7+32 = 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9 – 46 = 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9+13 = 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4 – 27 = 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: 5 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 – 25 = 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  3 =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8360" y="422100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48428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98100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0000" y="198900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249228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2997360"/>
            <a:ext cx="503280" cy="50292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350028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4005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00000" y="5229360"/>
          <a:ext cx="8002440" cy="1401480"/>
        </p:xfrm>
        <a:graphic>
          <a:graphicData uri="http://schemas.openxmlformats.org/drawingml/2006/table">
            <a:tbl>
              <a:tblPr/>
              <a:tblGrid>
                <a:gridCol w="1144080"/>
                <a:gridCol w="1141920"/>
                <a:gridCol w="1144440"/>
                <a:gridCol w="1141560"/>
                <a:gridCol w="1144080"/>
                <a:gridCol w="1142280"/>
                <a:gridCol w="1144080"/>
              </a:tblGrid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118728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36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4328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9600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4836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0108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1640" y="155736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71640" y="2565360"/>
            <a:ext cx="3445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71640" y="2060640"/>
            <a:ext cx="287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71640" y="407664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1640" y="1052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42920" y="357336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71640" y="3068640"/>
            <a:ext cx="3445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79344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Молодцы!!!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7+32 = 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9 – 46 = 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9+13 = 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4 – 27 = 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: 5 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 – 25 = 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 3 =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95640" y="422100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00000" y="148428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00000" y="98100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198900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49228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00000" y="2997360"/>
            <a:ext cx="503280" cy="50292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350028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4005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5229360"/>
          <a:ext cx="8002440" cy="1401480"/>
        </p:xfrm>
        <a:graphic>
          <a:graphicData uri="http://schemas.openxmlformats.org/drawingml/2006/table">
            <a:tbl>
              <a:tblPr/>
              <a:tblGrid>
                <a:gridCol w="1144080"/>
                <a:gridCol w="1141920"/>
                <a:gridCol w="1144440"/>
                <a:gridCol w="1141560"/>
                <a:gridCol w="1144080"/>
                <a:gridCol w="1142280"/>
                <a:gridCol w="1144080"/>
              </a:tblGrid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118728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000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9236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9600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101080" y="6021360"/>
            <a:ext cx="503280" cy="503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71640" y="155736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71640" y="2565360"/>
            <a:ext cx="3445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71640" y="2060640"/>
            <a:ext cx="287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71640" y="407664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71640" y="1052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920" y="357336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71640" y="3068640"/>
            <a:ext cx="3445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332000" y="609300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411280" y="6093000"/>
            <a:ext cx="3445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635280" y="6093000"/>
            <a:ext cx="287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716360" y="609300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867280" y="6093000"/>
            <a:ext cx="3589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093080" y="609300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172360" y="6093000"/>
            <a:ext cx="3445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Что нового было  на 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Чем понравилось занимать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Что получается лучше все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Кто считает что работал на отлич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Кому нужно быть повнимательнее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Домашнее задани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932360" y="3341520"/>
            <a:ext cx="42116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963720"/>
            <a:ext cx="8385120" cy="26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Arial Black"/>
              </a:rPr>
              <a:t>Тест №14 «Умножение»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Сложение одинаковых слагаемых называется…(*  , : , + ,-)                                            2) От перестановки множителей произведение ...                                        3)При умножении на какое число всегда получаешь это число? (0 ,1 , 5 , 10)                                                       4)Замени сумму произведением:4+4+4+4 =                 5)Выбери верное неравенство(8 *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+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 мороженое стоит 7рублей.Ск. стоят 3 таких мороженых ?                                                                      7)Цена карандаша 9 рублей .Сколько стоят 4 таких карандаша ?                                                                 8)Сколько можно купить блокнотов по цене 10 рублей , на 60 рублей?                                                                             9)На полянке 3 кота .Что можно узнать выполнив действие: 4 *  3  (хвостов, ушей , лап).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6fb56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901200">
            <a:off x="3042000" y="1289520"/>
            <a:ext cx="2331360" cy="227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" y="9552"/>
                </a:moveTo>
                <a:arcTo wR="10800" hR="10800" stAng="-10401873" swAng="11299931"/>
                <a:lnTo>
                  <a:pt x="10800" y="10800"/>
                </a:lnTo>
                <a:close/>
              </a:path>
              <a:path fill="none" w="21600" h="21600">
                <a:moveTo>
                  <a:pt x="72" y="9552"/>
                </a:moveTo>
                <a:arcTo wR="10800" hR="10800" stAng="-10401873" swAng="11299931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5562720"/>
            <a:ext cx="2666880" cy="46980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240"/>
                </a:moveTo>
                <a:cubicBezTo>
                  <a:pt x="256" y="144"/>
                  <a:pt x="512" y="48"/>
                  <a:pt x="720" y="48"/>
                </a:cubicBezTo>
                <a:cubicBezTo>
                  <a:pt x="928" y="48"/>
                  <a:pt x="1088" y="248"/>
                  <a:pt x="1248" y="240"/>
                </a:cubicBezTo>
                <a:cubicBezTo>
                  <a:pt x="1408" y="232"/>
                  <a:pt x="1608" y="40"/>
                  <a:pt x="1680" y="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6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6fb56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580920" y="1143000"/>
            <a:ext cx="304920" cy="1523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6838800">
            <a:off x="3690000" y="-378720"/>
            <a:ext cx="1977120" cy="189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83" y="480"/>
                </a:moveTo>
                <a:arcTo wR="10800" hR="10800" stAng="-4371582" swAng="6131212"/>
                <a:lnTo>
                  <a:pt x="10800" y="10800"/>
                </a:lnTo>
                <a:close/>
              </a:path>
              <a:path fill="none" w="21600" h="21600">
                <a:moveTo>
                  <a:pt x="13983" y="480"/>
                </a:moveTo>
                <a:arcTo wR="10800" hR="10800" stAng="-4371582" swAng="6131212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615600">
            <a:off x="2747880" y="2503800"/>
            <a:ext cx="2585880" cy="33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08" y="1882"/>
                </a:moveTo>
                <a:arcTo wR="10800" hR="10800" stAng="-7460196" swAng="16095218"/>
                <a:lnTo>
                  <a:pt x="10800" y="10800"/>
                </a:lnTo>
                <a:close/>
              </a:path>
              <a:path fill="none" w="21600" h="21600">
                <a:moveTo>
                  <a:pt x="4708" y="1882"/>
                </a:moveTo>
                <a:arcTo wR="10800" hR="10800" stAng="-7460196" swAng="16095218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0666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rot="7451400">
            <a:off x="3025800" y="-129600"/>
            <a:ext cx="387360" cy="1714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52424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91320" y="2971800"/>
            <a:ext cx="1523880" cy="1509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91520" y="3048120"/>
            <a:ext cx="1447560" cy="1436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791320" y="4651200"/>
            <a:ext cx="1447560" cy="1435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7315200" y="4648320"/>
            <a:ext cx="1447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5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8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Используя цифры, составьте двузначное число.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100" spc="-1" strike="noStrike">
                <a:solidFill>
                  <a:srgbClr val="ffffff"/>
                </a:solidFill>
                <a:latin typeface="Arial"/>
              </a:rPr>
              <a:t>2    </a:t>
            </a:r>
            <a:endParaRPr b="0" lang="en-US" sz="1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5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91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Дай характеристику числу: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268280"/>
            <a:ext cx="3527280" cy="3240360"/>
          </a:xfrm>
          <a:prstGeom prst="rect">
            <a:avLst/>
          </a:prstGeom>
          <a:solidFill>
            <a:srgbClr val="6fb56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901200">
            <a:off x="2382120" y="1336680"/>
            <a:ext cx="1805760" cy="16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" y="9552"/>
                </a:moveTo>
                <a:arcTo wR="10800" hR="10800" stAng="-10401873" swAng="11299931"/>
                <a:lnTo>
                  <a:pt x="10800" y="10800"/>
                </a:lnTo>
                <a:close/>
              </a:path>
              <a:path fill="none" w="21600" h="21600">
                <a:moveTo>
                  <a:pt x="72" y="9552"/>
                </a:moveTo>
                <a:arcTo wR="10800" hR="10800" stAng="-10401873" swAng="11299931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79280" y="2565360"/>
            <a:ext cx="2087640" cy="1871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4076640"/>
            <a:ext cx="2232000" cy="39852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240"/>
                </a:moveTo>
                <a:cubicBezTo>
                  <a:pt x="256" y="144"/>
                  <a:pt x="512" y="48"/>
                  <a:pt x="720" y="48"/>
                </a:cubicBezTo>
                <a:cubicBezTo>
                  <a:pt x="928" y="48"/>
                  <a:pt x="1088" y="248"/>
                  <a:pt x="1248" y="240"/>
                </a:cubicBezTo>
                <a:cubicBezTo>
                  <a:pt x="1408" y="232"/>
                  <a:pt x="1608" y="40"/>
                  <a:pt x="1680" y="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1268280"/>
            <a:ext cx="3600360" cy="3240360"/>
          </a:xfrm>
          <a:prstGeom prst="rect">
            <a:avLst/>
          </a:prstGeom>
          <a:solidFill>
            <a:srgbClr val="6fb56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6838800">
            <a:off x="6570720" y="168480"/>
            <a:ext cx="1402920" cy="139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83" y="480"/>
                </a:moveTo>
                <a:arcTo wR="10800" hR="10800" stAng="-4371582" swAng="6131212"/>
                <a:lnTo>
                  <a:pt x="10800" y="10800"/>
                </a:lnTo>
                <a:close/>
              </a:path>
              <a:path fill="none" w="21600" h="21600">
                <a:moveTo>
                  <a:pt x="13983" y="480"/>
                </a:moveTo>
                <a:arcTo wR="10800" hR="10800" stAng="-4371582" swAng="6131212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16720" y="1341360"/>
            <a:ext cx="216000" cy="100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615600">
            <a:off x="5991480" y="2189520"/>
            <a:ext cx="1781640" cy="230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08" y="1882"/>
                </a:moveTo>
                <a:arcTo wR="10800" hR="10800" stAng="-7460196" swAng="16095218"/>
                <a:lnTo>
                  <a:pt x="10800" y="10800"/>
                </a:lnTo>
                <a:close/>
              </a:path>
              <a:path fill="none" w="21600" h="21600">
                <a:moveTo>
                  <a:pt x="4708" y="1882"/>
                </a:moveTo>
                <a:arcTo wR="10800" hR="10800" stAng="-7460196" swAng="16095218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013360"/>
            <a:ext cx="331164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5229360"/>
            <a:ext cx="331164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6000" y="5013360"/>
            <a:ext cx="331164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ликое дело – устно реш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стро складывать и вычит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лить, умножать, рассуждать!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Математический дикт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54600" y="3333600"/>
            <a:ext cx="33894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Задание №1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 -Представь число в виде двух слагаемых: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989000"/>
            <a:ext cx="1871640" cy="1511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645000"/>
            <a:ext cx="1871640" cy="1511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2060640"/>
            <a:ext cx="1871640" cy="151128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716280"/>
            <a:ext cx="1008000" cy="1008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3645000"/>
            <a:ext cx="1008000" cy="1008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5373720"/>
            <a:ext cx="1008000" cy="1008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5373720"/>
            <a:ext cx="1008360" cy="1008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3860640"/>
            <a:ext cx="1008360" cy="100836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24720" y="3860640"/>
            <a:ext cx="1008000" cy="100836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042920" y="3429000"/>
            <a:ext cx="21600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3429000"/>
            <a:ext cx="144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08360" y="508464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508464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732360" y="3500280"/>
            <a:ext cx="144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350028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87280" y="2276640"/>
            <a:ext cx="93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5a9a5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3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5a9a5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95640" y="3860640"/>
            <a:ext cx="936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04000" y="2349360"/>
            <a:ext cx="100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7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55640" y="3860640"/>
            <a:ext cx="2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95640" y="3789360"/>
            <a:ext cx="2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76720" y="5516640"/>
            <a:ext cx="2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03640" y="5516640"/>
            <a:ext cx="2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443640" y="4005360"/>
            <a:ext cx="2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885080" y="4005360"/>
            <a:ext cx="2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5:54:25Z</dcterms:created>
  <dc:creator>Admin</dc:creator>
  <dc:description/>
  <dc:language>en-US</dc:language>
  <cp:lastModifiedBy>КОЖЕВНИКОВА</cp:lastModifiedBy>
  <dcterms:modified xsi:type="dcterms:W3CDTF">2011-04-26T13:07:41Z</dcterms:modified>
  <cp:revision>13</cp:revision>
  <dc:subject/>
  <dc:title>Математика.</dc:title>
</cp:coreProperties>
</file>