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png" ContentType="image/png"/>
  <Override PartName="/ppt/media/image2.gif" ContentType="image/gif"/>
  <Override PartName="/ppt/media/image22.png" ContentType="image/png"/>
  <Override PartName="/ppt/media/image21.png" ContentType="image/png"/>
  <Override PartName="/ppt/media/image20.png" ContentType="image/png"/>
  <Override PartName="/ppt/media/image19.gif" ContentType="image/gif"/>
  <Override PartName="/ppt/media/image14.jpeg" ContentType="image/jpeg"/>
  <Override PartName="/ppt/media/image23.png" ContentType="image/png"/>
  <Override PartName="/ppt/media/image18.gif" ContentType="image/gif"/>
  <Override PartName="/ppt/media/image17.png" ContentType="image/png"/>
  <Override PartName="/ppt/media/image24.gif" ContentType="image/gif"/>
  <Override PartName="/ppt/media/image16.png" ContentType="image/png"/>
  <Override PartName="/ppt/media/image15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31.png" ContentType="image/png"/>
  <Override PartName="/ppt/media/image3.gif" ContentType="image/gif"/>
  <Override PartName="/ppt/media/image26.gif" ContentType="image/gif"/>
  <Override PartName="/ppt/media/image6.gif" ContentType="image/gif"/>
  <Override PartName="/ppt/media/image29.png" ContentType="image/png"/>
  <Override PartName="/ppt/media/image32.png" ContentType="image/png"/>
  <Override PartName="/ppt/media/image4.gif" ContentType="image/gif"/>
  <Override PartName="/ppt/media/image33.png" ContentType="image/png"/>
  <Override PartName="/ppt/media/image7.gif" ContentType="image/gif"/>
  <Override PartName="/ppt/media/image5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42.gif" ContentType="image/gif"/>
  <Override PartName="/ppt/media/image43.jpeg" ContentType="image/jpeg"/>
  <Override PartName="/ppt/media/image36.png" ContentType="image/png"/>
  <Override PartName="/ppt/media/image37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11.gif" ContentType="image/gif"/>
  <Override PartName="/ppt/media/image13.png" ContentType="image/png"/>
  <Override PartName="/ppt/media/image34.png" ContentType="image/png"/>
  <Override PartName="/ppt/media/image12.jpeg" ContentType="image/jpeg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5653-F696-4DE6-A329-0CC9781F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E33-915B-41D3-9427-04688A21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C8E-1A1F-4363-AE74-275D6CFC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CE1E-101E-4E39-B054-86B0106D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B0E-62E8-4BAE-9026-707BA51D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18F-4E7B-429F-9D26-2ADB6694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6F69-3351-4D7E-8539-CF2A8166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A0BD-34CA-4F49-BD90-238ED288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F4C-A65E-4C1C-BB58-EFD7A368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6BCE-EAD9-48C6-80B5-5567992D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05C-A4F6-49C3-974F-5553F78B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981-10D5-4679-8988-B0B620C6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2F77-C10F-4385-B5AE-4D0526089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gif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embers.abcteach.com/content/e/earcolorunlabeled.jpg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embers.abcteach.com/content/n/nose2colorunlabeled.jpg" TargetMode="External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embers.abcteach.com/content/n/neckrgbunlabeled.jpg" TargetMode="External"/><Relationship Id="rId2" Type="http://schemas.openxmlformats.org/officeDocument/2006/relationships/image" Target="../media/image3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900igr.net/fotografii/chelovek/_CHasti-tela.files/011-ZHivot.html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cc66ff"/>
                </a:solidFill>
                <a:latin typeface="Arial"/>
              </a:rPr>
              <a:t>My body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838080" cy="723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838080" cy="723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2286000"/>
            <a:ext cx="838080" cy="723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152280"/>
            <a:ext cx="838080" cy="72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3048120"/>
            <a:ext cx="838080" cy="723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0" y="3886200"/>
            <a:ext cx="838080" cy="723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0" y="4648320"/>
            <a:ext cx="838080" cy="723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0" y="5334120"/>
            <a:ext cx="838080" cy="723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0" y="6134040"/>
            <a:ext cx="838080" cy="723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2209680" y="2868480"/>
            <a:ext cx="510552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333399"/>
                </a:solidFill>
                <a:latin typeface="Arial"/>
              </a:rPr>
              <a:t>ear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Clip Art: Basic Words: Ear Color Unlabel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352680"/>
            <a:ext cx="4876920" cy="3505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33520" y="304920"/>
            <a:ext cx="8057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669900"/>
                </a:solidFill>
                <a:latin typeface="Arial"/>
              </a:rPr>
              <a:t>eye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8280" y="3505320"/>
            <a:ext cx="4267440" cy="3352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8076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00"/>
                </a:solidFill>
                <a:latin typeface="Arial"/>
              </a:rPr>
              <a:t>nose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33cc"/>
                </a:solidFill>
                <a:latin typeface="Arial"/>
              </a:rPr>
              <a:t>nose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Clip Art: Basic Words: Nose Color Unlabel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581280"/>
            <a:ext cx="4724640" cy="3276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80103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9933ff"/>
                </a:solidFill>
                <a:latin typeface="Arial"/>
              </a:rPr>
              <a:t>mouth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Рот"/>
          <p:cNvPicPr/>
          <p:nvPr/>
        </p:nvPicPr>
        <p:blipFill>
          <a:blip r:embed="rId1"/>
          <a:stretch/>
        </p:blipFill>
        <p:spPr>
          <a:xfrm>
            <a:off x="2133720" y="350532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685800" cy="952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172200" y="228600"/>
            <a:ext cx="685800" cy="1104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276720" y="304920"/>
            <a:ext cx="685800" cy="1066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572000" y="304920"/>
            <a:ext cx="838080" cy="1066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981080" y="38088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467480" y="304920"/>
            <a:ext cx="7621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00"/>
                </a:solidFill>
                <a:latin typeface="Arial"/>
              </a:rPr>
              <a:t>tail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0" y="3352680"/>
            <a:ext cx="5410080" cy="3505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1047600" cy="1038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467480" y="304920"/>
            <a:ext cx="1047960" cy="990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191120" y="304920"/>
            <a:ext cx="1047600" cy="1114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590920" y="304920"/>
            <a:ext cx="1047600" cy="99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5943600" y="380880"/>
            <a:ext cx="10476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cc00"/>
                </a:solidFill>
                <a:latin typeface="Arial"/>
              </a:rPr>
              <a:t>neck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Clip Art: Basic Words: Neck Color Unlabel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429000"/>
            <a:ext cx="441972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33520" y="304920"/>
            <a:ext cx="81532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cc0000"/>
                </a:solidFill>
                <a:latin typeface="Arial"/>
              </a:rPr>
              <a:t>hair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14600" y="342900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162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cc0099"/>
                </a:solidFill>
                <a:latin typeface="Arial"/>
              </a:rPr>
              <a:t>back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5334120" cy="3733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153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This is me</a:t>
            </a: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y head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y 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 eye                                                       My 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 neck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 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 m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y arm                                                    My shou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y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y tum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y foot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       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y leg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3657600" cy="4952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2920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334120" y="1981080"/>
            <a:ext cx="1752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412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3048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2819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76920" y="281916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8" idx="0"/>
            <a:endCxn id="138" idx="1"/>
          </p:cNvCxnSpPr>
          <p:nvPr/>
        </p:nvCxnSpPr>
        <p:spPr>
          <a:xfrm>
            <a:off x="6476760" y="28191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1981080" y="1905120"/>
            <a:ext cx="1447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657600"/>
            <a:ext cx="1676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2971800"/>
            <a:ext cx="1523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523880" y="44193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286000" y="502884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60199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5638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5791320"/>
            <a:ext cx="15242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342900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5105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411480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3352680"/>
            <a:ext cx="22100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486040" y="3276720"/>
            <a:ext cx="19810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514600" y="152280"/>
            <a:ext cx="3505320" cy="4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Arial"/>
              </a:rPr>
              <a:t>Describe yourself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66720" y="1371240"/>
            <a:ext cx="487692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l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y name’s Mas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I’m 9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’ve got  black(dark)hair,brown eyes, a small nose and a big mouth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’ ve got two arms,2 legs and a small tummy. My feet are b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6040" y="1371600"/>
            <a:ext cx="3862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66cc"/>
                </a:solidFill>
                <a:latin typeface="Arial"/>
              </a:rPr>
              <a:t>Parts of bod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5486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Describe your p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419720" y="11430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el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’ve got a pet. His name’s R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It’ s a d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’s white and brown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e’s got 4 legs,2ears,2 eyes, a tail and a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 lives in the hous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He likes to run and to play in the p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He likes bones and meat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I like to play with my pet because my dog is stro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nd cl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3886200" cy="4343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19047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00"/>
                </a:solidFill>
                <a:latin typeface="Arial"/>
              </a:rPr>
              <a:t>head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Head talks 2 - Click image to download."/>
          <p:cNvPicPr/>
          <p:nvPr/>
        </p:nvPicPr>
        <p:blipFill>
          <a:blip r:embed="rId1"/>
          <a:stretch/>
        </p:blipFill>
        <p:spPr>
          <a:xfrm>
            <a:off x="2895480" y="3352680"/>
            <a:ext cx="2971800" cy="3200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2105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cc00cc"/>
                </a:solidFill>
                <a:latin typeface="Arial"/>
              </a:rPr>
              <a:t>arm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6120" y="480060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134720" y="91440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0134720" y="259092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0363320" y="3581280"/>
            <a:ext cx="190440" cy="142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895680" y="2101680"/>
            <a:ext cx="8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3059280" y="3357720"/>
            <a:ext cx="3024000" cy="3095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33520" y="304920"/>
            <a:ext cx="800100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ccff66"/>
                </a:solidFill>
                <a:latin typeface="Arial"/>
              </a:rPr>
              <a:t>tummy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Живо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276720"/>
            <a:ext cx="2895480" cy="2819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81532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6666ff"/>
                </a:solidFill>
                <a:latin typeface="Arial"/>
              </a:rPr>
              <a:t>legs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Ноги"/>
          <p:cNvPicPr/>
          <p:nvPr/>
        </p:nvPicPr>
        <p:blipFill>
          <a:blip r:embed="rId1"/>
          <a:stretch/>
        </p:blipFill>
        <p:spPr>
          <a:xfrm>
            <a:off x="2895480" y="3581280"/>
            <a:ext cx="3429000" cy="3124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1532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669900"/>
                </a:solidFill>
                <a:latin typeface="Arial"/>
              </a:rPr>
              <a:t>feet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Clip Art: Basic Words: Feet Color Unlabeled"/>
          <p:cNvPicPr/>
          <p:nvPr/>
        </p:nvPicPr>
        <p:blipFill>
          <a:blip r:embed="rId1"/>
          <a:stretch/>
        </p:blipFill>
        <p:spPr>
          <a:xfrm>
            <a:off x="2286000" y="327672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3059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00"/>
                </a:solidFill>
                <a:latin typeface="Arial"/>
              </a:rPr>
              <a:t>hand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33cc"/>
                </a:solidFill>
                <a:latin typeface="Arial"/>
              </a:rPr>
              <a:t>hand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00400" y="3276720"/>
            <a:ext cx="2421000" cy="3581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07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cc00"/>
                </a:solidFill>
                <a:latin typeface="Arial"/>
              </a:rPr>
              <a:t>tongue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352680" y="3505320"/>
            <a:ext cx="2057400" cy="312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78483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9:45:02Z</dcterms:created>
  <dc:creator>Лиана</dc:creator>
  <dc:description/>
  <dc:language>en-US</dc:language>
  <cp:lastModifiedBy>Admin</cp:lastModifiedBy>
  <dcterms:modified xsi:type="dcterms:W3CDTF">2011-08-08T07:56:0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