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4.png" ContentType="image/png"/>
  <Override PartName="/ppt/media/image8.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9.jpeg" ContentType="image/jpeg"/>
  <Override PartName="/ppt/media/image11.jpeg" ContentType="image/jpeg"/>
  <Override PartName="/ppt/media/image12.png" ContentType="image/png"/>
  <Override PartName="/ppt/media/image7.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move the slide</a:t>
            </a:r>
            <a:endParaRPr b="1" lang="en-US" sz="4100" spc="-1" strike="noStrike">
              <a:solidFill>
                <a:srgbClr val="464653"/>
              </a:solidFill>
              <a:latin typeface="Lucida Sans Unicode"/>
            </a:endParaRPr>
          </a:p>
        </p:txBody>
      </p:sp>
      <p:sp>
        <p:nvSpPr>
          <p:cNvPr id="4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A60E-EFD4-47EC-964E-A7A6943A652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ABAD-8877-4B38-B898-BC80108C7A63}"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A56FF-DD0A-4CE9-89BA-511E8D7F5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A568D-211B-4E8A-B5B3-08418192B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F2870D9-A478-4DAF-A592-6AC95F6FE4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3ED103-03D3-4510-B863-3E879010AA7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09E14A3-F0C7-4199-8630-F5B7519B90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B8C713-C655-4863-A450-FE81E549CA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F03691-EEA7-496F-8E08-9FA95FEE4D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0EFBC6-6D48-4258-93E0-0DB53DE1BC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44205A-6765-4358-B37B-9327333E1FA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245B31B-92CA-4EE2-B9CB-5F47512ED5C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18A9F9A-F58D-4009-8E5A-13618051E66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20C9A01-9FC2-4FBF-B4F7-A698A295F4B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1DF87-9BD7-4621-A07D-1E17C8678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0F45F98-05FE-4140-9F92-567D232EF7B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43BCCB2-44FF-42F4-A96B-DD5065A970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3D850C7-3914-49A3-855D-BF2FD611036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40F55ED-D5CB-4FCC-B3CE-596F5FE0647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9AF1A5-4135-4938-9DB8-F28BEA22EB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2910AD-2506-42DE-91D8-5196299470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78CEE67-32DD-400F-9F38-EA89288ABD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CE6052-2190-4B93-BDBF-6390922D098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84B1DD4-DA99-4DAB-AA16-B63E7040F68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DB5FB68-5DB2-4545-BE98-9A4104C6F06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191D3-85DD-459B-A8E1-BE4E7E80E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D30D283-559E-43BD-B5E3-4D8F60F12DC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C45D5-58ED-4FD3-B135-FE4D68D6A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70BDF-6F16-4198-9B89-71E316627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5AFFF-A231-4314-81F2-599934576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72F9E-9511-4F1E-B04C-00B770955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19A01-04F3-4833-9F90-81EF0F9C3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6BCC1-9D24-404C-86EA-002973E14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917A4-FFD7-4949-98D3-CF4AF1C5E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94153-2839-4D67-9213-D6BAD5895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8685E-72C3-4287-8EAF-14E63A0C1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3BF3E-518F-4B82-9F66-E79629FAE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4CB3F-3DF7-42EE-8B0F-2CBBDEDB9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D65AD-EAC3-4197-96A4-747C1D1CE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B5D5C-0DCD-40F8-B1BA-A4FD38E36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E09C3-E157-4E61-B091-E587F57B1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3059E-9433-4397-A349-3F269992E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723F1-B7BB-4024-9689-D8D9D1F6D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BF548-F545-47FC-AA0C-B93567E4A9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6DB87-226D-4DFA-B606-DA9259F35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4F2D-1605-4247-AF47-482A64E75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9AB78-A582-4389-AC51-E4F33A9AF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25C98-25FA-4F0E-98F3-66EBA2C4D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B6148-8488-457F-8FED-A64209B7F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D7361-7A5D-46BD-9A49-E6F4CFBFD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A0F3F-AE73-4B86-B5B0-72926447B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CF13F7-CBF9-4C92-BD69-4188E8157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E8B498-9067-4DA9-8518-AAC23D308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6AE7C-26BE-4985-AFC5-72A21AFF5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DAD3E-7ED7-42DB-9D0F-42289AA92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42178-7B0C-4A6B-841A-D4981B576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A4DDC-1CD3-45C3-AA29-8508A8C4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2704C-832E-4341-8B69-F8F114E6E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3C66A-1B21-4626-9F48-06BC6FC0F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51AC6-2416-495F-AFF1-E39AED72C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1A599-B632-4B91-AC5B-6D0A755A7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EB0CB-4201-47B6-BAB3-5CDEFE475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25D8E-5E65-4CEE-BDE7-F31399338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1B058-7914-40FF-9A26-F8466A78B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C69E7-6336-4389-9BC3-256DFDE6C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BDD29-45BB-4E9D-9F07-18DC8D9AD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538C38-85C6-4950-821A-CE1E0A366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221DB-9D56-4D83-B5D8-6E06B7B8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5557F-F262-47CD-AD18-CAFE04518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95B95-B45F-446F-9601-429F0B31B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97B7D-6F9C-40FA-9D45-81E3C6A36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C1012-28A5-421D-A32E-2C28D31D0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B38C5-F2F6-400D-9EE4-1D64CAFC5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CCDB3-28AA-4344-91A8-4BAD8266E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7266A-0BEB-44B8-993D-D35FA7509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C9878-28A4-4F5E-9E7B-790DD8F42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02523-E9D6-49F4-A960-4280AA86C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4DEDFA-1CE5-4755-A958-2AB4E4B3C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FB868-A61D-4C1F-AA43-8FCA449A4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94EF9-3A16-4101-9356-5F930450C2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0C52F8-1E16-4DB5-805F-54BE633E9C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20C02-5567-421D-9B2E-94EC01F7B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3D3CD-A4E9-46C8-A8B3-E5A06AE8B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5C11B-0543-4E65-A0C5-C20CFD1361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A43C6-4977-4FF3-A9C5-82EA9B3BA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EFC42-A4C6-4F55-A1DC-FE5894EDB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32549-3A7B-4032-8719-81DB4B8CE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E1A08-D0E5-4D27-AF78-D0398657F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82454-FBD2-488C-87A3-95C976A43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4A258-CBFC-47A0-8F9D-9A2CB435E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E8DCF-131D-43CE-B4A6-C13C5DF11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DD769B-624B-490E-BFB9-BC6A1DD874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20F138-263F-47E5-A58D-281F51432C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9506E4-A56F-459F-B528-D77B38B35E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9EC81-19AE-40EC-A1DC-C114E8FA14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F7C75A-701E-487F-94B6-313C56823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29648-DDFB-40DA-9458-94C8D87082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4021C4-03A8-4DF0-ADFE-FB50DE6BD9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FF667D-2484-4E0C-9D1F-3975594AA8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81348-A0E0-4BCE-9802-AD6337E2A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7D742-D466-4D57-8962-07B4537B1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882FB-F597-46C6-AB01-A67B7FFFD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8284C-BAF5-4777-BFD3-ADDDA9AEE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4C330-4A5F-4DF5-AC7E-E1C4A0F0B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F26B40-C4FB-4099-AFBC-DFA3C623CD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5E58D7-0D8E-4680-8182-3118F7317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0BF1E4-1616-46F6-A4F2-515F80DDF8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BD08E-1B69-40E1-9C3E-2749F21AE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9C23A-CD7E-4905-A996-7280946575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90C7CC-2100-4A7F-B59E-7A44A0FAD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F150C9-7D45-4840-BA20-8800962CAE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4A5A-811F-4FA3-9D70-7EFB1780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F3A3B-CF38-4F0D-A50C-24D0D9D7D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144D9-DD70-4A80-BE42-12B147968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DB81C-622E-4A92-BC72-CF7B337BC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41A043-4C68-4F25-ACEA-245BD0D90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3739C-B0DC-4A48-9899-F18868306F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D44F0E-E747-4FB9-9CC0-C14C6D805E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EB0479-A456-473C-B22A-693B4C59A5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E3D33FE-AA16-4CD7-A374-47FD108096B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DEE046-ED60-4067-84EC-AAD227EC6B9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53"/>
              </a:solidFill>
              <a:latin typeface="Lucida Sans Unicode"/>
            </a:endParaRPr>
          </a:p>
        </p:txBody>
      </p:sp>
      <p:sp>
        <p:nvSpPr>
          <p:cNvPr id="4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43864CE-D2C8-4ECB-81CB-1228804B2D9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 name="Прямоугольный треугольник 13"/>
          <p:cNvGrpSpPr/>
          <p:nvPr/>
        </p:nvGrpSpPr>
        <p:grpSpPr>
          <a:xfrm>
            <a:off x="-6480" y="5791320"/>
            <a:ext cx="3402000" cy="1079280"/>
            <a:chOff x="-6480" y="5791320"/>
            <a:chExt cx="3402000" cy="1079280"/>
          </a:xfrm>
        </p:grpSpPr>
        <p:pic>
          <p:nvPicPr>
            <p:cNvPr id="3"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edit the title text format</a:t>
            </a:r>
            <a:endParaRPr b="1" lang="en-US" sz="4100" spc="-1" strike="noStrike">
              <a:solidFill>
                <a:srgbClr val="464653"/>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4391-D294-4801-ACE4-20DCFE2F33F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441"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2"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43" name="Прямоугольный треугольник 13"/>
          <p:cNvGrpSpPr/>
          <p:nvPr/>
        </p:nvGrpSpPr>
        <p:grpSpPr>
          <a:xfrm>
            <a:off x="-6480" y="5791320"/>
            <a:ext cx="3402000" cy="1079280"/>
            <a:chOff x="-6480" y="5791320"/>
            <a:chExt cx="3402000" cy="1079280"/>
          </a:xfrm>
        </p:grpSpPr>
        <p:pic>
          <p:nvPicPr>
            <p:cNvPr id="444"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4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446"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edit the title text format</a:t>
            </a:r>
            <a:endParaRPr b="1" lang="en-US" sz="4100" spc="-1" strike="noStrike">
              <a:solidFill>
                <a:srgbClr val="464653"/>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49"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4443-B6C0-4F63-852D-687FCD5BB77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47"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9" name="Прямоугольный треугольник 13"/>
          <p:cNvGrpSpPr/>
          <p:nvPr/>
        </p:nvGrpSpPr>
        <p:grpSpPr>
          <a:xfrm>
            <a:off x="-6480" y="5791320"/>
            <a:ext cx="3402000" cy="1079280"/>
            <a:chOff x="-6480" y="5791320"/>
            <a:chExt cx="3402000" cy="1079280"/>
          </a:xfrm>
        </p:grpSpPr>
        <p:pic>
          <p:nvPicPr>
            <p:cNvPr id="50"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2"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53" name="Прямоугольный треугольник 10"/>
          <p:cNvSpPr/>
          <p:nvPr/>
        </p:nvSpPr>
        <p:spPr>
          <a:xfrm>
            <a:off x="0" y="4664160"/>
            <a:ext cx="9150480" cy="360"/>
          </a:xfrm>
          <a:prstGeom prst="rtTriangle">
            <a:avLst/>
          </a:prstGeom>
          <a:gradFill rotWithShape="0">
            <a:gsLst>
              <a:gs pos="0">
                <a:srgbClr val="3a456f"/>
              </a:gs>
              <a:gs pos="50000">
                <a:srgbClr val="808bb9"/>
              </a:gs>
              <a:gs pos="100000">
                <a:srgbClr val="3a456f"/>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4" name="Группа 15"/>
          <p:cNvGrpSpPr/>
          <p:nvPr/>
        </p:nvGrpSpPr>
        <p:grpSpPr>
          <a:xfrm>
            <a:off x="-3240" y="4952880"/>
            <a:ext cx="9147240" cy="1911600"/>
            <a:chOff x="-3240" y="4952880"/>
            <a:chExt cx="9147240" cy="1911600"/>
          </a:xfrm>
        </p:grpSpPr>
        <p:sp>
          <p:nvSpPr>
            <p:cNvPr id="55" name="Полилиния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 name="Полилиния 18"/>
            <p:cNvSpPr/>
            <p:nvPr/>
          </p:nvSpPr>
          <p:spPr>
            <a:xfrm>
              <a:off x="45360" y="5236200"/>
              <a:ext cx="9092880" cy="786960"/>
            </a:xfrm>
            <a:custGeom>
              <a:avLst/>
              <a:gdLst>
                <a:gd name="textAreaLeft" fmla="*/ 0 w 9092880"/>
                <a:gd name="textAreaRight" fmla="*/ 9093240 w 9092880"/>
                <a:gd name="textAreaTop" fmla="*/ 0 h 786960"/>
                <a:gd name="textAreaBottom" fmla="*/ 787320 h 7869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7" name="Полилиния 19"/>
            <p:cNvGrpSpPr/>
            <p:nvPr/>
          </p:nvGrpSpPr>
          <p:grpSpPr>
            <a:xfrm>
              <a:off x="3240" y="4992120"/>
              <a:ext cx="9140760" cy="1872360"/>
              <a:chOff x="3240" y="4992120"/>
              <a:chExt cx="9140760" cy="1872360"/>
            </a:xfrm>
          </p:grpSpPr>
          <p:pic>
            <p:nvPicPr>
              <p:cNvPr id="58" name="Полилиния 19" descr=""/>
              <p:cNvPicPr/>
              <p:nvPr/>
            </p:nvPicPr>
            <p:blipFill>
              <a:blip r:embed="rId4"/>
              <a:stretch/>
            </p:blipFill>
            <p:spPr>
              <a:xfrm>
                <a:off x="3240" y="4992120"/>
                <a:ext cx="9140760" cy="1872360"/>
              </a:xfrm>
              <a:prstGeom prst="rect">
                <a:avLst/>
              </a:prstGeom>
              <a:ln w="0">
                <a:noFill/>
              </a:ln>
            </p:spPr>
          </p:pic>
          <p:sp>
            <p:nvSpPr>
              <p:cNvPr id="59" name="Text Box 18"/>
              <p:cNvSpPr/>
              <p:nvPr/>
            </p:nvSpPr>
            <p:spPr>
              <a:xfrm>
                <a:off x="10080" y="500004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60" name="Прямая соединительная линия 19" descr=""/>
            <p:cNvPicPr/>
            <p:nvPr/>
          </p:nvPicPr>
          <p:blipFill>
            <a:blip r:embed="rId5"/>
            <a:stretch/>
          </p:blipFill>
          <p:spPr>
            <a:xfrm>
              <a:off x="-3240" y="4992120"/>
              <a:ext cx="9141480" cy="80244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edit the title text format</a:t>
            </a:r>
            <a:endParaRPr b="1" lang="en-US" sz="4100" spc="-1" strike="noStrike">
              <a:solidFill>
                <a:srgbClr val="464653"/>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6669-3396-4647-B785-554690F8F99C}"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102"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4" name="Прямоугольный треугольник 13"/>
          <p:cNvGrpSpPr/>
          <p:nvPr/>
        </p:nvGrpSpPr>
        <p:grpSpPr>
          <a:xfrm>
            <a:off x="-6480" y="5791320"/>
            <a:ext cx="3402000" cy="1079280"/>
            <a:chOff x="-6480" y="5791320"/>
            <a:chExt cx="3402000" cy="1079280"/>
          </a:xfrm>
        </p:grpSpPr>
        <p:pic>
          <p:nvPicPr>
            <p:cNvPr id="105"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7"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108"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5f86"/>
              </a:gs>
              <a:gs pos="100000">
                <a:srgbClr val="9ea5c3"/>
              </a:gs>
            </a:gsLst>
            <a:lin ang="16200000"/>
          </a:gradFill>
          <a:ln cap="rnd" w="3240">
            <a:solidFill>
              <a:srgbClr val="525977"/>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Нашивка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5f86"/>
              </a:gs>
              <a:gs pos="100000">
                <a:srgbClr val="9ea5c3"/>
              </a:gs>
            </a:gsLst>
            <a:lin ang="16200000"/>
          </a:gradFill>
          <a:ln cap="rnd" w="3240">
            <a:solidFill>
              <a:srgbClr val="525977"/>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de9ec"/>
                </a:solidFill>
                <a:latin typeface="Lucida Sans Unicode"/>
              </a:rPr>
              <a:t>Click to edit the title text format</a:t>
            </a:r>
            <a:endParaRPr b="1" lang="en-US" sz="4100" spc="-1" strike="noStrike">
              <a:solidFill>
                <a:srgbClr val="dde9ec"/>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8292-4EA0-4E69-B95E-EBCB7F6981D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151"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3" name="Прямоугольный треугольник 13"/>
          <p:cNvGrpSpPr/>
          <p:nvPr/>
        </p:nvGrpSpPr>
        <p:grpSpPr>
          <a:xfrm>
            <a:off x="-6480" y="5791320"/>
            <a:ext cx="3402000" cy="1079280"/>
            <a:chOff x="-6480" y="5791320"/>
            <a:chExt cx="3402000" cy="1079280"/>
          </a:xfrm>
        </p:grpSpPr>
        <p:pic>
          <p:nvPicPr>
            <p:cNvPr id="154"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56"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de9ec"/>
                </a:solidFill>
                <a:latin typeface="Lucida Sans Unicode"/>
              </a:rPr>
              <a:t>Click to edit the title text format</a:t>
            </a:r>
            <a:endParaRPr b="1" lang="en-US" sz="4100" spc="-1" strike="noStrike">
              <a:solidFill>
                <a:srgbClr val="dde9ec"/>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6D05-6BC1-4895-824C-9DAF989FE0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198"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00" name="Прямоугольный треугольник 13"/>
          <p:cNvGrpSpPr/>
          <p:nvPr/>
        </p:nvGrpSpPr>
        <p:grpSpPr>
          <a:xfrm>
            <a:off x="-6480" y="5791320"/>
            <a:ext cx="3402000" cy="1079280"/>
            <a:chOff x="-6480" y="5791320"/>
            <a:chExt cx="3402000" cy="1079280"/>
          </a:xfrm>
        </p:grpSpPr>
        <p:pic>
          <p:nvPicPr>
            <p:cNvPr id="201"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03"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edit the title text format</a:t>
            </a:r>
            <a:endParaRPr b="1" lang="en-US" sz="4100" spc="-1" strike="noStrike">
              <a:solidFill>
                <a:srgbClr val="464653"/>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F1D2-A4FE-4A8E-B954-69955956197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2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47" name="Прямоугольный треугольник 13"/>
          <p:cNvGrpSpPr/>
          <p:nvPr/>
        </p:nvGrpSpPr>
        <p:grpSpPr>
          <a:xfrm>
            <a:off x="-6480" y="5791320"/>
            <a:ext cx="3402000" cy="1079280"/>
            <a:chOff x="-6480" y="5791320"/>
            <a:chExt cx="3402000" cy="1079280"/>
          </a:xfrm>
        </p:grpSpPr>
        <p:pic>
          <p:nvPicPr>
            <p:cNvPr id="248"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50"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de9ec"/>
                </a:solidFill>
                <a:latin typeface="Lucida Sans Unicode"/>
              </a:rPr>
              <a:t>Click to edit the title text format</a:t>
            </a:r>
            <a:endParaRPr b="1" lang="en-US" sz="4100" spc="-1" strike="noStrike">
              <a:solidFill>
                <a:srgbClr val="dde9ec"/>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9506-F4B1-4FBD-BEBA-5507924D84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292"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94" name="Прямоугольный треугольник 13"/>
          <p:cNvGrpSpPr/>
          <p:nvPr/>
        </p:nvGrpSpPr>
        <p:grpSpPr>
          <a:xfrm>
            <a:off x="-6480" y="5791320"/>
            <a:ext cx="3402000" cy="1079280"/>
            <a:chOff x="-6480" y="5791320"/>
            <a:chExt cx="3402000" cy="1079280"/>
          </a:xfrm>
        </p:grpSpPr>
        <p:pic>
          <p:nvPicPr>
            <p:cNvPr id="295"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97"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edit the title text format</a:t>
            </a:r>
            <a:endParaRPr b="1" lang="en-US" sz="4100" spc="-1" strike="noStrike">
              <a:solidFill>
                <a:srgbClr val="464653"/>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D98F-27D3-47E6-A92C-BD94B0649B4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339"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1" name="Прямоугольный треугольник 13"/>
          <p:cNvGrpSpPr/>
          <p:nvPr/>
        </p:nvGrpSpPr>
        <p:grpSpPr>
          <a:xfrm>
            <a:off x="-6480" y="5791320"/>
            <a:ext cx="3402000" cy="1079280"/>
            <a:chOff x="-6480" y="5791320"/>
            <a:chExt cx="3402000" cy="1079280"/>
          </a:xfrm>
        </p:grpSpPr>
        <p:pic>
          <p:nvPicPr>
            <p:cNvPr id="342"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44"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345"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6"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7" name="Прямоугольный треугольник 15"/>
          <p:cNvGrpSpPr/>
          <p:nvPr/>
        </p:nvGrpSpPr>
        <p:grpSpPr>
          <a:xfrm>
            <a:off x="-6480" y="5791320"/>
            <a:ext cx="3402000" cy="1079280"/>
            <a:chOff x="-6480" y="5791320"/>
            <a:chExt cx="3402000" cy="1079280"/>
          </a:xfrm>
        </p:grpSpPr>
        <p:pic>
          <p:nvPicPr>
            <p:cNvPr id="348" name="Прямоугольный треугольник 15" descr=""/>
            <p:cNvPicPr/>
            <p:nvPr/>
          </p:nvPicPr>
          <p:blipFill>
            <a:blip r:embed="rId4"/>
            <a:stretch/>
          </p:blipFill>
          <p:spPr>
            <a:xfrm>
              <a:off x="-6480" y="5791320"/>
              <a:ext cx="3402000" cy="107928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50" name="Прямая соединительная линия 16" descr=""/>
          <p:cNvPicPr/>
          <p:nvPr/>
        </p:nvPicPr>
        <p:blipFill>
          <a:blip r:embed="rId5"/>
          <a:stretch/>
        </p:blipFill>
        <p:spPr>
          <a:xfrm>
            <a:off x="-19080" y="5778360"/>
            <a:ext cx="3414600" cy="1098720"/>
          </a:xfrm>
          <a:prstGeom prst="rect">
            <a:avLst/>
          </a:prstGeom>
          <a:ln w="0">
            <a:noFill/>
          </a:ln>
        </p:spPr>
      </p:pic>
      <p:sp>
        <p:nvSpPr>
          <p:cNvPr id="351" name="Нашивка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5f86"/>
              </a:gs>
              <a:gs pos="100000">
                <a:srgbClr val="9ea5c3"/>
              </a:gs>
            </a:gsLst>
            <a:lin ang="16200000"/>
          </a:gradFill>
          <a:ln cap="rnd" w="3240">
            <a:solidFill>
              <a:srgbClr val="525977"/>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Нашивка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5f86"/>
              </a:gs>
              <a:gs pos="100000">
                <a:srgbClr val="9ea5c3"/>
              </a:gs>
            </a:gsLst>
            <a:lin ang="16200000"/>
          </a:gradFill>
          <a:ln cap="rnd" w="3240">
            <a:solidFill>
              <a:srgbClr val="525977"/>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de9ec"/>
                </a:solidFill>
                <a:latin typeface="Lucida Sans Unicode"/>
              </a:rPr>
              <a:t>Click to edit the title text format</a:t>
            </a:r>
            <a:endParaRPr b="1" lang="en-US" sz="4100" spc="-1" strike="noStrike">
              <a:solidFill>
                <a:srgbClr val="dde9ec"/>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02D9-BD3C-4CBA-BECB-36351840A70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af"/>
        </a:solidFill>
      </p:bgPr>
    </p:bg>
    <p:spTree>
      <p:nvGrpSpPr>
        <p:cNvPr id="1" name=""/>
        <p:cNvGrpSpPr/>
        <p:nvPr/>
      </p:nvGrpSpPr>
      <p:grpSpPr>
        <a:xfrm>
          <a:off x="0" y="0"/>
          <a:ext cx="0" cy="0"/>
          <a:chOff x="0" y="0"/>
          <a:chExt cx="0" cy="0"/>
        </a:xfrm>
      </p:grpSpPr>
      <p:sp>
        <p:nvSpPr>
          <p:cNvPr id="394"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3b7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6" name="Прямоугольный треугольник 13"/>
          <p:cNvGrpSpPr/>
          <p:nvPr/>
        </p:nvGrpSpPr>
        <p:grpSpPr>
          <a:xfrm>
            <a:off x="-6480" y="5791320"/>
            <a:ext cx="3402000" cy="1079280"/>
            <a:chOff x="-6480" y="5791320"/>
            <a:chExt cx="3402000" cy="1079280"/>
          </a:xfrm>
        </p:grpSpPr>
        <p:pic>
          <p:nvPicPr>
            <p:cNvPr id="397"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3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99"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Lucida Sans Unicode"/>
              </a:rPr>
              <a:t>Click to edit the title text format</a:t>
            </a:r>
            <a:endParaRPr b="1" lang="en-US" sz="4100" spc="-1" strike="noStrike">
              <a:solidFill>
                <a:srgbClr val="464653"/>
              </a:solidFill>
              <a:latin typeface="Lucida Sans Unicode"/>
            </a:endParaRPr>
          </a:p>
        </p:txBody>
      </p:sp>
      <p:sp>
        <p:nvSpPr>
          <p:cNvPr id="4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7ca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7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9fb8c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2"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A041-4E9F-4E4E-8B01-F2537E6B9F9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4"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ubTitle"/>
          </p:nvPr>
        </p:nvSpPr>
        <p:spPr>
          <a:xfrm>
            <a:off x="1402920" y="2491920"/>
            <a:ext cx="7054920" cy="381636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ЛИЦЕЙ ФГОУ ВПО «ДАЛЬРЫБВТУЗ»</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Открытый урок по английскому языку</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МАКАРОВА Евгения Виленовна</a:t>
            </a:r>
            <a:endParaRPr b="0" lang="en-US" sz="2000" spc="-1" strike="noStrike">
              <a:solidFill>
                <a:srgbClr val="000000"/>
              </a:solidFill>
              <a:latin typeface="Lucida Sans Unicod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учитель английского языка</a:t>
            </a:r>
            <a:endParaRPr b="0" lang="en-US" sz="2000" spc="-1" strike="noStrike">
              <a:solidFill>
                <a:srgbClr val="000000"/>
              </a:solidFill>
              <a:latin typeface="Lucida Sans Unicod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высшей категории</a:t>
            </a:r>
            <a:endParaRPr b="0" lang="en-US" sz="2000" spc="-1" strike="noStrike">
              <a:solidFill>
                <a:srgbClr val="000000"/>
              </a:solidFill>
              <a:latin typeface="Lucida Sans Unicod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Владивосток, 2013</a:t>
            </a:r>
            <a:endParaRPr b="0" lang="en-US" sz="2000" spc="-1" strike="noStrike">
              <a:solidFill>
                <a:srgbClr val="000000"/>
              </a:solidFill>
              <a:latin typeface="Lucida Sans Unicode"/>
            </a:endParaRPr>
          </a:p>
        </p:txBody>
      </p:sp>
      <p:pic>
        <p:nvPicPr>
          <p:cNvPr id="496" name="Заголовок 1" descr=""/>
          <p:cNvPicPr/>
          <p:nvPr/>
        </p:nvPicPr>
        <p:blipFill>
          <a:blip r:embed="rId1"/>
          <a:stretch/>
        </p:blipFill>
        <p:spPr>
          <a:xfrm>
            <a:off x="1200240" y="719280"/>
            <a:ext cx="688320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Box 4"/>
          <p:cNvSpPr/>
          <p:nvPr/>
        </p:nvSpPr>
        <p:spPr>
          <a:xfrm>
            <a:off x="539640" y="404640"/>
            <a:ext cx="8353440" cy="612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ЕКТ УРОКА</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орма урока</a:t>
            </a:r>
            <a:r>
              <a:rPr b="0" lang="ru-RU" sz="1400" spc="-1" strike="noStrike">
                <a:solidFill>
                  <a:srgbClr val="000000"/>
                </a:solidFill>
                <a:latin typeface="Times New Roman"/>
                <a:ea typeface="Times New Roman"/>
              </a:rPr>
              <a:t>: урок – лекция.</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Цель:  </a:t>
            </a:r>
            <a:r>
              <a:rPr b="0" lang="ru-RU" sz="1400" spc="-1" strike="noStrike">
                <a:solidFill>
                  <a:srgbClr val="000000"/>
                </a:solidFill>
                <a:latin typeface="Times New Roman"/>
                <a:ea typeface="Times New Roman"/>
              </a:rPr>
              <a:t>1. Воспитывать чувство патриотизма, любви к родине.</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Сформировать у учащихся представление о значении СССР в разгроме фашистской Германии.</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Совершенствование речевых навыков по английскому языку (монологическая речь).</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Развитие навыков слушания с целью детального понимания содержания на английском языке.</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дготовка к уроку</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мся предлагается провести исследовательскую работу. Найти и проследить жизненный путь детей, которые принимали участие в борьбе за освобождение своей Родины от фашизма.</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ходе исследований попытаться понять их желание и стремление участвовать в событиях Великой Отечественной войны. Учащиеся готовят мультимедийные презентации. Организуется и проводится экскурсия на подводную лодку «С-56», принимавшей участие в Великой Отечественной войне.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урок приглашается ветеран (который в годы войны был ребенком).</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Ход урока</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еся входят в класс под музыку «Вставай страна огромная». Учитель прикрепляет им андреевские ленточки. Под прослушивание речи диктора радио Левитана о начале войны зажигается импровизированный вечный огонь.</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д учащимися выступает приглашенный ветеран войны. Учащиеся на английском языке рассказывают о жизни и подвигах детей в годы Великой Отечественной войны:</a:t>
            </a:r>
            <a:endParaRPr b="0" lang="en-US" sz="1400" spc="-1" strike="noStrike">
              <a:solidFill>
                <a:srgbClr val="000000"/>
              </a:solidFill>
              <a:latin typeface="Tahom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але Котике; Васе Коробко; Марате Козей; Лёне Голикове; Зине Портновой; Косте Кравчуке; Наде Богдановой.</a:t>
            </a:r>
            <a:endParaRPr b="0" lang="en-US" sz="1400" spc="-1" strike="noStrike">
              <a:solidFill>
                <a:srgbClr val="000000"/>
              </a:solidFill>
              <a:latin typeface="Tahom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3" descr="C:\Users\макарова\Documents\Английский язык-документы и материалы\Открытые уроки-материалы\Корабли 2 мировой войны\Ветеран\Фото-0011.jpg"/>
          <p:cNvPicPr/>
          <p:nvPr/>
        </p:nvPicPr>
        <p:blipFill>
          <a:blip r:embed="rId1"/>
          <a:srcRect l="0" t="0" r="0" b="7569"/>
          <a:stretch/>
        </p:blipFill>
        <p:spPr>
          <a:xfrm>
            <a:off x="3132000" y="1521000"/>
            <a:ext cx="3024360" cy="3348000"/>
          </a:xfrm>
          <a:prstGeom prst="rect">
            <a:avLst/>
          </a:prstGeom>
          <a:ln w="0">
            <a:noFill/>
          </a:ln>
        </p:spPr>
      </p:pic>
      <p:pic>
        <p:nvPicPr>
          <p:cNvPr id="499" name="Picture 4" descr=""/>
          <p:cNvPicPr/>
          <p:nvPr/>
        </p:nvPicPr>
        <p:blipFill>
          <a:blip r:embed="rId2"/>
          <a:srcRect l="0" t="0" r="70345" b="0"/>
          <a:stretch/>
        </p:blipFill>
        <p:spPr>
          <a:xfrm>
            <a:off x="1042920" y="1414440"/>
            <a:ext cx="1762200" cy="3884760"/>
          </a:xfrm>
          <a:prstGeom prst="rect">
            <a:avLst/>
          </a:prstGeom>
          <a:ln w="0">
            <a:noFill/>
          </a:ln>
        </p:spPr>
      </p:pic>
      <p:pic>
        <p:nvPicPr>
          <p:cNvPr id="500" name="Picture 5" descr=""/>
          <p:cNvPicPr/>
          <p:nvPr/>
        </p:nvPicPr>
        <p:blipFill>
          <a:blip r:embed="rId3"/>
          <a:srcRect l="0" t="0" r="64255" b="0"/>
          <a:stretch/>
        </p:blipFill>
        <p:spPr>
          <a:xfrm>
            <a:off x="6804000" y="1341360"/>
            <a:ext cx="2124000" cy="38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457200" y="1599840"/>
            <a:ext cx="4038480" cy="4530600"/>
          </a:xfrm>
          <a:prstGeom prst="rect">
            <a:avLst/>
          </a:prstGeom>
          <a:noFill/>
          <a:ln w="0">
            <a:noFill/>
          </a:ln>
        </p:spPr>
        <p:txBody>
          <a:bodyPr anchor="t">
            <a:normAutofit fontScale="99000"/>
          </a:bodyPr>
          <a:p>
            <a:pPr marL="106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еня жил в деревне Лукино. Когда пришли фашисты, мальчик ушел к партизанам.</a:t>
            </a:r>
            <a:endParaRPr b="0" lang="en-US" sz="1200" spc="-1" strike="noStrike">
              <a:solidFill>
                <a:srgbClr val="000000"/>
              </a:solidFill>
              <a:latin typeface="Lucida Sans Unicode"/>
            </a:endParaRPr>
          </a:p>
          <a:p>
            <a:pPr marL="106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ходил в разведку, приносил важные сведения в партизанский отряд. Был в его жизни бой, который Леня вел один с фашистским генералом. Леня подбил вражескую  машину. В машине ехал генерал с важными документами. Почти километр преследовал он врага и, наконец, убил его. Он сражался наравне со взрослыми. Он погиб под селом Острая Лука в 1943 году.</a:t>
            </a:r>
            <a:endParaRPr b="0" lang="en-US" sz="1200" spc="-1" strike="noStrike">
              <a:solidFill>
                <a:srgbClr val="000000"/>
              </a:solidFill>
              <a:latin typeface="Lucida Sans Unicode"/>
            </a:endParaRPr>
          </a:p>
          <a:p>
            <a:pPr marL="106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апреля 1944 года был опубликован указ Президиума Верховного Совета СССР о присвоении пионеру-партизану Лене Голикову звания Героя Советского Союза</a:t>
            </a:r>
            <a:endParaRPr b="0" lang="en-US" sz="1200" spc="-1" strike="noStrike">
              <a:solidFill>
                <a:srgbClr val="000000"/>
              </a:solidFill>
              <a:latin typeface="Lucida Sans Unicode"/>
            </a:endParaRPr>
          </a:p>
          <a:p>
            <a:pPr marL="106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106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ya lived in village Lukino. When fascists came, the boy had left to partizan.</a:t>
            </a:r>
            <a:endParaRPr b="0" lang="en-US" sz="1300" spc="-1" strike="noStrike">
              <a:solidFill>
                <a:srgbClr val="000000"/>
              </a:solidFill>
              <a:latin typeface="Lucida Sans Unicode"/>
            </a:endParaRPr>
          </a:p>
          <a:p>
            <a:pPr marL="106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He went to investigation, brought the important information to partizan. There was a fight in his life which </a:t>
            </a:r>
            <a:r>
              <a:rPr b="0" lang="ru-RU" sz="1300" spc="-1" strike="noStrike">
                <a:solidFill>
                  <a:srgbClr val="000000"/>
                </a:solidFill>
                <a:latin typeface="Times New Roman"/>
                <a:ea typeface="Times New Roman"/>
              </a:rPr>
              <a:t>Леня </a:t>
            </a:r>
            <a:r>
              <a:rPr b="0" lang="en-US" sz="1300" spc="-1" strike="noStrike">
                <a:solidFill>
                  <a:srgbClr val="000000"/>
                </a:solidFill>
                <a:latin typeface="Times New Roman"/>
                <a:ea typeface="Times New Roman"/>
              </a:rPr>
              <a:t>lead one with the fascist general. </a:t>
            </a:r>
            <a:r>
              <a:rPr b="0" lang="ru-RU" sz="1300" spc="-1" strike="noStrike">
                <a:solidFill>
                  <a:srgbClr val="000000"/>
                </a:solidFill>
                <a:latin typeface="Times New Roman"/>
                <a:ea typeface="Times New Roman"/>
              </a:rPr>
              <a:t>Леня</a:t>
            </a:r>
            <a:r>
              <a:rPr b="0" lang="en-US" sz="1300" spc="-1" strike="noStrike">
                <a:solidFill>
                  <a:srgbClr val="000000"/>
                </a:solidFill>
                <a:latin typeface="Times New Roman"/>
                <a:ea typeface="Times New Roman"/>
              </a:rPr>
              <a:t> lined the enemy car. The general with the important documents went in this car. Almost kilometer he pursued the enemy and killed him. He battled on the same level to adults. He was lost under village </a:t>
            </a:r>
            <a:r>
              <a:rPr b="0" lang="ru-RU" sz="1300" spc="-1" strike="noStrike">
                <a:solidFill>
                  <a:srgbClr val="000000"/>
                </a:solidFill>
                <a:latin typeface="Times New Roman"/>
                <a:ea typeface="Times New Roman"/>
              </a:rPr>
              <a:t>Острая Лука </a:t>
            </a:r>
            <a:r>
              <a:rPr b="0" lang="en-US" sz="1300" spc="-1" strike="noStrike">
                <a:solidFill>
                  <a:srgbClr val="000000"/>
                </a:solidFill>
                <a:latin typeface="Times New Roman"/>
                <a:ea typeface="Times New Roman"/>
              </a:rPr>
              <a:t>in 1943.</a:t>
            </a:r>
            <a:endParaRPr b="0" lang="en-US" sz="1300" spc="-1" strike="noStrike">
              <a:solidFill>
                <a:srgbClr val="000000"/>
              </a:solidFill>
              <a:latin typeface="Lucida Sans Unicode"/>
            </a:endParaRPr>
          </a:p>
          <a:p>
            <a:pPr marL="106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n April, 1944 he was ordered by the Hero of Soviet Union.</a:t>
            </a:r>
            <a:endParaRPr b="0" lang="en-US" sz="1300" spc="-1" strike="noStrike">
              <a:solidFill>
                <a:srgbClr val="000000"/>
              </a:solidFill>
              <a:latin typeface="Lucida Sans Unicode"/>
            </a:endParaRPr>
          </a:p>
          <a:p>
            <a:pPr marL="10692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10692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Lucida Sans Unicode"/>
              </a:rPr>
              <a:t> </a:t>
            </a:r>
            <a:endParaRPr b="0" lang="en-US" sz="900" spc="-1" strike="noStrike">
              <a:solidFill>
                <a:srgbClr val="000000"/>
              </a:solidFill>
              <a:latin typeface="Lucida Sans Unicode"/>
            </a:endParaRPr>
          </a:p>
        </p:txBody>
      </p:sp>
      <p:pic>
        <p:nvPicPr>
          <p:cNvPr id="502" name="Picture 9" descr="009"/>
          <p:cNvPicPr/>
          <p:nvPr/>
        </p:nvPicPr>
        <p:blipFill>
          <a:blip r:embed="rId1"/>
          <a:srcRect l="1243" t="257" r="474" b="3456"/>
          <a:stretch/>
        </p:blipFill>
        <p:spPr>
          <a:xfrm>
            <a:off x="5192640" y="1773360"/>
            <a:ext cx="3444840" cy="3816360"/>
          </a:xfrm>
          <a:prstGeom prst="rect">
            <a:avLst/>
          </a:prstGeom>
          <a:ln w="0">
            <a:noFill/>
          </a:ln>
        </p:spPr>
      </p:pic>
      <p:pic>
        <p:nvPicPr>
          <p:cNvPr id="503" name="Заголовок 1" descr=""/>
          <p:cNvPicPr/>
          <p:nvPr/>
        </p:nvPicPr>
        <p:blipFill>
          <a:blip r:embed="rId2"/>
          <a:stretch/>
        </p:blipFill>
        <p:spPr>
          <a:xfrm>
            <a:off x="901800" y="476280"/>
            <a:ext cx="3384360" cy="93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108000" y="907920"/>
            <a:ext cx="4751280" cy="5222880"/>
          </a:xfrm>
          <a:prstGeom prst="rect">
            <a:avLst/>
          </a:prstGeom>
          <a:noFill/>
          <a:ln w="0">
            <a:noFill/>
          </a:ln>
        </p:spPr>
        <p:txBody>
          <a:bodyPr anchor="t">
            <a:normAutofit/>
          </a:bodyPr>
          <a:p>
            <a:pPr marL="10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н родился 11 февраля 1930 года в селе Хмелевка. Учился в школе №4 города Шепетовки. Был вожаком пионеров.</a:t>
            </a:r>
            <a:endParaRPr b="0" lang="en-US" sz="1300" spc="-1" strike="noStrike">
              <a:solidFill>
                <a:srgbClr val="000000"/>
              </a:solidFill>
              <a:latin typeface="Lucida Sans Unicode"/>
            </a:endParaRPr>
          </a:p>
          <a:p>
            <a:pPr marL="10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Когда в село пришли фашисты, Валя Котик решил бороться с врагом. Валя был разведчиком в подпольной организации. Фашисты решили провести карательную операцию против партизан. Валя выследил гитлеровского офицера и убил его...</a:t>
            </a:r>
            <a:endParaRPr b="0" lang="en-US" sz="1300" spc="-1" strike="noStrike">
              <a:solidFill>
                <a:srgbClr val="000000"/>
              </a:solidFill>
              <a:latin typeface="Lucida Sans Unicode"/>
            </a:endParaRPr>
          </a:p>
          <a:p>
            <a:pPr marL="10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Когда в городе начались аресты, Валя вместе с мамой и братом Виктором ушел к партизанам. Пионер, сражался вместе со взрослыми, против фашистов. На его счету - шесть вражеских эшелонов. Валя Котик погиб как герой. Он награжден званием Героя Советского Союза. </a:t>
            </a:r>
            <a:endParaRPr b="0" lang="en-US" sz="1300" spc="-1" strike="noStrike">
              <a:solidFill>
                <a:srgbClr val="000000"/>
              </a:solidFill>
              <a:latin typeface="Lucida Sans Unicode"/>
            </a:endParaRPr>
          </a:p>
          <a:p>
            <a:pPr marL="10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10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He was  born in 11 of  February  in 1930 in the village  </a:t>
            </a:r>
            <a:r>
              <a:rPr b="0" lang="ru-RU" sz="1300" spc="-1" strike="noStrike">
                <a:solidFill>
                  <a:srgbClr val="000000"/>
                </a:solidFill>
                <a:latin typeface="Times New Roman"/>
                <a:ea typeface="Times New Roman"/>
              </a:rPr>
              <a:t>Хмелевка</a:t>
            </a:r>
            <a:r>
              <a:rPr b="0" lang="en-US" sz="1300" spc="-1" strike="noStrike">
                <a:solidFill>
                  <a:srgbClr val="000000"/>
                </a:solidFill>
                <a:latin typeface="Times New Roman"/>
                <a:ea typeface="Times New Roman"/>
              </a:rPr>
              <a:t>. He studied at school number 4 in </a:t>
            </a:r>
            <a:r>
              <a:rPr b="0" lang="ru-RU" sz="1300" spc="-1" strike="noStrike">
                <a:solidFill>
                  <a:srgbClr val="000000"/>
                </a:solidFill>
                <a:latin typeface="Times New Roman"/>
                <a:ea typeface="Times New Roman"/>
              </a:rPr>
              <a:t>Шепетовка</a:t>
            </a:r>
            <a:r>
              <a:rPr b="0" lang="en-US" sz="1300" spc="-1" strike="noStrike">
                <a:solidFill>
                  <a:srgbClr val="000000"/>
                </a:solidFill>
                <a:latin typeface="Times New Roman"/>
                <a:ea typeface="Times New Roman"/>
              </a:rPr>
              <a:t>. He was a leader of pioneers.</a:t>
            </a:r>
            <a:endParaRPr b="0" lang="en-US" sz="1300" spc="-1" strike="noStrike">
              <a:solidFill>
                <a:srgbClr val="000000"/>
              </a:solidFill>
              <a:latin typeface="Lucida Sans Unicode"/>
            </a:endParaRPr>
          </a:p>
          <a:p>
            <a:pPr marL="10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When fascists came to the city, Valya had began to struggle against  fascists. Valya was a scout in the underground organization.  Fascists decided to make punitive expedition against partisan. Valya found hitlerite officer, and killed him…</a:t>
            </a:r>
            <a:endParaRPr b="0" lang="en-US" sz="1300" spc="-1" strike="noStrike">
              <a:solidFill>
                <a:srgbClr val="000000"/>
              </a:solidFill>
              <a:latin typeface="Lucida Sans Unicode"/>
            </a:endParaRPr>
          </a:p>
          <a:p>
            <a:pPr marL="10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When the arrests had  began Valya with his family went to partisan. He fought with people against  fascists. He blue up 6 enemy trains. He died as a hero. He was ordered  by the Hero Of Soviet Union.</a:t>
            </a:r>
            <a:endParaRPr b="0" lang="en-US" sz="1300" spc="-1" strike="noStrike">
              <a:solidFill>
                <a:srgbClr val="000000"/>
              </a:solidFill>
              <a:latin typeface="Lucida Sans Unicode"/>
            </a:endParaRPr>
          </a:p>
        </p:txBody>
      </p:sp>
      <p:pic>
        <p:nvPicPr>
          <p:cNvPr id="505" name="Picture 7" descr="валя Котик"/>
          <p:cNvPicPr/>
          <p:nvPr/>
        </p:nvPicPr>
        <p:blipFill>
          <a:blip r:embed="rId1"/>
          <a:srcRect l="4324" t="-1790" r="5397" b="0"/>
          <a:stretch/>
        </p:blipFill>
        <p:spPr>
          <a:xfrm>
            <a:off x="6118200" y="1425600"/>
            <a:ext cx="2209680" cy="3298680"/>
          </a:xfrm>
          <a:prstGeom prst="rect">
            <a:avLst/>
          </a:prstGeom>
          <a:ln w="0">
            <a:noFill/>
          </a:ln>
        </p:spPr>
      </p:pic>
      <p:pic>
        <p:nvPicPr>
          <p:cNvPr id="506" name="Заголовок 1" descr=""/>
          <p:cNvPicPr/>
          <p:nvPr/>
        </p:nvPicPr>
        <p:blipFill>
          <a:blip r:embed="rId2"/>
          <a:stretch/>
        </p:blipFill>
        <p:spPr>
          <a:xfrm>
            <a:off x="1189080" y="208080"/>
            <a:ext cx="2876400" cy="9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7" descr="005"/>
          <p:cNvPicPr/>
          <p:nvPr/>
        </p:nvPicPr>
        <p:blipFill>
          <a:blip r:embed="rId1"/>
          <a:srcRect l="644" t="3827" r="1847" b="406"/>
          <a:stretch/>
        </p:blipFill>
        <p:spPr>
          <a:xfrm>
            <a:off x="642960" y="1557360"/>
            <a:ext cx="3286080" cy="4032360"/>
          </a:xfrm>
          <a:prstGeom prst="rect">
            <a:avLst/>
          </a:prstGeom>
          <a:ln w="0">
            <a:noFill/>
          </a:ln>
        </p:spPr>
      </p:pic>
      <p:sp>
        <p:nvSpPr>
          <p:cNvPr id="508" name="PlaceHolder 1"/>
          <p:cNvSpPr>
            <a:spLocks noGrp="1"/>
          </p:cNvSpPr>
          <p:nvPr>
            <p:ph/>
          </p:nvPr>
        </p:nvSpPr>
        <p:spPr>
          <a:xfrm>
            <a:off x="4067280" y="1052640"/>
            <a:ext cx="4619520" cy="5078160"/>
          </a:xfrm>
          <a:prstGeom prst="rect">
            <a:avLst/>
          </a:prstGeom>
          <a:noFill/>
          <a:ln w="0">
            <a:noFill/>
          </a:ln>
        </p:spPr>
        <p:txBody>
          <a:bodyPr anchor="t">
            <a:normAutofit fontScale="98000"/>
          </a:bodyPr>
          <a:p>
            <a:pPr marL="10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ниговщина. Фронт подошел к селу Погорельцы. Оборону  села держала рота. Вася Коробко подносил бойцам патроны.</a:t>
            </a:r>
            <a:endParaRPr b="0" lang="en-US" sz="1300" spc="-1" strike="noStrike">
              <a:solidFill>
                <a:srgbClr val="000000"/>
              </a:solidFill>
              <a:latin typeface="Lucida Sans Unicode"/>
            </a:endParaRPr>
          </a:p>
          <a:p>
            <a:pPr marL="10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Когда фашисты заняли село, Вася вынес из школы пионерское знамя. Он стал разведчиком партизанского отряда. Он работает в штабе фашистов, передает партизанам важные сведения. Вместе с партизанами Вася уничтожил девять эшелонов, сотни гитлеровцев. В одном из боев он был сражен вражеской пулей. Своего маленького героя, прожившего короткую, но такую яркую жизнь, Родина наградила орденами Ленина, Красного Знамени, Отечественной войны 1 степени, медалью "Партизану Отечественной войны" 1 степени.</a:t>
            </a:r>
            <a:endParaRPr b="0" lang="en-US" sz="1300" spc="-1" strike="noStrike">
              <a:solidFill>
                <a:srgbClr val="000000"/>
              </a:solidFill>
              <a:latin typeface="Lucida Sans Unicode"/>
            </a:endParaRPr>
          </a:p>
          <a:p>
            <a:pPr marL="10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marL="10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ниговщина. </a:t>
            </a:r>
            <a:r>
              <a:rPr b="0" lang="en-US" sz="1300" spc="-1" strike="noStrike">
                <a:solidFill>
                  <a:srgbClr val="000000"/>
                </a:solidFill>
                <a:latin typeface="Times New Roman"/>
                <a:ea typeface="Times New Roman"/>
              </a:rPr>
              <a:t>The front approached to village Pogoreltsy. Defense of village held a mouth. </a:t>
            </a:r>
            <a:r>
              <a:rPr b="0" lang="ru-RU" sz="1300" spc="-1" strike="noStrike">
                <a:solidFill>
                  <a:srgbClr val="000000"/>
                </a:solidFill>
                <a:latin typeface="Times New Roman"/>
                <a:ea typeface="Times New Roman"/>
              </a:rPr>
              <a:t>Вася Коробко</a:t>
            </a:r>
            <a:r>
              <a:rPr b="0" lang="en-US" sz="1300" spc="-1" strike="noStrike">
                <a:solidFill>
                  <a:srgbClr val="000000"/>
                </a:solidFill>
                <a:latin typeface="Times New Roman"/>
                <a:ea typeface="Times New Roman"/>
              </a:rPr>
              <a:t> brought cartridges to fighters.</a:t>
            </a:r>
            <a:endParaRPr b="0" lang="en-US" sz="1300" spc="-1" strike="noStrike">
              <a:solidFill>
                <a:srgbClr val="000000"/>
              </a:solidFill>
              <a:latin typeface="Lucida Sans Unicode"/>
            </a:endParaRPr>
          </a:p>
          <a:p>
            <a:pPr marL="10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When fascists borrowed village, </a:t>
            </a:r>
            <a:r>
              <a:rPr b="0" lang="ru-RU" sz="1300" spc="-1" strike="noStrike">
                <a:solidFill>
                  <a:srgbClr val="000000"/>
                </a:solidFill>
                <a:latin typeface="Times New Roman"/>
                <a:ea typeface="Times New Roman"/>
              </a:rPr>
              <a:t>Вася</a:t>
            </a:r>
            <a:r>
              <a:rPr b="0" lang="en-US" sz="1300" spc="-1" strike="noStrike">
                <a:solidFill>
                  <a:srgbClr val="000000"/>
                </a:solidFill>
                <a:latin typeface="Times New Roman"/>
                <a:ea typeface="Times New Roman"/>
              </a:rPr>
              <a:t> had born a pioneer banner from school. He became the scout of partisan group. He worked in a fascists staff, passed  partisan the important material. Together with partisan </a:t>
            </a:r>
            <a:r>
              <a:rPr b="0" lang="ru-RU" sz="1300" spc="-1" strike="noStrike">
                <a:solidFill>
                  <a:srgbClr val="000000"/>
                </a:solidFill>
                <a:latin typeface="Times New Roman"/>
                <a:ea typeface="Times New Roman"/>
              </a:rPr>
              <a:t>Вася</a:t>
            </a:r>
            <a:r>
              <a:rPr b="0" lang="en-US" sz="1300" spc="-1" strike="noStrike">
                <a:solidFill>
                  <a:srgbClr val="000000"/>
                </a:solidFill>
                <a:latin typeface="Times New Roman"/>
                <a:ea typeface="Times New Roman"/>
              </a:rPr>
              <a:t> destroyed nine echelons, hundreds hitlerites. In one of fights he was killed by an enemy bullet. The small hero who lived short, but such bright life, the Motherland awarded </a:t>
            </a:r>
            <a:r>
              <a:rPr b="0" lang="ru-RU" sz="1300" spc="-1" strike="noStrike">
                <a:solidFill>
                  <a:srgbClr val="000000"/>
                </a:solidFill>
                <a:latin typeface="Times New Roman"/>
                <a:ea typeface="Times New Roman"/>
              </a:rPr>
              <a:t>орденами Ленина</a:t>
            </a:r>
            <a:r>
              <a:rPr b="0" lang="en-US"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Красного Знамени</a:t>
            </a:r>
            <a:r>
              <a:rPr b="0" lang="en-US"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Отечественной войны</a:t>
            </a:r>
            <a:r>
              <a:rPr b="0" lang="en-US" sz="1300" spc="-1" strike="noStrike">
                <a:solidFill>
                  <a:srgbClr val="000000"/>
                </a:solidFill>
                <a:latin typeface="Times New Roman"/>
                <a:ea typeface="Times New Roman"/>
              </a:rPr>
              <a:t> 1 </a:t>
            </a:r>
            <a:r>
              <a:rPr b="0" lang="ru-RU" sz="1300" spc="-1" strike="noStrike">
                <a:solidFill>
                  <a:srgbClr val="000000"/>
                </a:solidFill>
                <a:latin typeface="Times New Roman"/>
                <a:ea typeface="Times New Roman"/>
              </a:rPr>
              <a:t>степени</a:t>
            </a:r>
            <a:r>
              <a:rPr b="0" lang="en-US"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медалью "Партизану Отечественной войны" 1 степени.</a:t>
            </a:r>
            <a:endParaRPr b="0" lang="en-US" sz="1300" spc="-1" strike="noStrike">
              <a:solidFill>
                <a:srgbClr val="000000"/>
              </a:solidFill>
              <a:latin typeface="Lucida Sans Unicode"/>
            </a:endParaRPr>
          </a:p>
        </p:txBody>
      </p:sp>
      <p:pic>
        <p:nvPicPr>
          <p:cNvPr id="509" name="Заголовок 1" descr=""/>
          <p:cNvPicPr/>
          <p:nvPr/>
        </p:nvPicPr>
        <p:blipFill>
          <a:blip r:embed="rId2"/>
          <a:stretch/>
        </p:blipFill>
        <p:spPr>
          <a:xfrm>
            <a:off x="573120" y="334800"/>
            <a:ext cx="3279600" cy="9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5:32:53Z</dcterms:created>
  <dc:creator>Admin</dc:creator>
  <dc:description/>
  <dc:language>en-US</dc:language>
  <cp:lastModifiedBy>Макарова Е.В.</cp:lastModifiedBy>
  <dcterms:modified xsi:type="dcterms:W3CDTF">2013-10-04T00:33:57Z</dcterms:modified>
  <cp:revision>49</cp:revision>
  <dc:subject/>
  <dc:title>Подвиг ваш не забыт!</dc:title>
</cp:coreProperties>
</file>