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CBA-D76E-44EB-A2F8-C30905CB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D18-A8ED-40AF-9DD3-52A393C0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098-6EB9-4736-954A-A24829F9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6F1-A4D7-4085-8A3F-65CB8224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2804-C990-4AE6-A4ED-6FD2EC2C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A2D3-4D2D-4886-8D31-C61CA05B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D415-7069-4257-9892-AF0809B9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E71-F791-4465-8F96-80407CC3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76A4-F60D-4B58-AF50-EE0676C2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3FD-E466-4380-AE10-B8FDA9AC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B4D-919E-4273-AE9E-C6C2F93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318-B1DD-4535-ACAE-23EFB3D4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CE9E-C406-4C89-9F25-A9520BC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247C-C654-4DA9-A367-77D1DA3C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BD3-D7BC-4E71-AD07-F805C70A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BAB7-7EDF-480E-9BE9-8A3AF978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4403-2CC7-4BB3-85A9-2A86A7BA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1F7-B4BB-4DB9-B659-BA0993B3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85F-E6BF-4556-834A-7FF3C75C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EDA-BC73-4F1A-84BE-66A0125E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338-0BF5-4568-A307-32F8635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D10-D1E1-460A-8368-EBDD4F6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C8D-56CF-4C3E-A3A3-9201AA4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045-6B54-4535-90D4-111D4F0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389F-5F28-49BD-A3A7-8618E33AFD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016-B2FC-4E6F-82DA-4E7A40FC18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лоскость и объе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57880" y="5159520"/>
            <a:ext cx="3486240" cy="16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стыгова Ольга Ива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КОУ СОШ №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. Ипато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вропольского кр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Что ты видишь на контурах коряг?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офантазируй, какие поделки можно сделать из них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IMG_NEW"/>
          <p:cNvPicPr/>
          <p:nvPr/>
        </p:nvPicPr>
        <p:blipFill>
          <a:blip r:embed="rId1"/>
          <a:stretch/>
        </p:blipFill>
        <p:spPr>
          <a:xfrm>
            <a:off x="1476360" y="2492280"/>
            <a:ext cx="6284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предели, что является объемным: цветок в природе, рельефное изображение цветка или рисунок цветк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61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IMG_NEW_0001"/>
          <p:cNvPicPr/>
          <p:nvPr/>
        </p:nvPicPr>
        <p:blipFill>
          <a:blip r:embed="rId1"/>
          <a:stretch/>
        </p:blipFill>
        <p:spPr>
          <a:xfrm>
            <a:off x="1476360" y="2781360"/>
            <a:ext cx="62848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предели, где рисунок, где рельеф, а где скульптурное изображение. Чем они отличаются друг от друга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0120"/>
            <a:ext cx="822960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IMG_NEW_0002"/>
          <p:cNvPicPr/>
          <p:nvPr/>
        </p:nvPicPr>
        <p:blipFill>
          <a:blip r:embed="rId1"/>
          <a:stretch/>
        </p:blipFill>
        <p:spPr>
          <a:xfrm>
            <a:off x="1403280" y="3068640"/>
            <a:ext cx="65563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Каких животных можно узнать на рельефе? Какое из них не существует в природе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IMG_NEW_0003"/>
          <p:cNvPicPr/>
          <p:nvPr/>
        </p:nvPicPr>
        <p:blipFill>
          <a:blip r:embed="rId1"/>
          <a:stretch/>
        </p:blipFill>
        <p:spPr>
          <a:xfrm>
            <a:off x="1476360" y="2421000"/>
            <a:ext cx="6526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Какие изображения можно назвать объемными, а какие плоскими? Почему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IMG_NEW_0004"/>
          <p:cNvPicPr/>
          <p:nvPr/>
        </p:nvPicPr>
        <p:blipFill>
          <a:blip r:embed="rId1"/>
          <a:stretch/>
        </p:blipFill>
        <p:spPr>
          <a:xfrm>
            <a:off x="1201680" y="1700280"/>
            <a:ext cx="67420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Лепим рельеф из пластилин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IMG_NEW_0005"/>
          <p:cNvPicPr/>
          <p:nvPr/>
        </p:nvPicPr>
        <p:blipFill>
          <a:blip r:embed="rId1"/>
          <a:stretch/>
        </p:blipFill>
        <p:spPr>
          <a:xfrm>
            <a:off x="1763640" y="1916280"/>
            <a:ext cx="2712960" cy="384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G_NEW_0006"/>
          <p:cNvPicPr/>
          <p:nvPr/>
        </p:nvPicPr>
        <p:blipFill>
          <a:blip r:embed="rId2"/>
          <a:stretch/>
        </p:blipFill>
        <p:spPr>
          <a:xfrm>
            <a:off x="5364000" y="2565360"/>
            <a:ext cx="26434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Как слепить рельеф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IMG_NEW_0007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47:15Z</dcterms:created>
  <dc:creator>Ольга</dc:creator>
  <dc:description/>
  <dc:language>en-US</dc:language>
  <cp:lastModifiedBy>Black.User</cp:lastModifiedBy>
  <dcterms:modified xsi:type="dcterms:W3CDTF">2013-10-04T19:22:55Z</dcterms:modified>
  <cp:revision>5</cp:revision>
  <dc:subject/>
  <dc:title>Что ты видишь на контурах коряг? Пофантазируй, какие поделки можно сделать из них?</dc:title>
</cp:coreProperties>
</file>