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178-E8F4-4C4D-98D1-AF798BD5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7BB-527A-46C8-A5F4-A6DFA1E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26B-198D-411E-BFC5-01469453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4D2-06DA-4B92-BD4B-5DC549E2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FF3-C61A-410D-AFB0-E21DB244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9E2-B882-403E-8AEE-AEAA912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013-4663-49B0-B5E2-72B924D8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0BB-D874-44DC-9E8F-32856D22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F92-2A93-4881-95A2-03DC0C0F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FDC-C122-40E5-8CC4-94CA694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4AF-9205-49E8-825F-0E1FBAE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6BA-5116-4B35-97B4-ED971E6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53D-FC47-43A1-9C92-B1AF8E4F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cm100_001"/>
          <p:cNvPicPr/>
          <p:nvPr/>
        </p:nvPicPr>
        <p:blipFill>
          <a:blip r:embed="rId2"/>
          <a:stretch/>
        </p:blipFill>
        <p:spPr>
          <a:xfrm>
            <a:off x="1187280" y="1413000"/>
            <a:ext cx="3240360" cy="240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m100_004"/>
          <p:cNvPicPr/>
          <p:nvPr/>
        </p:nvPicPr>
        <p:blipFill>
          <a:blip r:embed="rId3"/>
          <a:stretch/>
        </p:blipFill>
        <p:spPr>
          <a:xfrm>
            <a:off x="4859280" y="1197000"/>
            <a:ext cx="3375000" cy="27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um70_014"/>
          <p:cNvPicPr/>
          <p:nvPr/>
        </p:nvPicPr>
        <p:blipFill>
          <a:blip r:embed="rId4"/>
          <a:stretch/>
        </p:blipFill>
        <p:spPr>
          <a:xfrm>
            <a:off x="826920" y="4005360"/>
            <a:ext cx="3176640" cy="265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um70_010"/>
          <p:cNvPicPr/>
          <p:nvPr/>
        </p:nvPicPr>
        <p:blipFill>
          <a:blip r:embed="rId5"/>
          <a:stretch/>
        </p:blipFill>
        <p:spPr>
          <a:xfrm>
            <a:off x="5078520" y="4365720"/>
            <a:ext cx="3519360" cy="2187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900000" y="189000"/>
            <a:ext cx="525780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чевые обла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547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лоистые обл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6588000" y="692280"/>
            <a:ext cx="2087640" cy="792000"/>
          </a:xfrm>
          <a:prstGeom prst="cloudCallout">
            <a:avLst>
              <a:gd name="adj1" fmla="val -46120"/>
              <a:gd name="adj2" fmla="val 7004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516720" y="4941720"/>
            <a:ext cx="2376360" cy="792360"/>
          </a:xfrm>
          <a:prstGeom prst="cloudCallout">
            <a:avLst>
              <a:gd name="adj1" fmla="val -46592"/>
              <a:gd name="adj2" fmla="val 7004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733440" y="5157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ый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589080" y="9079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й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 flipV="1">
            <a:off x="7164000" y="3068640"/>
            <a:ext cx="7164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8028000" y="3068640"/>
            <a:ext cx="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 flipV="1">
            <a:off x="8459280" y="3068640"/>
            <a:ext cx="730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7380360" y="1413000"/>
            <a:ext cx="0" cy="14396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8172360" y="1268280"/>
            <a:ext cx="0" cy="158436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1187280" y="2133720"/>
            <a:ext cx="5689800" cy="863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ота до 2 км., обложной моросящий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>
            <a:off x="6643440" y="1341360"/>
            <a:ext cx="160200" cy="1373400"/>
          </a:xfrm>
          <a:prstGeom prst="line">
            <a:avLst/>
          </a:prstGeom>
          <a:ln w="349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1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strat_011"/>
          <p:cNvPicPr/>
          <p:nvPr/>
        </p:nvPicPr>
        <p:blipFill>
          <a:blip r:embed="rId2"/>
          <a:stretch/>
        </p:blipFill>
        <p:spPr>
          <a:xfrm>
            <a:off x="468360" y="1600200"/>
            <a:ext cx="33735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229671895_c863cd394e3ce46ae6d52333589ad96f_O"/>
          <p:cNvPicPr/>
          <p:nvPr/>
        </p:nvPicPr>
        <p:blipFill>
          <a:blip r:embed="rId3"/>
          <a:stretch/>
        </p:blipFill>
        <p:spPr>
          <a:xfrm>
            <a:off x="4830840" y="1600200"/>
            <a:ext cx="367344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strat_006"/>
          <p:cNvPicPr/>
          <p:nvPr/>
        </p:nvPicPr>
        <p:blipFill>
          <a:blip r:embed="rId4"/>
          <a:stretch/>
        </p:blipFill>
        <p:spPr>
          <a:xfrm>
            <a:off x="324000" y="3938760"/>
            <a:ext cx="3887640" cy="26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strat_009"/>
          <p:cNvPicPr/>
          <p:nvPr/>
        </p:nvPicPr>
        <p:blipFill>
          <a:blip r:embed="rId5"/>
          <a:stretch/>
        </p:blipFill>
        <p:spPr>
          <a:xfrm>
            <a:off x="5219640" y="4365720"/>
            <a:ext cx="3449520" cy="21873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3"/>
          <p:cNvSpPr txBox="1"/>
          <p:nvPr/>
        </p:nvSpPr>
        <p:spPr>
          <a:xfrm>
            <a:off x="971640" y="189000"/>
            <a:ext cx="604980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истые обла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еристые обл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3995640" y="1844640"/>
            <a:ext cx="1947960" cy="847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оят из ль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179280" y="1413000"/>
            <a:ext cx="1476360" cy="119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12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7093080" y="1197000"/>
            <a:ext cx="1734840" cy="792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адков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 flipV="1">
            <a:off x="899640" y="2781360"/>
            <a:ext cx="71640" cy="4076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4932360" y="3068280"/>
            <a:ext cx="71280" cy="360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cir_002"/>
          <p:cNvPicPr/>
          <p:nvPr/>
        </p:nvPicPr>
        <p:blipFill>
          <a:blip r:embed="rId2"/>
          <a:stretch/>
        </p:blipFill>
        <p:spPr>
          <a:xfrm>
            <a:off x="395280" y="1700280"/>
            <a:ext cx="338472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ir_009"/>
          <p:cNvPicPr/>
          <p:nvPr/>
        </p:nvPicPr>
        <p:blipFill>
          <a:blip r:embed="rId3"/>
          <a:stretch/>
        </p:blipFill>
        <p:spPr>
          <a:xfrm>
            <a:off x="4859280" y="1700280"/>
            <a:ext cx="359244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cir_007"/>
          <p:cNvPicPr/>
          <p:nvPr/>
        </p:nvPicPr>
        <p:blipFill>
          <a:blip r:embed="rId4"/>
          <a:stretch/>
        </p:blipFill>
        <p:spPr>
          <a:xfrm>
            <a:off x="324000" y="4365720"/>
            <a:ext cx="330336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cir_013"/>
          <p:cNvPicPr/>
          <p:nvPr/>
        </p:nvPicPr>
        <p:blipFill>
          <a:blip r:embed="rId5"/>
          <a:stretch/>
        </p:blipFill>
        <p:spPr>
          <a:xfrm>
            <a:off x="4572000" y="3938760"/>
            <a:ext cx="4392720" cy="27302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3"/>
          <p:cNvSpPr txBox="1"/>
          <p:nvPr/>
        </p:nvSpPr>
        <p:spPr>
          <a:xfrm>
            <a:off x="539640" y="115920"/>
            <a:ext cx="712944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истые обла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l004-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7640" y="6336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ект— это уникальная деятельность, имеющая начало и конец во времени, направленная на достижение заранее определённого результата/ц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3280" y="189000"/>
            <a:ext cx="58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115920"/>
            <a:ext cx="74995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«пять  П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ектирование (планир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ступлением весны, а затем летом и осенью можно наблюдать кучевые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тим узнать информацию об обла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оектирование (планирование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942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отим 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бл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виды облаков встре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блака показаны в художественных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народные приметы связаны с обла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763640" y="765000"/>
            <a:ext cx="56199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о дороге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 облаками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б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б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удожественная литератур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43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чебный материал, в котором рассмотрены облака с разных пози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570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следовательский инстит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Художественная масте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ворческ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фис оформ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3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езентация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 rot="20664000">
            <a:off x="29880" y="1706400"/>
            <a:ext cx="85993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активную работ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видами и особенностями образования обла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, в чем различия между туманом и обла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методом проек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 творчески подходить к решению проектны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35"/>
          <p:cNvPicPr/>
          <p:nvPr/>
        </p:nvPicPr>
        <p:blipFill>
          <a:blip r:embed="rId2"/>
          <a:stretch/>
        </p:blipFill>
        <p:spPr>
          <a:xfrm rot="19777200">
            <a:off x="468000" y="691920"/>
            <a:ext cx="2952720" cy="23619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47" name="Picture 10" descr="tuman_v_nizine-1280"/>
          <p:cNvPicPr/>
          <p:nvPr/>
        </p:nvPicPr>
        <p:blipFill>
          <a:blip r:embed="rId3"/>
          <a:stretch/>
        </p:blipFill>
        <p:spPr>
          <a:xfrm rot="1433400">
            <a:off x="5941800" y="620280"/>
            <a:ext cx="2730240" cy="21859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48" name="Picture 11" descr="409270127"/>
          <p:cNvPicPr/>
          <p:nvPr/>
        </p:nvPicPr>
        <p:blipFill>
          <a:blip r:embed="rId4"/>
          <a:stretch/>
        </p:blipFill>
        <p:spPr>
          <a:xfrm rot="21450600">
            <a:off x="1042920" y="2924280"/>
            <a:ext cx="2735280" cy="21873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  <p:pic>
        <p:nvPicPr>
          <p:cNvPr id="49" name="Picture 12" descr="pasture_mist"/>
          <p:cNvPicPr/>
          <p:nvPr/>
        </p:nvPicPr>
        <p:blipFill>
          <a:blip r:embed="rId5"/>
          <a:stretch/>
        </p:blipFill>
        <p:spPr>
          <a:xfrm>
            <a:off x="4932360" y="2708280"/>
            <a:ext cx="2736720" cy="21877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0" name="WordArt 13"/>
          <p:cNvSpPr txBox="1"/>
          <p:nvPr/>
        </p:nvSpPr>
        <p:spPr>
          <a:xfrm>
            <a:off x="179280" y="5300640"/>
            <a:ext cx="18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ман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411280" y="50846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мельчайшие капли воды, которые находятся в воздухе. Они образуются в результате конденсации пара вблизи поверхност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1" i="1" lang="en-US" sz="3200" spc="-1" strike="noStrike">
                <a:solidFill>
                  <a:srgbClr val="2b2bfe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хода водяного пара в  жидкое или твёрдое со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765000"/>
            <a:ext cx="35272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денс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0817600">
            <a:off x="1332000" y="3428640"/>
            <a:ext cx="2279520" cy="3095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1302000">
            <a:off x="4932360" y="3933360"/>
            <a:ext cx="2951280" cy="2222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557440" y="5013360"/>
            <a:ext cx="403236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ман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1909800" y="333360"/>
            <a:ext cx="5686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ко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Cloud"/>
          <p:cNvSpPr/>
          <p:nvPr/>
        </p:nvSpPr>
        <p:spPr>
          <a:xfrm>
            <a:off x="179280" y="404640"/>
            <a:ext cx="1946520" cy="9194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627280" y="2708280"/>
            <a:ext cx="936720" cy="1152360"/>
          </a:xfrm>
          <a:prstGeom prst="upArrow">
            <a:avLst>
              <a:gd name="adj1" fmla="val 50000"/>
              <a:gd name="adj2" fmla="val 307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140360" y="3645000"/>
            <a:ext cx="792000" cy="1224000"/>
          </a:xfrm>
          <a:prstGeom prst="upArrow">
            <a:avLst>
              <a:gd name="adj1" fmla="val 50000"/>
              <a:gd name="adj2" fmla="val 3863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5580000" y="2852640"/>
            <a:ext cx="990720" cy="976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0" y="5921280"/>
            <a:ext cx="1655640" cy="936720"/>
          </a:xfrm>
          <a:prstGeom prst="cloudCallout">
            <a:avLst>
              <a:gd name="adj1" fmla="val -49712"/>
              <a:gd name="adj2" fmla="val 51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1979640" y="6165720"/>
            <a:ext cx="1009800" cy="503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5435640" y="6021360"/>
            <a:ext cx="302400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3421080" y="6237360"/>
            <a:ext cx="136692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199280" y="0"/>
            <a:ext cx="1944720" cy="9190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0" y="1773360"/>
            <a:ext cx="2700360" cy="9190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826920" y="836640"/>
            <a:ext cx="453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ко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958320" y="3154320"/>
            <a:ext cx="789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нявшийся 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еделенную выс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5148360" y="620640"/>
            <a:ext cx="3671640" cy="173520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979640" y="836640"/>
            <a:ext cx="496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к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042920" y="3141720"/>
            <a:ext cx="215892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3421080" y="5084640"/>
            <a:ext cx="2521080" cy="151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5726160" y="2997360"/>
            <a:ext cx="223056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458000" y="34480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Ч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619800" y="55357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869800" y="35733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 rot="3535200">
            <a:off x="2269800" y="2193840"/>
            <a:ext cx="647640" cy="1149480"/>
          </a:xfrm>
          <a:prstGeom prst="downArrow">
            <a:avLst>
              <a:gd name="adj1" fmla="val 50000"/>
              <a:gd name="adj2" fmla="val 4437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3924360" y="2852640"/>
            <a:ext cx="1295280" cy="2160720"/>
          </a:xfrm>
          <a:prstGeom prst="downArrow">
            <a:avLst>
              <a:gd name="adj1" fmla="val 50000"/>
              <a:gd name="adj2" fmla="val 4170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 rot="18658200">
            <a:off x="5765760" y="2283840"/>
            <a:ext cx="792360" cy="960480"/>
          </a:xfrm>
          <a:prstGeom prst="downArrow">
            <a:avLst>
              <a:gd name="adj1" fmla="val 50000"/>
              <a:gd name="adj2" fmla="val 3030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Образование кучевых обл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708360" y="5589720"/>
            <a:ext cx="2303640" cy="431640"/>
          </a:xfrm>
          <a:prstGeom prst="cloudCallout">
            <a:avLst>
              <a:gd name="adj1" fmla="val -2930"/>
              <a:gd name="adj2" fmla="val 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6877080" y="4221000"/>
            <a:ext cx="1871640" cy="432000"/>
          </a:xfrm>
          <a:prstGeom prst="cloudCallout">
            <a:avLst>
              <a:gd name="adj1" fmla="val -15138"/>
              <a:gd name="adj2" fmla="val 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11280" y="5300640"/>
            <a:ext cx="2448000" cy="432000"/>
          </a:xfrm>
          <a:prstGeom prst="cloudCallout">
            <a:avLst>
              <a:gd name="adj1" fmla="val 194"/>
              <a:gd name="adj2" fmla="val 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6516720" y="5373720"/>
            <a:ext cx="2374920" cy="431640"/>
          </a:xfrm>
          <a:prstGeom prst="cloudCallout">
            <a:avLst>
              <a:gd name="adj1" fmla="val -1337"/>
              <a:gd name="adj2" fmla="val 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"/>
          <p:cNvSpPr/>
          <p:nvPr/>
        </p:nvSpPr>
        <p:spPr>
          <a:xfrm>
            <a:off x="2771640" y="981000"/>
            <a:ext cx="2743200" cy="1838520"/>
          </a:xfrm>
          <a:prstGeom prst="pie">
            <a:avLst/>
          </a:prstGeom>
          <a:solidFill>
            <a:srgbClr val="00ffff">
              <a:alpha val="44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яются с наступлением ве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loud"/>
          <p:cNvSpPr/>
          <p:nvPr/>
        </p:nvSpPr>
        <p:spPr>
          <a:xfrm>
            <a:off x="0" y="189000"/>
            <a:ext cx="2743200" cy="183816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2 до 1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5580000" y="620640"/>
            <a:ext cx="2743200" cy="18385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оза, ливень, гра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5"/>
          <p:cNvCxnSpPr>
            <a:stCxn id="84" idx="0"/>
          </p:cNvCxnSpPr>
          <p:nvPr/>
        </p:nvCxnSpPr>
        <p:spPr>
          <a:xfrm flipV="1" rot="16200000">
            <a:off x="-120960" y="3369600"/>
            <a:ext cx="3193200" cy="720000"/>
          </a:xfrm>
          <a:prstGeom prst="curvedConnector5">
            <a:avLst>
              <a:gd name="adj1" fmla="val 50366"/>
              <a:gd name="adj2" fmla="val 49974"/>
              <a:gd name="adj3" fmla="val 50366"/>
            </a:avLst>
          </a:prstGeom>
          <a:ln w="31680">
            <a:solidFill>
              <a:srgbClr val="ff0000"/>
            </a:solidFill>
            <a:miter/>
            <a:tailEnd len="med" type="oval" w="med"/>
          </a:ln>
        </p:spPr>
      </p:cxnSp>
      <p:cxnSp>
        <p:nvCxnSpPr>
          <p:cNvPr id="90" name="AutoShape 16"/>
          <p:cNvCxnSpPr>
            <a:stCxn id="82" idx="0"/>
          </p:cNvCxnSpPr>
          <p:nvPr/>
        </p:nvCxnSpPr>
        <p:spPr>
          <a:xfrm flipV="1" rot="16200000">
            <a:off x="3154680" y="3908520"/>
            <a:ext cx="2618280" cy="794520"/>
          </a:xfrm>
          <a:prstGeom prst="curvedConnector5">
            <a:avLst>
              <a:gd name="adj1" fmla="val 50440"/>
              <a:gd name="adj2" fmla="val 50000"/>
              <a:gd name="adj3" fmla="val 50440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" name="AutoShape 17"/>
          <p:cNvCxnSpPr>
            <a:stCxn id="83" idx="0"/>
          </p:cNvCxnSpPr>
          <p:nvPr/>
        </p:nvCxnSpPr>
        <p:spPr>
          <a:xfrm flipV="1" rot="16200000">
            <a:off x="6827760" y="3260160"/>
            <a:ext cx="1610280" cy="362520"/>
          </a:xfrm>
          <a:prstGeom prst="curvedConnector5">
            <a:avLst>
              <a:gd name="adj1" fmla="val 50782"/>
              <a:gd name="adj2" fmla="val 50000"/>
              <a:gd name="adj3" fmla="val 5078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" name="AutoShape 18"/>
          <p:cNvCxnSpPr>
            <a:stCxn id="85" idx="0"/>
          </p:cNvCxnSpPr>
          <p:nvPr/>
        </p:nvCxnSpPr>
        <p:spPr>
          <a:xfrm flipV="1" rot="16200000">
            <a:off x="5981400" y="3675960"/>
            <a:ext cx="2041920" cy="1404000"/>
          </a:xfrm>
          <a:prstGeom prst="curvedConnector5">
            <a:avLst>
              <a:gd name="adj1" fmla="val 50608"/>
              <a:gd name="adj2" fmla="val 49987"/>
              <a:gd name="adj3" fmla="val 50608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254 L -0.00781 -0.33565 E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9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4:08:41Z</dcterms:created>
  <dc:creator>Semakin &amp; company</dc:creator>
  <dc:description/>
  <dc:language>en-US</dc:language>
  <cp:lastModifiedBy>Admin</cp:lastModifiedBy>
  <dcterms:modified xsi:type="dcterms:W3CDTF">2013-10-04T17:04:04Z</dcterms:modified>
  <cp:revision>15</cp:revision>
  <dc:subject/>
  <dc:title>Слайд 1</dc:title>
</cp:coreProperties>
</file>