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DDC-5739-4049-81E4-38401A0791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1B8D-E9E3-41BE-B991-A0DC26814D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4BB-5FAD-4341-9A00-F78D7437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613-03C5-4A36-8A6F-5C8A79E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E10-8F43-4741-87F7-3000D7EC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357-3913-4A1F-B956-94A5ABC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87F4-4EFB-483E-BF8A-87694761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1687-58C0-40AD-94FF-9C700D4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66E1-373D-49BC-B73B-41A520ED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A060-7345-446D-843F-05E2280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C536-E01B-49C1-AF0C-1989F625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3EEC-5878-4049-B193-79F02C25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4C04-8755-4BAB-BFEE-8EC36BB6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8B2-B1CD-4BE9-B88A-C72B8619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7F16-9A6C-485C-8CD4-944C5FE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D8D-776B-4903-940C-468F897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1D7A-051F-4259-8612-293C08C5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2AF-7FDB-4613-911C-6DF8C5BE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04B4-6FE7-4DB8-9BEB-08042A23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8A9F4-D3D5-40FA-B3A2-38B9E23C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01122-50E2-4061-AC1F-EC5EAED9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C6DA4-EBBC-4C44-B9EF-7AC24B1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1756A-818B-4AC8-AD12-21978ED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DCBF2-7198-4E85-B3E8-AC75695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FDF-FFC3-4207-916C-531D8BA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FA62B-2B70-43CB-B94D-7FF8C4F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1BD25-2355-4FDB-9202-3695317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91FFF-1480-4AF4-8007-1459CD1D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A7E25-F540-45E2-BC28-A9C2695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E5757-F884-4F8F-982A-A28C98E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E88C7-20AF-4FA1-8DAA-B5526CBE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9C1E7-A112-4CC1-99C0-529B1F90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2C16-FAE0-4F30-BCDC-5AD39FB5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4149-F859-4D08-81BA-349180C1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38DD-DEC9-43C8-A9AA-D684869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C27-D574-4470-9DE3-67565BC7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D2C9-D794-4E89-8B61-BA36A5B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F529-CF2B-457D-B90A-7C24F155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A483-EF2E-4544-92EB-1BB440DA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46FA-63AA-4F6E-92C4-51ECFB3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40395-8FAD-4C1D-B52F-2FF7560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16CD-FB91-4F99-815C-306A9FB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1582-4FC7-4803-A82F-EA17271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D486-A055-445F-89FF-004C0284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1267-3EAF-4254-A255-493E6921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2CCEF-78F8-4F49-B0C2-3B18366C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6F4-3190-4CED-A680-F05BE831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12F51-B18E-4073-8FEE-D9F08BCA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F5BD3-28A6-486E-BD26-AFAFEB3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5E768-A273-4E53-BE14-39C0104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85401-59C7-466C-8C8C-977972D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B5227-F2AA-45A3-992A-798EC768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BE45E-7F44-4457-AA1E-06650A1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B7D1-E130-4317-B549-05B30C3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5DB6C-138D-4AE2-8C39-A852AC4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13B69-60D8-45AF-BCDD-D760BBA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5A023-92B3-4FF8-ACC8-1A6452DC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AB2-ED3B-442B-BC6C-F978421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1BF5B-FE39-4FFE-BF33-4C387DB3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8BCCC-E997-42FC-B781-B1B47294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830A7-2467-4A5A-AEDA-E419339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A723E-6995-4D53-8859-A501A6E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BBA43-D30F-4DF1-BB8E-85B5E6D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31E40-5638-41D9-81FC-71F6471A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8349C-0DC6-410E-B6BB-26C1AF3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63BA1-0F28-4FD3-B908-B75CD2A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483F3-5461-4B33-8800-DD3ED09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87AAD-D51C-43A9-8715-6CFF310E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E3C-BFEA-4EF9-846E-282B2A88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D78D2-E7EB-4F66-BE08-BC9245D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688B3-FBB5-4DEC-B6FC-4DF8BF62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0CFBB-DC63-42B0-BC19-4680935C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67DB0-6D3A-435E-AEC3-00F3579B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977EB-1812-4554-A8C0-0C73EA59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10AB4-57D6-4EF3-A2B6-51165E2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6B192-7A14-47C2-A743-184DE58E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5B485-AE9A-4FF3-876E-E7E2E78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D1183-F06F-47D3-A661-FFD881DB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4420A-26AB-441B-BBAC-BC02F7F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7FE-3527-475F-A9EF-D7988A2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5A19D-E29B-4C57-8F35-70BF332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BBE80-957A-4B90-AE27-C1B6531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6A9CB-F555-4A24-BD08-3C3B672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728F5-22AB-4EF6-9AEA-67A3634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6A18D-57B8-4227-989C-5F1A9A20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8C4-5CC8-476C-B648-F8C18AA5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190D-8BC5-43CB-80B4-CFA1A4AA64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AE4-42B5-4939-ABA8-15EE86B06C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F06B-160C-44B5-B820-02D9BEE273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CC2-4206-472F-916A-5A3D17A5BB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DA21-036A-4411-BBCE-7FADE07FB1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B9A-6D36-4081-BB67-86C2B3D0D6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8914-5931-41C3-9C7D-A46E49BD57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0040" y="47628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ПСИХОЛОГО-ПЕДАГОГИЧЕСКОЕ СОПРОВОЖДЕНИЕ ДЕТЕЙ С ОВЗ В ОБЩЕОБРАЗОВАТЕЛЬНОМ УЧРЕЖДЕНИ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560" y="465300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e42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3c3e42"/>
                </a:solidFill>
                <a:latin typeface="Century Schoolbook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e42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3c3e42"/>
                </a:solidFill>
                <a:latin typeface="Century Schoolbook"/>
              </a:rPr>
              <a:t>«Средняя общеобразовательная школа №16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e42"/>
                </a:solidFill>
                <a:latin typeface="Century Schoolbook"/>
              </a:rPr>
              <a:t>Ресурсный центр по работе с обучающимися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Century School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285840" y="477720"/>
            <a:ext cx="807228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нутренние задачи команды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ышение профессиональной компетенции каждого за счет расширения знаний в смежных обла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рмирование единой (с методологической точки зрения) системы анализа состояния ребенка на основе  профессиональных моделей анализа (логопеда, психолог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пределение наиболее удобной для всех специалистов «рабочей» типологии вариантов отклоняющегос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нимание  «видения» ребенка другим специали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работка «единого языка» и технологий междисциплинарн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мение работать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рмирование толерантности к мнению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e75c01"/>
                </a:solidFill>
                <a:latin typeface="Century Schoolbook"/>
              </a:rPr>
              <a:t>Этапы консилиумной деятельност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дварительный этап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ервый этап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торой этап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ретий этап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вершающий этап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ВИДЫ КОНСИЛИУМНОЙ 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И РЕШАЕМЫЕ ЗАДАЧ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528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Century Schoolbook"/>
              </a:rPr>
              <a:t>ПЛАНОВЫЙ КОНСИЛИУ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точнение стратегии и определение тактики сопровождения детей с ОВЗ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работка индивидуального образовательного план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работку согласованных решений по определению образовательного коррекционно-развивающего маршрута и дополнительных программ развивающей или коррекционной  и абилитационной работ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инамическую оценку состояния ребенка и коррекция ранее намеченной программ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Century Schoolbook"/>
              </a:rPr>
              <a:t>ВНЕПЛАНОВЫЙ КОНСИЛИУ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шение вопроса о принятии необходимых экстренных мер по выявившимся обстоятельства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зменение направления  ранее проводимой коррекционно-развивающей работы в изменившейся ситуации или в случае ее неэффективности;  Изменение ИОП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шение вопроса об изменении образовательного маршрута (в рамках деятельности данного ОУ, либо иного типа учебного заведения (повторное прохождение ПМПК)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УСЛОВИЯ, ОПРЕДЕЛЯЮЩИЕ ЭФФЕКТИВНОСТЬ  ДЕЯТЕЛЬНОСТИ КОНСИЛИУМ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571400"/>
            <a:ext cx="91440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Шаговая доступность образовательного учреждения, реализующего (интегрированное) инклюзивное образование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личие вариативных форм интеграции (инклюзии) внутри ОУ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бязательное заключение договоров с родителями об образовании ребенка с ОВЗ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Разумный баланс между обеспечением прав «особого» ребенка и других детей, находящихся вместе с ним в ОУ (группе, классе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357120" y="338040"/>
            <a:ext cx="83581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Times New Roman"/>
              </a:rPr>
              <a:t>Индивидуальный образовательный пла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индивидуальная программа развития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отражающий общую стратегию и конкретные шаги междисциплинарной команды и педагогов в организации психолого-педагогического сопровождения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виду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разовательного маршрута ребенка с ОВЗ (заключение ПМПК) в рамках школы/детского сад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пределенный период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твержденный директором ОУ и подписанный родителям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75c01"/>
                </a:solidFill>
                <a:latin typeface="Century Schoolbook"/>
              </a:rPr>
              <a:t>СТРУКТУРА ИНДИВИДУАЛЬНОГО ОБРАЗОВАТЕЛЬНОГО ПЛАНА</a:t>
            </a: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 (ПО Т.П. ДМИТРИЕВОЙ)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2920" y="928440"/>
            <a:ext cx="88581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оздание «безбарьерной» среды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: специальные приспособления в помещениях школы, оборудование рабочего места; тактильные и зрительные поддержки и др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рганизация освоения образовательной программы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дачи по предметным областям, формы организации учебной деятельности и контроля, показатели достижени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сихолого-педагогическое сопровождение: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направления, задачи, формы, график работы специалистов, критерии достижений; особенности междисциплинарного взаимодейств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Формирование социальной компетентности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направления и задачи, ответственные, формы деятельности, показатели и формы оценки достижени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75c01"/>
                </a:solidFill>
                <a:latin typeface="Century Schoolbook"/>
              </a:rPr>
              <a:t>РАЗРАБОТКА </a:t>
            </a:r>
            <a:br>
              <a:rPr sz="2200"/>
            </a:br>
            <a:r>
              <a:rPr b="1" lang="ru-RU" sz="2200" spc="-1" strike="noStrike">
                <a:solidFill>
                  <a:srgbClr val="e75c01"/>
                </a:solidFill>
                <a:latin typeface="Century Schoolbook"/>
              </a:rPr>
              <a:t>ИНДИВИДУАЛЬНОЙ КОРРЕКЦИОННОЙ ПРОГРАММЫ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(В РАМКАХ ПСИХОЛОГО-ПЕДАГОГИЧЕСКОГО СОПРОВОЖДЕНИЯ) </a:t>
            </a:r>
            <a:br>
              <a:rPr sz="2200"/>
            </a:br>
            <a:br>
              <a:rPr sz="13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0920" y="2286000"/>
          <a:ext cx="8464320" cy="4168800"/>
        </p:xfrm>
        <a:graphic>
          <a:graphicData uri="http://schemas.openxmlformats.org/drawingml/2006/table">
            <a:tbl>
              <a:tblPr/>
              <a:tblGrid>
                <a:gridCol w="1198440"/>
                <a:gridCol w="1123920"/>
                <a:gridCol w="1163520"/>
                <a:gridCol w="1125720"/>
                <a:gridCol w="1282680"/>
                <a:gridCol w="1285920"/>
                <a:gridCol w="1284120"/>
              </a:tblGrid>
              <a:tr h="13255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е коррекционно-развивающе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спользуем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хнологии (формы, методы, прием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ка эффе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комендации учителю (воспитател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фект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ьный педагог (тьют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75c01"/>
                </a:solidFill>
                <a:latin typeface="Century Schoolbook"/>
              </a:rPr>
              <a:t>СПАСИБО ЗА ВНИМАНИЕ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ОБРАЗОВАТЕЛЬНОЕ ПРОСТРАНСТВО ДЛЯ ДЕТЕЙ С ОВЗ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4200" y="1557000"/>
            <a:ext cx="86868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e42"/>
                </a:solidFill>
                <a:latin typeface="Century Schoolbook"/>
              </a:rPr>
              <a:t>Городская ПМП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e42"/>
                </a:solidFill>
                <a:latin typeface="Century Schoolbook"/>
              </a:rPr>
              <a:t>ДОУ с различными формами интеграции детей с ОВЗ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e42"/>
                </a:solidFill>
                <a:latin typeface="Century Schoolbook"/>
              </a:rPr>
              <a:t>Школы, реализующие интегративную практик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e42"/>
                </a:solidFill>
                <a:latin typeface="Century Schoolbook"/>
              </a:rPr>
              <a:t>Специальная коррекционная школа   </a:t>
            </a:r>
            <a:r>
              <a:rPr b="1" lang="en-US" sz="2800" spc="-1" strike="noStrike">
                <a:solidFill>
                  <a:srgbClr val="3c3e42"/>
                </a:solidFill>
                <a:latin typeface="Century Schoolbook"/>
              </a:rPr>
              <a:t>VIII </a:t>
            </a:r>
            <a:r>
              <a:rPr b="1" lang="ru-RU" sz="2800" spc="-1" strike="noStrike">
                <a:solidFill>
                  <a:srgbClr val="3c3e42"/>
                </a:solidFill>
                <a:latin typeface="Century Schoolbook"/>
              </a:rPr>
              <a:t> вид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ФУНКЦИИ ГОРОДСКОЙ ПМП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840" y="1125000"/>
            <a:ext cx="8534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ценка особенностей и уровня развития ребенка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го ресурсов и дефицитов (психолого-педагогическая квалификация его состояния, определяющая его статус «включенного»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среды вклю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условий включен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организационных, содержательных, средовых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бор вида ОУ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труктурного подразделения ОУ, СКОШ 8-го вида и т.п.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сультирование родителей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заимодействие с О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75c01"/>
                </a:solidFill>
                <a:latin typeface="Century Schoolbook"/>
              </a:rPr>
              <a:t>КОМПОНЕНТЫ ПСИХОЛОГО-ПЕДАГОГИЧЕСКОГО СОПРОВОЖД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76464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провождение тью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полнительные занятия  с педагог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ятия (групповые /индивидуальные ) с дефектологом (сурдопедагогом, тифлопедагогом, олигофренопедагогом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ятия (групповые /индивидуальные ) с логопед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ятия (групповые /индивидуальные ) с психолог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ятия (групповые /индивидуальные ) с социальным педагог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ятия ЛФК, занятия в специальной физкультурной группе, ритмик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намическая оценка состояния ребенка на ПП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СРЕДОВЫЕ УСЛОВ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ециальное оборудование под ребенк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ециальные дидактические материалы , в соответствии с потребностями ребенк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ециальное изменение архитектурной среды ОУ под особенности ребенк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ДОПОЛНИТЕЛЬНЫЕ УСЛОВ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работка индивидуального образовательного план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блюдение профильного врач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ибкий режим  учебных и/или эмоциональных нагрузок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ибкий режим взаимодействия с нормативно развивающимися сверстниками в О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роки повторного обследования на ПМП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746748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ГОТОВНОСТЬ ОБРАЗОВАТЕЛЬНОГО УЧРЕЖДЕ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2" descr=""/>
          <p:cNvPicPr/>
          <p:nvPr/>
        </p:nvPicPr>
        <p:blipFill>
          <a:blip r:embed="rId1"/>
          <a:stretch/>
        </p:blipFill>
        <p:spPr>
          <a:xfrm>
            <a:off x="285840" y="1627200"/>
            <a:ext cx="7542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ДЛЯ ЧЕГО НУЖЕН КОНСИЛИУМ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5840" y="1143000"/>
            <a:ext cx="85341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организации деятельности образовательного учреждения    (ее специалистов) по сопровождению образовательного процесса ребенка с ОВЗ, включенного в инклюзивную практи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организации взаимодействия с городской ПМПК и  другими «внешними» учреждениями, участвующими в сопровождении «особого ребенк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поддержания разумного баланса между обеспечением образовательных прав «особого» ребенка и других детей, находящихся вместе с ним в ОУ (группе, классе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минимизации конфликтных ситуаций в О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защиты своего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e75c01"/>
                </a:solidFill>
                <a:latin typeface="Century Schoolbook"/>
              </a:rPr>
              <a:t>ЗАДАЧИ ДЕЯТЕЛЬНОСТИ ПСИХОЛОГО-ПЕДАГОГИЧЕСКОГО КОНСИЛИУМА ОУ В ПРОЦЕССЕ СОПРОВОЖДЕНИЯ УЧАЩЕГОСЯ С ОВЗ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2364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ка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ого Образователь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ИОП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намическая оценка эффективности реализации ИОП (индивидуализированного образовательного маршрута и коррекционных программ в рамках психолого-педагогического сопровождения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менение образовательной траектории ребенка в О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ординация взаимодействия специалистов по оказанию дополнительной специализированной помощи детя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23:30Z</dcterms:created>
  <dc:creator>Бозова Инна Леонидовна</dc:creator>
  <dc:description/>
  <dc:language>en-US</dc:language>
  <cp:lastModifiedBy>Admin</cp:lastModifiedBy>
  <dcterms:modified xsi:type="dcterms:W3CDTF">2013-05-05T17:28:37Z</dcterms:modified>
  <cp:revision>109</cp:revision>
  <dc:subject/>
  <dc:title>Слайд 1</dc:title>
</cp:coreProperties>
</file>