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904-B314-43FF-9944-9ED9E23F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5B1-369B-4493-AFC1-6A0BB93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148-FA9A-4479-9F62-FBCC6DFD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E27-E7D0-4CC4-A86C-1562D9A4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8F9-8A0E-47F8-B3E4-6512A6B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E19-4E0C-4D98-86BA-441A772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0D5-4346-4BC5-A90B-8FDF56A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66D-3E13-4645-9C04-A8E69104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8D9-FABE-4DBA-8731-F017CBB1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611-CDD2-489D-ADF1-16F8398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113-C38C-418A-A25E-39462CF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608-F9B2-4DC7-9D97-CEC4C1A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8FED-D65E-4DD9-A0A0-F7A7B5C4F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Правописание суффиксов причаст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 к 1.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ыш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ся на крыше, исследу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 объект, ран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 словом, грохоч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 грузовик, т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 на солнце, слабо дыш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, колебл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 ветром, ненавид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 всеми, вполне разреш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. дремл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и на лекции, плохо вид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, завис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 от отца, м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ся зубами, больно жал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, много знач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, всеми уваж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, сжиг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й страстью, стро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ся район, хол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ий жеребенк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Классификация орфограмм суффиксов причастий, представляющих трудности для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причастий, зависящих от спряжения глаголов, от которых они образов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описание перед суффиксами причастий прошедшего времени гласной, которая зависит от суффикса неопределенной формы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описание Н и НН в суффиксах страдательных причастий прошедш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ыбор суффиксов причастий УЩ .ЮЩ.АЩ.ЯЩ .ЕМ.ИМ зависит от спряжения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омните: спряжение глаголов с безударным личным окончанием определяем по неопределенной форме гла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349360"/>
          <a:ext cx="8569080" cy="3703680"/>
        </p:xfrm>
        <a:graphic>
          <a:graphicData uri="http://schemas.openxmlformats.org/drawingml/2006/table">
            <a:tbl>
              <a:tblPr/>
              <a:tblGrid>
                <a:gridCol w="3978000"/>
                <a:gridCol w="459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 спряжение И…, АТ, 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 спряжение Е…, УТ, 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лаголы на 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глагола на 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глаголов на 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ИТЬ. СТЕЛ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юс все остальные глаг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нать, держать, терпеть, обидеть, слышать, видеть, ненавидеть, и зависеть, и вертеть, и еще дышать, смот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еять, веять, затеять, каяться, лаять, лелеять, маяться, сеять, надеяться, реять, чаять, таять, ха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778200"/>
        </p:xfrm>
        <a:graphic>
          <a:graphicData uri="http://schemas.openxmlformats.org/drawingml/2006/table">
            <a:tbl>
              <a:tblPr/>
              <a:tblGrid>
                <a:gridCol w="2602080"/>
                <a:gridCol w="3168360"/>
                <a:gridCol w="245916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Щ, ЮЩ, 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частиях, образованных от глаголов 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 спря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рег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Щ, ЯЩ, 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частиях, образованных от глаголов 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 спря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горитм правописания суффиксов причастий, зависящих от спряжения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СТАВЛЮ 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1557360"/>
            <a:ext cx="23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…..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…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34936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ЫДЕЛЯЮ  СУФФИКС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8018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ГЛАГОЛА И ОПРЕДЕЛЯЮ  С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8160" y="285264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ься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400536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ПИШУ  УЩ.ЮЩ В ПРИЧАСТИЯХ, ОБРАЗОВАННЫХ ОТ ГЛАГОЛОВ 1 СПРЯЖЕНИЯ, И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АЩ, ЯЩ – ОТ ГЛАГОЛОВ 2 СП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41688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горитм правописания гласной перед суффиксом причастий прошедшего времени В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628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СТАВЛЮ 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1557360"/>
            <a:ext cx="23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…..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…..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2349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ыделяю суффикс В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8018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ГЛАГОЛА И подчеркиваю глас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перед 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07664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ПИШУ  СЛОВО С ТОЙ ЖЕ ГЛАСНОЙ ПЕРЕД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ВШ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, ЧТО И В ИНФИНИ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4221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Правописание гласной перед суффиксами причастий прошедшего времени ВШ, 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600200"/>
          <a:ext cx="8147160" cy="4519440"/>
        </p:xfrm>
        <a:graphic>
          <a:graphicData uri="http://schemas.openxmlformats.org/drawingml/2006/table">
            <a:tbl>
              <a:tblPr/>
              <a:tblGrid>
                <a:gridCol w="1974960"/>
                <a:gridCol w="2057400"/>
                <a:gridCol w="2057400"/>
                <a:gridCol w="2057400"/>
              </a:tblGrid>
              <a:tr h="74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 суффиксами ВШ,Ш 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у же гласную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то и в 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нфинитиве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- слыш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 – т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- 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- стро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описание гласной перед суффиксом причастий прошедшего времени 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268280"/>
          <a:ext cx="8424720" cy="533880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2449440"/>
                <a:gridCol w="23032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 суффиксами НН и Н </a:t>
                      </a:r>
                      <a:r>
                        <a:rPr b="1" lang="en-US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ту же гласную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то и 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 инфинитиве глагол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нч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увенч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– у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мен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вымен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гласная 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 меняется на 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ил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подпил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горитм правописания гласной перед суффиксом причастий НН и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268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ЫДЕЛЯЮ НН,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1341360"/>
            <a:ext cx="239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нч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23493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ГЛАГОЛА И  ПОДЧЕРКИВАЮ ГЛАСНУЮ ПЕРЕД  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2492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нч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005360"/>
            <a:ext cx="511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ПИШУ  СЛОВО С ГЛАСНОЙ А, Я, Е, КАК  И В ИНФИНИТИВЕ, ПЕРЕД СУФФИКСОМ ПРИЧАСТИЙ НН или Н. Гласная И в инфинитиве становится суффиксом ЕН или ЕНН в причас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43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нч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17:06Z</dcterms:created>
  <dc:creator>Лена</dc:creator>
  <dc:description/>
  <dc:language>en-US</dc:language>
  <cp:lastModifiedBy>Лена</cp:lastModifiedBy>
  <dcterms:modified xsi:type="dcterms:W3CDTF">2009-05-03T10:52:33Z</dcterms:modified>
  <cp:revision>16</cp:revision>
  <dc:subject/>
  <dc:title>Правописание суффиксов причастий</dc:title>
</cp:coreProperties>
</file>