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10.gif" ContentType="image/gif"/>
  <Override PartName="/ppt/media/image6.wmf" ContentType="image/x-wmf"/>
  <Override PartName="/ppt/media/image11.wmf" ContentType="image/x-wmf"/>
  <Override PartName="/ppt/media/image7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018-78AF-44C7-8C6E-3B9489C1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C5D-7A5C-448C-84FF-4A40BFC9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E5A-2880-4EE0-9B3E-A42ED9A3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17C-4C00-4393-8969-C266A9A0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D787-4427-4EB7-8FF5-85ADEA60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4871-FD6B-4514-A79C-048DEDFD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429C-31A6-482A-8D90-5C7AF9FF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23EC-E55B-42E0-95F8-363951E5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06A1-76C6-48CF-AA14-2CA8761B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BEBE-0279-495E-AB31-6E19B8B8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F897-5036-42EB-801D-E4316425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D92-5404-4D99-8D3F-248ABF71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65EC-3D4A-4FEF-A195-63A0B958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4143-BBFB-48F8-B573-C254760C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4AA1-4643-42F8-9F3E-F1E4DDC8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6424-17E2-4468-839D-7E99C54D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21EC-C991-4CDD-BBCB-50FEB733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BBE-13B3-4FAB-B8B7-E79BB9C0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F63-B67C-4794-B028-F37F36EF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094-58B4-4117-BF37-EF536904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59A-12A7-4F08-9499-BC03F7BF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788-6AFE-480B-B01B-FF24B3D1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142-861F-4F39-BB83-DF1677A3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A34-5422-4CEC-A612-D2B43B74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2217-CAAE-4F41-BBE4-E918B73AFE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8C10-FF68-4426-BBEC-A68EF27D72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Present Continuous Ten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оролевство «Настоящее Длительное Время»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ействия в нем происходят </a:t>
            </a: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сейчас, в данный момент, в момент реч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380052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Вопросительное предлож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885080" y="1844640"/>
            <a:ext cx="790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227480"/>
            <a:ext cx="831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+      I       +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rit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598680" cy="814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340000" y="3068640"/>
            <a:ext cx="50472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974520" cy="1100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41800" y="27766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914400" cy="142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6227640" y="1773360"/>
            <a:ext cx="792360" cy="29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Ver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39160" y="27082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40"/>
                            </p:stCondLst>
                            <p:childTnLst>
                              <p:par>
                                <p:cTn id="6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40"/>
                            </p:stCondLst>
                            <p:childTnLst>
                              <p:par>
                                <p:cTn id="6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40"/>
                            </p:stCondLst>
                            <p:childTnLst>
                              <p:par>
                                <p:cTn id="6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40"/>
                            </p:stCondLst>
                            <p:childTnLst>
                              <p:par>
                                <p:cTn id="7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40"/>
                            </p:stCondLst>
                            <p:childTnLst>
                              <p:par>
                                <p:cTn id="7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7040"/>
                            </p:stCondLst>
                            <p:childTnLst>
                              <p:par>
                                <p:cTn id="7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8039"/>
                            </p:stCondLst>
                            <p:childTnLst>
                              <p:par>
                                <p:cTn id="7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9040"/>
                            </p:stCondLst>
                            <p:childTnLst>
                              <p:par>
                                <p:cTn id="7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40"/>
                            </p:stCondLst>
                            <p:childTnLst>
                              <p:par>
                                <p:cTn id="7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Вопросительное предлож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885080" y="1844640"/>
            <a:ext cx="790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28364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la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lleyball with his frie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+      she     +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wash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at the mo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ta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ar the do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819360" cy="1171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660240" cy="808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516720" y="2133720"/>
            <a:ext cx="914400" cy="142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6372360" y="1916280"/>
            <a:ext cx="936360" cy="29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Ver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308720" y="285264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780000" y="3068640"/>
            <a:ext cx="115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e, she,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835280" y="3141720"/>
            <a:ext cx="295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ipe dir="r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40"/>
                            </p:stCondLst>
                            <p:childTnLst>
                              <p:par>
                                <p:cTn id="7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40"/>
                            </p:stCondLst>
                            <p:childTnLst>
                              <p:par>
                                <p:cTn id="7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4040"/>
                            </p:stCondLst>
                            <p:childTnLst>
                              <p:par>
                                <p:cTn id="7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40"/>
                            </p:stCondLst>
                            <p:childTnLst>
                              <p:par>
                                <p:cTn id="78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040"/>
                            </p:stCondLst>
                            <p:childTnLst>
                              <p:par>
                                <p:cTn id="7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7040"/>
                            </p:stCondLst>
                            <p:childTnLst>
                              <p:par>
                                <p:cTn id="8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8039"/>
                            </p:stCondLst>
                            <p:childTnLst>
                              <p:par>
                                <p:cTn id="8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9040"/>
                            </p:stCondLst>
                            <p:childTnLst>
                              <p:par>
                                <p:cTn id="8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40"/>
                            </p:stCondLst>
                            <p:childTnLst>
                              <p:par>
                                <p:cTn id="8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Вопросительное предлож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885080" y="1844640"/>
            <a:ext cx="790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4435920"/>
            <a:ext cx="85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ope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window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+     you     +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going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swimming-p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ing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ice so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920520" cy="992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851280" y="1989000"/>
            <a:ext cx="1341360" cy="1254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300720" y="2133720"/>
            <a:ext cx="914400" cy="1422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6156360" y="1916280"/>
            <a:ext cx="934920" cy="29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Ver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164360" y="285264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835280" y="3141720"/>
            <a:ext cx="5522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708360" y="306864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e, you, 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ipe dir="r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40"/>
                            </p:stCondLst>
                            <p:childTnLst>
                              <p:par>
                                <p:cTn id="8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040"/>
                            </p:stCondLst>
                            <p:childTnLst>
                              <p:par>
                                <p:cTn id="8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4040"/>
                            </p:stCondLst>
                            <p:childTnLst>
                              <p:par>
                                <p:cTn id="8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40"/>
                            </p:stCondLst>
                            <p:childTnLst>
                              <p:par>
                                <p:cTn id="8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040"/>
                            </p:stCondLst>
                            <p:childTnLst>
                              <p:par>
                                <p:cTn id="8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7040"/>
                            </p:stCondLst>
                            <p:childTnLst>
                              <p:par>
                                <p:cTn id="8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8039"/>
                            </p:stCondLst>
                            <p:childTnLst>
                              <p:par>
                                <p:cTn id="8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9040"/>
                            </p:stCondLst>
                            <p:childTnLst>
                              <p:par>
                                <p:cTn id="9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40"/>
                            </p:stCondLst>
                            <p:childTnLst>
                              <p:par>
                                <p:cTn id="9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Правят королевство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1584360" cy="151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547640" y="2133720"/>
            <a:ext cx="865440" cy="37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ow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177336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43120" y="2833560"/>
            <a:ext cx="362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Monotype Corsiva"/>
              </a:rPr>
              <a:t>Now – </a:t>
            </a:r>
            <a:r>
              <a:rPr b="0" lang="ru-RU" sz="4000" spc="-1" strike="noStrike">
                <a:solidFill>
                  <a:srgbClr val="990099"/>
                </a:solidFill>
                <a:latin typeface="Monotype Corsiva"/>
              </a:rPr>
              <a:t>сейча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4508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Monotype Corsiva"/>
              </a:rPr>
              <a:t>At this moment – </a:t>
            </a:r>
            <a:r>
              <a:rPr b="0" lang="ru-RU" sz="4000" spc="-1" strike="noStrike">
                <a:solidFill>
                  <a:srgbClr val="9900cc"/>
                </a:solidFill>
                <a:latin typeface="Monotype Corsiva"/>
              </a:rPr>
              <a:t>в данный момен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659640" y="1590840"/>
            <a:ext cx="2089080" cy="1190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588000" y="2637000"/>
            <a:ext cx="2376720" cy="63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 We You They He She It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Первые лица королевств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050920" y="2257560"/>
            <a:ext cx="7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I - 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56000" y="2328840"/>
            <a:ext cx="1762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We - 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92360" y="4149720"/>
            <a:ext cx="2571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You - ты, 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12000" y="4292640"/>
            <a:ext cx="217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They - о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26920" y="5734080"/>
            <a:ext cx="15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He - 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59280" y="5734080"/>
            <a:ext cx="1990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She - 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51640" y="5805360"/>
            <a:ext cx="319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It - оно, она, 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7280" y="1609560"/>
            <a:ext cx="2314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-е л. ед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59280" y="1679400"/>
            <a:ext cx="84132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н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58920" y="3500280"/>
            <a:ext cx="351468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-е л. ед. и мн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12000" y="3429000"/>
            <a:ext cx="2076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-е л. мн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492360" y="4869000"/>
            <a:ext cx="231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-е л. ед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43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Утвердительное</a:t>
            </a: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предлож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397040"/>
            <a:ext cx="70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           +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I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m wr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24360" y="2421000"/>
            <a:ext cx="598320" cy="814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924360" y="3284640"/>
            <a:ext cx="6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974880" cy="1099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123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580000" y="2133720"/>
            <a:ext cx="914400" cy="142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5435640" y="1989000"/>
            <a:ext cx="865080" cy="29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Ver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516720" y="29242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40"/>
                            </p:stCondLst>
                            <p:childTnLst>
                              <p:par>
                                <p:cTn id="1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4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4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40"/>
                            </p:stCondLst>
                            <p:childTnLst>
                              <p:par>
                                <p:cTn id="2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40"/>
                            </p:stCondLst>
                            <p:childTnLst>
                              <p:par>
                                <p:cTn id="2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40"/>
                            </p:stCondLst>
                            <p:childTnLst>
                              <p:par>
                                <p:cTn id="2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39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659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Утвердительное</a:t>
            </a: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предлож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4731480"/>
            <a:ext cx="705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Look! 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lay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lleyball with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       +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+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S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ash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u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It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s sta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ar the d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819000" cy="1171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140360" y="2276640"/>
            <a:ext cx="660240" cy="80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724360" y="2133720"/>
            <a:ext cx="914400" cy="1422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435640" y="1989000"/>
            <a:ext cx="934920" cy="29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Ver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59640" y="285264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35280" y="3213000"/>
            <a:ext cx="11523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e, She,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356000" y="3213000"/>
            <a:ext cx="295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40"/>
                            </p:stCondLst>
                            <p:childTnLst>
                              <p:par>
                                <p:cTn id="25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40"/>
                            </p:stCondLst>
                            <p:childTnLst>
                              <p:par>
                                <p:cTn id="2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4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4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4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40"/>
                            </p:stCondLst>
                            <p:childTnLst>
                              <p:par>
                                <p:cTn id="2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39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40"/>
                            </p:stCondLst>
                            <p:childTnLst>
                              <p:par>
                                <p:cTn id="3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272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Утвердительное</a:t>
            </a: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предлож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4508640"/>
            <a:ext cx="705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re ope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window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+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You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swimming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Listen! They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re sin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920520" cy="992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835280" y="2170080"/>
            <a:ext cx="1224000" cy="114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914400" cy="1422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724360" y="1916280"/>
            <a:ext cx="863640" cy="29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Ver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77080" y="285264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40360" y="3213000"/>
            <a:ext cx="5522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92360" y="3141720"/>
            <a:ext cx="1657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e, You, 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ipe dir="r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40"/>
                            </p:stCondLst>
                            <p:childTnLst>
                              <p:par>
                                <p:cTn id="33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40"/>
                            </p:stCondLst>
                            <p:childTnLst>
                              <p:par>
                                <p:cTn id="34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40"/>
                            </p:stCondLst>
                            <p:childTnLst>
                              <p:par>
                                <p:cTn id="3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4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40"/>
                            </p:stCondLst>
                            <p:childTnLst>
                              <p:par>
                                <p:cTn id="3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040"/>
                            </p:stCondLst>
                            <p:childTnLst>
                              <p:par>
                                <p:cTn id="3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039"/>
                            </p:stCondLst>
                            <p:childTnLst>
                              <p:par>
                                <p:cTn id="3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9040"/>
                            </p:stCondLst>
                            <p:childTnLst>
                              <p:par>
                                <p:cTn id="3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24360" y="2852640"/>
            <a:ext cx="613080" cy="622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5724360" y="2637000"/>
            <a:ext cx="719280" cy="14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4040" y="3409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Отрицательное предлож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299120"/>
            <a:ext cx="75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           +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m    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I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m not wri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598320" cy="814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924360" y="3284640"/>
            <a:ext cx="646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124000" y="2276640"/>
            <a:ext cx="974880" cy="109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8544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93080" y="2205000"/>
            <a:ext cx="914400" cy="1422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7020000" y="1989000"/>
            <a:ext cx="865080" cy="29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Ver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956720" y="29242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5157720"/>
            <a:ext cx="642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’m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ing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980"/>
                            </p:stCondLst>
                            <p:childTnLst>
                              <p:par>
                                <p:cTn id="41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980"/>
                            </p:stCondLst>
                            <p:childTnLst>
                              <p:par>
                                <p:cTn id="4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980"/>
                            </p:stCondLst>
                            <p:childTnLst>
                              <p:par>
                                <p:cTn id="4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980"/>
                            </p:stCondLst>
                            <p:childTnLst>
                              <p:par>
                                <p:cTn id="4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980"/>
                            </p:stCondLst>
                            <p:childTnLst>
                              <p:par>
                                <p:cTn id="4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980"/>
                            </p:stCondLst>
                            <p:childTnLst>
                              <p:par>
                                <p:cTn id="4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980"/>
                            </p:stCondLst>
                            <p:childTnLst>
                              <p:par>
                                <p:cTn id="4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8980"/>
                            </p:stCondLst>
                            <p:childTnLst>
                              <p:par>
                                <p:cTn id="4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9980"/>
                            </p:stCondLst>
                            <p:childTnLst>
                              <p:par>
                                <p:cTn id="4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98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724360" y="2852640"/>
            <a:ext cx="613080" cy="622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5651640" y="2492280"/>
            <a:ext cx="720720" cy="2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340920"/>
            <a:ext cx="729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Отрицательное предлож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4221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Look! 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lay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lleyball wi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       +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   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+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V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ashing u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It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s not sta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ar the d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819360" cy="1171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211640" y="2276640"/>
            <a:ext cx="660240" cy="807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020000" y="2133720"/>
            <a:ext cx="914400" cy="1422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948360" y="1916280"/>
            <a:ext cx="865440" cy="29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Ver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859880" y="29242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835280" y="3213000"/>
            <a:ext cx="1224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e, She,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356000" y="3141720"/>
            <a:ext cx="295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41400" y="5734080"/>
            <a:ext cx="59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isn’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ing volleyball with his friends at the momen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480"/>
                            </p:stCondLst>
                            <p:childTnLst>
                              <p:par>
                                <p:cTn id="5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480"/>
                            </p:stCondLst>
                            <p:childTnLst>
                              <p:par>
                                <p:cTn id="5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480"/>
                            </p:stCondLst>
                            <p:childTnLst>
                              <p:par>
                                <p:cTn id="5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48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6480"/>
                            </p:stCondLst>
                            <p:childTnLst>
                              <p:par>
                                <p:cTn id="5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980"/>
                            </p:stCondLst>
                            <p:childTnLst>
                              <p:par>
                                <p:cTn id="5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798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8980"/>
                            </p:stCondLst>
                            <p:childTnLst>
                              <p:par>
                                <p:cTn id="5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980"/>
                            </p:stCondLst>
                            <p:childTnLst>
                              <p:par>
                                <p:cTn id="5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24360" y="2852640"/>
            <a:ext cx="613080" cy="622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5651640" y="2421000"/>
            <a:ext cx="64764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Отрицательное предлож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414936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re not ope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window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re     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You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swimming-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Listen! They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re not sin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nice s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920520" cy="992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835280" y="2060640"/>
            <a:ext cx="1341360" cy="125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020000" y="2133720"/>
            <a:ext cx="914400" cy="1422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7020000" y="1916280"/>
            <a:ext cx="863640" cy="29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Ver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885080" y="285264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40360" y="3141720"/>
            <a:ext cx="5522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35280" y="3141720"/>
            <a:ext cx="165564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e, You, 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05400" y="5516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aren’t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to the swimming-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480"/>
                            </p:stCondLst>
                            <p:childTnLst>
                              <p:par>
                                <p:cTn id="5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480"/>
                            </p:stCondLst>
                            <p:childTnLst>
                              <p:par>
                                <p:cTn id="5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480"/>
                            </p:stCondLst>
                            <p:childTnLst>
                              <p:par>
                                <p:cTn id="6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480"/>
                            </p:stCondLst>
                            <p:childTnLst>
                              <p:par>
                                <p:cTn id="6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480"/>
                            </p:stCondLst>
                            <p:childTnLst>
                              <p:par>
                                <p:cTn id="6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6980"/>
                            </p:stCondLst>
                            <p:childTnLst>
                              <p:par>
                                <p:cTn id="6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980"/>
                            </p:stCondLst>
                            <p:childTnLst>
                              <p:par>
                                <p:cTn id="6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980"/>
                            </p:stCondLst>
                            <p:childTnLst>
                              <p:par>
                                <p:cTn id="6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980"/>
                            </p:stCondLst>
                            <p:childTnLst>
                              <p:par>
                                <p:cTn id="6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5:21:43Z</dcterms:created>
  <dc:creator>User1</dc:creator>
  <dc:description/>
  <dc:language>en-US</dc:language>
  <cp:lastModifiedBy>galina.strukova</cp:lastModifiedBy>
  <dcterms:modified xsi:type="dcterms:W3CDTF">2012-01-24T14:41:51Z</dcterms:modified>
  <cp:revision>6</cp:revision>
  <dc:subject/>
  <dc:title>Слайд 1</dc:title>
</cp:coreProperties>
</file>