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DC04-6D6A-4C1C-A894-81DE55E9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0725-F7C0-48EF-BFD8-B5485EBE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B432-47F5-417F-AF40-50784DF8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3B87-5072-4E49-8078-AB673764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B900-0E71-4064-A031-DBA7D3DC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7E79-F4EA-4CDC-9861-0926416F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2E02-81E8-43AA-A383-1DE0432C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F894-2113-4AD3-8EBF-49347797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1371-1ABC-493C-8000-C9AB07B5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BC0E-6155-4ABA-8263-9ABDB2FB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292E-14A4-4C83-B9A2-7F469CE7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9050-F7BA-4597-B57D-13BE5230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E5D9-EF17-499F-A9F4-0A92431F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7C28-A036-4D8C-AE4C-E40A0C02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66AE-15B2-4332-8B09-6CBA24D3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67C2-E1F8-4448-A003-2BC0C132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472A-D114-49A6-A5D0-B18762FD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2A24-10CA-4E8A-9CD9-8634228A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0D84-9135-4EE4-A293-CE9CE400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E11D-E5F7-4A98-B72C-6D3A0856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BB14-2CF2-4B47-8549-986250E8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3E91-D448-42E1-9C73-FD81C981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8B4D-8657-4316-B220-F4C478A5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7EAC-3AD4-464D-818E-A9C471B1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88DB-E45B-43DF-A3B2-9A6D7620EEF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CE9D-2CEB-44FA-A384-3B5F2432823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olesya-emelyanova.ru/stihi/soroka-vorona_25.jpg&amp;imgrefurl=http://olesya-emelyanova.ru/index-stihi-soroka-vorona-zanjatija" TargetMode="External"/><Relationship Id="rId2" Type="http://schemas.openxmlformats.org/officeDocument/2006/relationships/hyperlink" Target="http://fotto.ru/tag/kartinki_fruktov/wsls" TargetMode="External"/><Relationship Id="rId3" Type="http://schemas.openxmlformats.org/officeDocument/2006/relationships/hyperlink" Target="http://www.google.ru/imgres?imgurl=http://pics.livejournal.com/dominicana_faq/pic/0000zx55&amp;imgrefurl=http://dominicana-faq.livejournal.com/5589.html&amp;h=341&amp;w=400&amp;sz=40&amp;tbnid=8n9dfvC_04mNNM:&amp;tbnh=100&amp;tbnw=117&amp;zoom=1&amp;usg=__TYoVuL4FVfeIMwBWzXJ6TsY2axA=&amp;docid=0sgnfuXIlWCEHM&amp;hl=ru&amp;sa=X&amp;ei=_hf9UICXO-eA4gSnzIGgCg&amp;sqi=2&amp;ved=0CDEQ9QEwAQ&amp;dur=369" TargetMode="External"/><Relationship Id="rId4" Type="http://schemas.openxmlformats.org/officeDocument/2006/relationships/hyperlink" Target="http://www.google.ru/imgres?imgurl=http://pics.livejournal.com/dominicana_faq/pic/0000zx55&amp;imgrefurl=http://dominicana-faq.livejournal.com/5589.html&amp;h=341&amp;w=400&amp;sz=40&amp;tbnid=8n9dfvC_04mNNM:&amp;tbnh=100&amp;tbnw=117&amp;zoom=1&amp;usg=__TYoVuL4FVfeIMwBWzXJ6TsY2axA=&amp;docid=0sgnfuXIlWCEHM&amp;hl=ru&amp;sa=X&amp;ei=_hf9UICXO-eA4gSnzIGgCg&amp;sqi=2&amp;ved=0CDEQ9QEwAQ&amp;dur=369" TargetMode="External"/><Relationship Id="rId5" Type="http://schemas.openxmlformats.org/officeDocument/2006/relationships/hyperlink" Target="http://www.google.ru/imgres?imgurl=http://pics.livejournal.com/dominicana_faq/pic/0000zx55&amp;imgrefurl=http://dominicana-faq.livejournal.com/5589.html&amp;h=341&amp;w=400&amp;sz=40&amp;tbnid=8n9dfvC_04mNNM:&amp;tbnh=100&amp;tbnw=117&amp;zoom=1&amp;usg=__TYoVuL4FVfeIMwBWzXJ6TsY2axA=&amp;docid=0sgnfuXIlWCEHM&amp;hl=ru&amp;sa=X&amp;ei=_hf9UICXO-eA4gSnzIGgCg&amp;sqi=2&amp;ved=0CDEQ9QEwAQ&amp;dur=369" TargetMode="External"/><Relationship Id="rId6" Type="http://schemas.openxmlformats.org/officeDocument/2006/relationships/hyperlink" Target="http://www.google.ru/imgres?imgurl=http://pics.livejournal.com/dominicana_faq/pic/0000zx55&amp;imgrefurl=http://dominicana-faq.livejournal.com/5589.html&amp;h=341&amp;w=400&amp;sz=40&amp;tbnid=8n9dfvC_04mNNM:&amp;tbnh=100&amp;tbnw=117&amp;zoom=1&amp;usg=__TYoVuL4FVfeIMwBWzXJ6TsY2axA=&amp;docid=0sgnfuXIlWCEHM&amp;hl=ru&amp;sa=X&amp;ei=_hf9UICXO-eA4gSnzIGgCg&amp;sqi=2&amp;ved=0CDEQ9QEwAQ&amp;dur=369" TargetMode="External"/><Relationship Id="rId7" Type="http://schemas.openxmlformats.org/officeDocument/2006/relationships/hyperlink" Target="http://www.google.ru/imgres?imgurl=http://pics.livejournal.com/dominicana_faq/pic/0000zx55&amp;imgrefurl=http://dominicana-faq.livejournal.com/5589.html&amp;h=341&amp;w=400&amp;sz=40&amp;tbnid=8n9dfvC_04mNNM:&amp;tbnh=100&amp;tbnw=117&amp;zoom=1&amp;usg=__TYoVuL4FVfeIMwBWzXJ6TsY2axA=&amp;docid=0sgnfuXIlWCEHM&amp;hl=ru&amp;sa=X&amp;ei=_hf9UICXO-eA4gSnzIGgCg&amp;sqi=2&amp;ved=0CDEQ9QEwAQ&amp;dur=369" TargetMode="External"/><Relationship Id="rId8" Type="http://schemas.openxmlformats.org/officeDocument/2006/relationships/hyperlink" Target="http://www.google.ru/imgres?imgurl=http://pics.livejournal.com/dominicana_faq/pic/0000zx55&amp;imgrefurl=http://dominicana-faq.livejournal.com/5589.html&amp;h=341&amp;w=400&amp;sz=40&amp;tbnid=8n9dfvC_04mNNM:&amp;tbnh=100&amp;tbnw=117&amp;zoom=1&amp;usg=__TYoVuL4FVfeIMwBWzXJ6TsY2axA=&amp;docid=0sgnfuXIlWCEHM&amp;hl=ru&amp;sa=X&amp;ei=_hf9UICXO-eA4gSnzIGgCg&amp;sqi=2&amp;ved=0CDEQ9QEwAQ&amp;dur=369" TargetMode="External"/><Relationship Id="rId9" Type="http://schemas.openxmlformats.org/officeDocument/2006/relationships/hyperlink" Target="http://www.google.ru/imgres?imgurl=http://pics.livejournal.com/dominicana_faq/pic/0000zx55&amp;imgrefurl=http://dominicana-faq.livejournal.com/5589.html&amp;h=341&amp;w=400&amp;sz=40&amp;tbnid=8n9dfvC_04mNNM:&amp;tbnh=100&amp;tbnw=117&amp;zoom=1&amp;usg=__TYoVuL4FVfeIMwBWzXJ6TsY2axA=&amp;docid=0sgnfuXIlWCEHM&amp;hl=ru&amp;sa=X&amp;ei=_hf9UICXO-eA4gSnzIGgCg&amp;sqi=2&amp;ved=0CDEQ9QEwAQ&amp;dur=369" TargetMode="External"/><Relationship Id="rId10" Type="http://schemas.openxmlformats.org/officeDocument/2006/relationships/hyperlink" Target="http://www.google.ru/imgres?imgurl=http://pics.livejournal.com/dominicana_faq/pic/0000zx55&amp;imgrefurl=http://dominicana-faq.livejournal.com/5589.html&amp;h=341&amp;w=400&amp;sz=40&amp;tbnid=8n9dfvC_04mNNM:&amp;tbnh=100&amp;tbnw=117&amp;zoom=1&amp;usg=__TYoVuL4FVfeIMwBWzXJ6TsY2axA=&amp;docid=0sgnfuXIlWCEHM&amp;hl=ru&amp;sa=X&amp;ei=_hf9UICXO-eA4gSnzIGgCg&amp;sqi=2&amp;ved=0CDEQ9QEwAQ&amp;dur=369" TargetMode="External"/><Relationship Id="rId11" Type="http://schemas.openxmlformats.org/officeDocument/2006/relationships/hyperlink" Target="http://www.google.ru/imgres?imgurl=http://pics.livejournal.com/dominicana_faq/pic/0000zx55&amp;imgrefurl=http://dominicana-faq.livejournal.com/5589.html&amp;h=341&amp;w=400&amp;sz=40&amp;tbnid=8n9dfvC_04mNNM:&amp;tbnh=100&amp;tbnw=117&amp;zoom=1&amp;usg=__TYoVuL4FVfeIMwBWzXJ6TsY2axA=&amp;docid=0sgnfuXIlWCEHM&amp;hl=ru&amp;sa=X&amp;ei=_hf9UICXO-eA4gSnzIGgCg&amp;sqi=2&amp;ved=0CDEQ9QEwAQ&amp;dur=369" TargetMode="External"/><Relationship Id="rId12" Type="http://schemas.openxmlformats.org/officeDocument/2006/relationships/hyperlink" Target="http://www.google.ru/imgres?imgurl=http://pics.livejournal.com/dominicana_faq/pic/0000zx55&amp;imgrefurl=http://dominicana-faq.livejournal.com/5589.html&amp;h=341&amp;w=400&amp;sz=40&amp;tbnid=8n9dfvC_04mNNM:&amp;tbnh=100&amp;tbnw=117&amp;zoom=1&amp;usg=__TYoVuL4FVfeIMwBWzXJ6TsY2axA=&amp;docid=0sgnfuXIlWCEHM&amp;hl=ru&amp;sa=X&amp;ei=_hf9UICXO-eA4gSnzIGgCg&amp;sqi=2&amp;ved=0CDEQ9QEwAQ&amp;dur=369" TargetMode="External"/><Relationship Id="rId13" Type="http://schemas.openxmlformats.org/officeDocument/2006/relationships/hyperlink" Target="http://www.google.ru/imgres?imgurl=http://pics.livejournal.com/dominicana_faq/pic/0000zx55&amp;imgrefurl=http://dominicana-faq.livejournal.com/5589.html&amp;h=341&amp;w=400&amp;sz=40&amp;tbnid=8n9dfvC_04mNNM:&amp;tbnh=100&amp;tbnw=117&amp;zoom=1&amp;usg=__TYoVuL4FVfeIMwBWzXJ6TsY2axA=&amp;docid=0sgnfuXIlWCEHM&amp;hl=ru&amp;sa=X&amp;ei=_hf9UICXO-eA4gSnzIGgCg&amp;sqi=2&amp;ved=0CDEQ9QEwAQ&amp;dur=369" TargetMode="External"/><Relationship Id="rId14" Type="http://schemas.openxmlformats.org/officeDocument/2006/relationships/hyperlink" Target="http://www.google.ru/imgres?imgurl=http://pics.livejournal.com/dominicana_faq/pic/0000zx55&amp;imgrefurl=http://dominicana-faq.livejournal.com/5589.html&amp;h=341&amp;w=400&amp;sz=40&amp;tbnid=8n9dfvC_04mNNM:&amp;tbnh=100&amp;tbnw=117&amp;zoom=1&amp;usg=__TYoVuL4FVfeIMwBWzXJ6TsY2axA=&amp;docid=0sgnfuXIlWCEHM&amp;hl=ru&amp;sa=X&amp;ei=_hf9UICXO-eA4gSnzIGgCg&amp;sqi=2&amp;ved=0CDEQ9QEwAQ&amp;dur=369" TargetMode="External"/><Relationship Id="rId15" Type="http://schemas.openxmlformats.org/officeDocument/2006/relationships/hyperlink" Target="http://www.google.ru/imgres?imgurl=http://pics.livejournal.com/dominicana_faq/pic/0000zx55&amp;imgrefurl=http://dominicana-faq.livejournal.com/5589.html&amp;h=341&amp;w=400&amp;sz=40&amp;tbnid=8n9dfvC_04mNNM:&amp;tbnh=100&amp;tbnw=117&amp;zoom=1&amp;usg=__TYoVuL4FVfeIMwBWzXJ6TsY2axA=&amp;docid=0sgnfuXIlWCEHM&amp;hl=ru&amp;sa=X&amp;ei=_hf9UICXO-eA4gSnzIGgCg&amp;sqi=2&amp;ved=0CDEQ9QEwAQ&amp;dur=369" TargetMode="External"/><Relationship Id="rId16" Type="http://schemas.openxmlformats.org/officeDocument/2006/relationships/hyperlink" Target="http://www.google.ru/imgres?imgurl=http://pics.livejournal.com/dominicana_faq/pic/0000zx55&amp;imgrefurl=http://dominicana-faq.livejournal.com/5589.html&amp;h=341&amp;w=400&amp;sz=40&amp;tbnid=8n9dfvC_04mNNM:&amp;tbnh=100&amp;tbnw=117&amp;zoom=1&amp;usg=__TYoVuL4FVfeIMwBWzXJ6TsY2axA=&amp;docid=0sgnfuXIlWCEHM&amp;hl=ru&amp;sa=X&amp;ei=_hf9UICXO-eA4gSnzIGgCg&amp;sqi=2&amp;ved=0CDEQ9QEwAQ&amp;dur=369" TargetMode="External"/><Relationship Id="rId17" Type="http://schemas.openxmlformats.org/officeDocument/2006/relationships/hyperlink" Target="http://www.google.ru/imgres?imgurl=http://pics.livejournal.com/dominicana_faq/pic/0000zx55&amp;imgrefurl=http://dominicana-faq.livejournal.com/5589.html&amp;h=341&amp;w=400&amp;sz=40&amp;tbnid=8n9dfvC_04mNNM:&amp;tbnh=100&amp;tbnw=117&amp;zoom=1&amp;usg=__TYoVuL4FVfeIMwBWzXJ6TsY2axA=&amp;docid=0sgnfuXIlWCEHM&amp;hl=ru&amp;sa=X&amp;ei=_hf9UICXO-eA4gSnzIGgCg&amp;sqi=2&amp;ved=0CDEQ9QEwAQ&amp;dur=369" TargetMode="External"/><Relationship Id="rId18" Type="http://schemas.openxmlformats.org/officeDocument/2006/relationships/hyperlink" Target="http://www.google.ru/imgres?imgurl=http://www.slavg.net/uploads/posts/2009-08/1251208228_12345.gif&amp;imgrefurl=http://www.slavg.net/news/yarovoenews/238-zhitelyam-yarovogo-predlozhili-razrabotat.html&amp;h=452&amp;w=384&amp;sz=84&amp;tbnid=8G8h1osG-MGjfM:&amp;tbnh=90&amp;tbnw=76&amp;zoom=1&amp;usg=__iBFAuKwcgkdmoDSNP56ktUpSCC0=&amp;docid=Kuagid5iaH49cM&amp;hl=ru&amp;sa=X&amp;ei=-Rz9UPWwHsb04QSQ5oCgAw&amp;sqi=2&amp;ved=0CDEQ9QEwAQ&amp;dur=404" TargetMode="External"/><Relationship Id="rId19" Type="http://schemas.openxmlformats.org/officeDocument/2006/relationships/hyperlink" Target="http://www.google.ru/imgres?imgurl=http://www.slavg.net/uploads/posts/2009-08/1251208228_12345.gif&amp;imgrefurl=http://www.slavg.net/news/yarovoenews/238-zhitelyam-yarovogo-predlozhili-razrabotat.html&amp;h=452&amp;w=384&amp;sz=84&amp;tbnid=8G8h1osG-MGjfM:&amp;tbnh=90&amp;tbnw=76&amp;zoom=1&amp;usg=__iBFAuKwcgkdmoDSNP56ktUpSCC0=&amp;docid=Kuagid5iaH49cM&amp;hl=ru&amp;sa=X&amp;ei=-Rz9UPWwHsb04QSQ5oCgAw&amp;sqi=2&amp;ved=0CDEQ9QEwAQ&amp;dur=404" TargetMode="External"/><Relationship Id="rId20" Type="http://schemas.openxmlformats.org/officeDocument/2006/relationships/hyperlink" Target="http://www.google.ru/imgres?imgurl=http://www.slavg.net/uploads/posts/2009-08/1251208228_12345.gif&amp;imgrefurl=http://www.slavg.net/news/yarovoenews/238-zhitelyam-yarovogo-predlozhili-razrabotat.html&amp;h=452&amp;w=384&amp;sz=84&amp;tbnid=8G8h1osG-MGjfM:&amp;tbnh=90&amp;tbnw=76&amp;zoom=1&amp;usg=__iBFAuKwcgkdmoDSNP56ktUpSCC0=&amp;docid=Kuagid5iaH49cM&amp;hl=ru&amp;sa=X&amp;ei=-Rz9UPWwHsb04QSQ5oCgAw&amp;sqi=2&amp;ved=0CDEQ9QEwAQ&amp;dur=404" TargetMode="External"/><Relationship Id="rId21" Type="http://schemas.openxmlformats.org/officeDocument/2006/relationships/hyperlink" Target="http://www.google.ru/imgres?imgurl=http://www.slavg.net/uploads/posts/2009-08/1251208228_12345.gif&amp;imgrefurl=http://www.slavg.net/news/yarovoenews/238-zhitelyam-yarovogo-predlozhili-razrabotat.html&amp;h=452&amp;w=384&amp;sz=84&amp;tbnid=8G8h1osG-MGjfM:&amp;tbnh=90&amp;tbnw=76&amp;zoom=1&amp;usg=__iBFAuKwcgkdmoDSNP56ktUpSCC0=&amp;docid=Kuagid5iaH49cM&amp;hl=ru&amp;sa=X&amp;ei=-Rz9UPWwHsb04QSQ5oCgAw&amp;sqi=2&amp;ved=0CDEQ9QEwAQ&amp;dur=404" TargetMode="External"/><Relationship Id="rId22" Type="http://schemas.openxmlformats.org/officeDocument/2006/relationships/hyperlink" Target="http://www.google.ru/imgres?imgurl=http://www.slavg.net/uploads/posts/2009-08/1251208228_12345.gif&amp;imgrefurl=http://www.slavg.net/news/yarovoenews/238-zhitelyam-yarovogo-predlozhili-razrabotat.html&amp;h=452&amp;w=384&amp;sz=84&amp;tbnid=8G8h1osG-MGjfM:&amp;tbnh=90&amp;tbnw=76&amp;zoom=1&amp;usg=__iBFAuKwcgkdmoDSNP56ktUpSCC0=&amp;docid=Kuagid5iaH49cM&amp;hl=ru&amp;sa=X&amp;ei=-Rz9UPWwHsb04QSQ5oCgAw&amp;sqi=2&amp;ved=0CDEQ9QEwAQ&amp;dur=404" TargetMode="External"/><Relationship Id="rId23" Type="http://schemas.openxmlformats.org/officeDocument/2006/relationships/hyperlink" Target="http://www.google.ru/imgres?imgurl=http://www.slavg.net/uploads/posts/2009-08/1251208228_12345.gif&amp;imgrefurl=http://www.slavg.net/news/yarovoenews/238-zhitelyam-yarovogo-predlozhili-razrabotat.html&amp;h=452&amp;w=384&amp;sz=84&amp;tbnid=8G8h1osG-MGjfM:&amp;tbnh=90&amp;tbnw=76&amp;zoom=1&amp;usg=__iBFAuKwcgkdmoDSNP56ktUpSCC0=&amp;docid=Kuagid5iaH49cM&amp;hl=ru&amp;sa=X&amp;ei=-Rz9UPWwHsb04QSQ5oCgAw&amp;sqi=2&amp;ved=0CDEQ9QEwAQ&amp;dur=404" TargetMode="External"/><Relationship Id="rId24" Type="http://schemas.openxmlformats.org/officeDocument/2006/relationships/hyperlink" Target="http://www.google.ru/imgres?imgurl=http://www.slavg.net/uploads/posts/2009-08/1251208228_12345.gif&amp;imgrefurl=http://www.slavg.net/news/yarovoenews/238-zhitelyam-yarovogo-predlozhili-razrabotat.html&amp;h=452&amp;w=384&amp;sz=84&amp;tbnid=8G8h1osG-MGjfM:&amp;tbnh=90&amp;tbnw=76&amp;zoom=1&amp;usg=__iBFAuKwcgkdmoDSNP56ktUpSCC0=&amp;docid=Kuagid5iaH49cM&amp;hl=ru&amp;sa=X&amp;ei=-Rz9UPWwHsb04QSQ5oCgAw&amp;sqi=2&amp;ved=0CDEQ9QEwAQ&amp;dur=404" TargetMode="External"/><Relationship Id="rId25" Type="http://schemas.openxmlformats.org/officeDocument/2006/relationships/hyperlink" Target="http://www.google.ru/imgres?imgurl=http://www.slavg.net/uploads/posts/2009-08/1251208228_12345.gif&amp;imgrefurl=http://www.slavg.net/news/yarovoenews/238-zhitelyam-yarovogo-predlozhili-razrabotat.html&amp;h=452&amp;w=384&amp;sz=84&amp;tbnid=8G8h1osG-MGjfM:&amp;tbnh=90&amp;tbnw=76&amp;zoom=1&amp;usg=__iBFAuKwcgkdmoDSNP56ktUpSCC0=&amp;docid=Kuagid5iaH49cM&amp;hl=ru&amp;sa=X&amp;ei=-Rz9UPWwHsb04QSQ5oCgAw&amp;sqi=2&amp;ved=0CDEQ9QEwAQ&amp;dur=404" TargetMode="External"/><Relationship Id="rId26" Type="http://schemas.openxmlformats.org/officeDocument/2006/relationships/hyperlink" Target="http://www.google.ru/imgres?imgurl=http://www.slavg.net/uploads/posts/2009-08/1251208228_12345.gif&amp;imgrefurl=http://www.slavg.net/news/yarovoenews/238-zhitelyam-yarovogo-predlozhili-razrabotat.html&amp;h=452&amp;w=384&amp;sz=84&amp;tbnid=8G8h1osG-MGjfM:&amp;tbnh=90&amp;tbnw=76&amp;zoom=1&amp;usg=__iBFAuKwcgkdmoDSNP56ktUpSCC0=&amp;docid=Kuagid5iaH49cM&amp;hl=ru&amp;sa=X&amp;ei=-Rz9UPWwHsb04QSQ5oCgAw&amp;sqi=2&amp;ved=0CDEQ9QEwAQ&amp;dur=404" TargetMode="External"/><Relationship Id="rId27" Type="http://schemas.openxmlformats.org/officeDocument/2006/relationships/hyperlink" Target="http://www.google.ru/imgres?imgurl=http://www.slavg.net/uploads/posts/2009-08/1251208228_12345.gif&amp;imgrefurl=http://www.slavg.net/news/yarovoenews/238-zhitelyam-yarovogo-predlozhili-razrabotat.html&amp;h=452&amp;w=384&amp;sz=84&amp;tbnid=8G8h1osG-MGjfM:&amp;tbnh=90&amp;tbnw=76&amp;zoom=1&amp;usg=__iBFAuKwcgkdmoDSNP56ktUpSCC0=&amp;docid=Kuagid5iaH49cM&amp;hl=ru&amp;sa=X&amp;ei=-Rz9UPWwHsb04QSQ5oCgAw&amp;sqi=2&amp;ved=0CDEQ9QEwAQ&amp;dur=404" TargetMode="External"/><Relationship Id="rId28" Type="http://schemas.openxmlformats.org/officeDocument/2006/relationships/hyperlink" Target="http://www.google.ru/imgres?imgurl=http://www.slavg.net/uploads/posts/2009-08/1251208228_12345.gif&amp;imgrefurl=http://www.slavg.net/news/yarovoenews/238-zhitelyam-yarovogo-predlozhili-razrabotat.html&amp;h=452&amp;w=384&amp;sz=84&amp;tbnid=8G8h1osG-MGjfM:&amp;tbnh=90&amp;tbnw=76&amp;zoom=1&amp;usg=__iBFAuKwcgkdmoDSNP56ktUpSCC0=&amp;docid=Kuagid5iaH49cM&amp;hl=ru&amp;sa=X&amp;ei=-Rz9UPWwHsb04QSQ5oCgAw&amp;sqi=2&amp;ved=0CDEQ9QEwAQ&amp;dur=404" TargetMode="External"/><Relationship Id="rId29" Type="http://schemas.openxmlformats.org/officeDocument/2006/relationships/hyperlink" Target="http://www.google.ru/imgres?imgurl=http://www.slavg.net/uploads/posts/2009-08/1251208228_12345.gif&amp;imgrefurl=http://www.slavg.net/news/yarovoenews/238-zhitelyam-yarovogo-predlozhili-razrabotat.html&amp;h=452&amp;w=384&amp;sz=84&amp;tbnid=8G8h1osG-MGjfM:&amp;tbnh=90&amp;tbnw=76&amp;zoom=1&amp;usg=__iBFAuKwcgkdmoDSNP56ktUpSCC0=&amp;docid=Kuagid5iaH49cM&amp;hl=ru&amp;sa=X&amp;ei=-Rz9UPWwHsb04QSQ5oCgAw&amp;sqi=2&amp;ved=0CDEQ9QEwAQ&amp;dur=404" TargetMode="External"/><Relationship Id="rId30" Type="http://schemas.openxmlformats.org/officeDocument/2006/relationships/hyperlink" Target="http://www.google.ru/imgres?imgurl=http://www.slavg.net/uploads/posts/2009-08/1251208228_12345.gif&amp;imgrefurl=http://www.slavg.net/news/yarovoenews/238-zhitelyam-yarovogo-predlozhili-razrabotat.html&amp;h=452&amp;w=384&amp;sz=84&amp;tbnid=8G8h1osG-MGjfM:&amp;tbnh=90&amp;tbnw=76&amp;zoom=1&amp;usg=__iBFAuKwcgkdmoDSNP56ktUpSCC0=&amp;docid=Kuagid5iaH49cM&amp;hl=ru&amp;sa=X&amp;ei=-Rz9UPWwHsb04QSQ5oCgAw&amp;sqi=2&amp;ved=0CDEQ9QEwAQ&amp;dur=404" TargetMode="External"/><Relationship Id="rId31" Type="http://schemas.openxmlformats.org/officeDocument/2006/relationships/hyperlink" Target="http://www.google.ru/imgres?imgurl=http://www.slavg.net/uploads/posts/2009-08/1251208228_12345.gif&amp;imgrefurl=http://www.slavg.net/news/yarovoenews/238-zhitelyam-yarovogo-predlozhili-razrabotat.html&amp;h=452&amp;w=384&amp;sz=84&amp;tbnid=8G8h1osG-MGjfM:&amp;tbnh=90&amp;tbnw=76&amp;zoom=1&amp;usg=__iBFAuKwcgkdmoDSNP56ktUpSCC0=&amp;docid=Kuagid5iaH49cM&amp;hl=ru&amp;sa=X&amp;ei=-Rz9UPWwHsb04QSQ5oCgAw&amp;sqi=2&amp;ved=0CDEQ9QEwAQ&amp;dur=404" TargetMode="External"/><Relationship Id="rId32" Type="http://schemas.openxmlformats.org/officeDocument/2006/relationships/hyperlink" Target="http://www.google.ru/imgres?imgurl=http://www.slavg.net/uploads/posts/2009-08/1251208228_12345.gif&amp;imgrefurl=http://www.slavg.net/news/yarovoenews/238-zhitelyam-yarovogo-predlozhili-razrabotat.html&amp;h=452&amp;w=384&amp;sz=84&amp;tbnid=8G8h1osG-MGjfM:&amp;tbnh=90&amp;tbnw=76&amp;zoom=1&amp;usg=__iBFAuKwcgkdmoDSNP56ktUpSCC0=&amp;docid=Kuagid5iaH49cM&amp;hl=ru&amp;sa=X&amp;ei=-Rz9UPWwHsb04QSQ5oCgAw&amp;sqi=2&amp;ved=0CDEQ9QEwAQ&amp;dur=404" TargetMode="External"/><Relationship Id="rId33" Type="http://schemas.openxmlformats.org/officeDocument/2006/relationships/hyperlink" Target="http://www.google.ru/imgres?imgurl=http://www.slavg.net/uploads/posts/2009-08/1251208228_12345.gif&amp;imgrefurl=http://www.slavg.net/news/yarovoenews/238-zhitelyam-yarovogo-predlozhili-razrabotat.html&amp;h=452&amp;w=384&amp;sz=84&amp;tbnid=8G8h1osG-MGjfM:&amp;tbnh=90&amp;tbnw=76&amp;zoom=1&amp;usg=__iBFAuKwcgkdmoDSNP56ktUpSCC0=&amp;docid=Kuagid5iaH49cM&amp;hl=ru&amp;sa=X&amp;ei=-Rz9UPWwHsb04QSQ5oCgAw&amp;sqi=2&amp;ved=0CDEQ9QEwAQ&amp;dur=404" TargetMode="External"/><Relationship Id="rId34" Type="http://schemas.openxmlformats.org/officeDocument/2006/relationships/hyperlink" Target="http://www.google.ru/imgres?imgurl=http://www.slavg.net/uploads/posts/2009-08/1251208228_12345.gif&amp;imgrefurl=http://www.slavg.net/news/yarovoenews/238-zhitelyam-yarovogo-predlozhili-razrabotat.html&amp;h=452&amp;w=384&amp;sz=84&amp;tbnid=8G8h1osG-MGjfM:&amp;tbnh=90&amp;tbnw=76&amp;zoom=1&amp;usg=__iBFAuKwcgkdmoDSNP56ktUpSCC0=&amp;docid=Kuagid5iaH49cM&amp;hl=ru&amp;sa=X&amp;ei=-Rz9UPWwHsb04QSQ5oCgAw&amp;sqi=2&amp;ved=0CDEQ9QEwAQ&amp;dur=404" TargetMode="External"/><Relationship Id="rId35" Type="http://schemas.openxmlformats.org/officeDocument/2006/relationships/hyperlink" Target="http://www.google.ru/imgres?imgurl=http://www.slavg.net/uploads/posts/2009-08/1251208228_12345.gif&amp;imgrefurl=http://www.slavg.net/news/yarovoenews/238-zhitelyam-yarovogo-predlozhili-razrabotat.html&amp;h=452&amp;w=384&amp;sz=84&amp;tbnid=8G8h1osG-MGjfM:&amp;tbnh=90&amp;tbnw=76&amp;zoom=1&amp;usg=__iBFAuKwcgkdmoDSNP56ktUpSCC0=&amp;docid=Kuagid5iaH49cM&amp;hl=ru&amp;sa=X&amp;ei=-Rz9UPWwHsb04QSQ5oCgAw&amp;sqi=2&amp;ved=0CDEQ9QEwAQ&amp;dur=404" TargetMode="External"/><Relationship Id="rId36" Type="http://schemas.openxmlformats.org/officeDocument/2006/relationships/hyperlink" Target="http://www.google.ru/imgres?imgurl=http://www.slavg.net/uploads/posts/2009-08/1251208228_12345.gif&amp;imgrefurl=http://www.slavg.net/news/yarovoenews/238-zhitelyam-yarovogo-predlozhili-razrabotat.html&amp;h=452&amp;w=384&amp;sz=84&amp;tbnid=8G8h1osG-MGjfM:&amp;tbnh=90&amp;tbnw=76&amp;zoom=1&amp;usg=__iBFAuKwcgkdmoDSNP56ktUpSCC0=&amp;docid=Kuagid5iaH49cM&amp;hl=ru&amp;sa=X&amp;ei=-Rz9UPWwHsb04QSQ5oCgAw&amp;sqi=2&amp;ved=0CDEQ9QEwAQ&amp;dur=404" TargetMode="External"/><Relationship Id="rId3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allforchildren.ru/pictures/showimg/school21/school2106jpg.htm" TargetMode="External"/><Relationship Id="rId2" Type="http://schemas.openxmlformats.org/officeDocument/2006/relationships/hyperlink" Target="http://allforchildren.ru/pictures/showimg/school21/school2106jpg.htm" TargetMode="External"/><Relationship Id="rId3" Type="http://schemas.openxmlformats.org/officeDocument/2006/relationships/hyperlink" Target="http://allforchildren.ru/pictures/showimg/school21/school2106jpg.htm" TargetMode="External"/><Relationship Id="rId4" Type="http://schemas.openxmlformats.org/officeDocument/2006/relationships/hyperlink" Target="http://allforchildren.ru/pictures/showimg/school21/school2106jpg.htm" TargetMode="External"/><Relationship Id="rId5" Type="http://schemas.openxmlformats.org/officeDocument/2006/relationships/hyperlink" Target="http://allforchildren.ru/pictures/showimg/school21/school2106jpg.htm" TargetMode="External"/><Relationship Id="rId6" Type="http://schemas.openxmlformats.org/officeDocument/2006/relationships/hyperlink" Target="http://allforchildren.ru/pictures/showimg/school21/school2106jpg.htm" TargetMode="External"/><Relationship Id="rId7" Type="http://schemas.openxmlformats.org/officeDocument/2006/relationships/hyperlink" Target="http://allforchildren.ru/pictures/showimg/school21/school2106jpg.htm" TargetMode="External"/><Relationship Id="rId8" Type="http://schemas.openxmlformats.org/officeDocument/2006/relationships/hyperlink" Target="http://allforchildren.ru/pictures/showimg/school21/school2106jpg.htm" TargetMode="External"/><Relationship Id="rId9" Type="http://schemas.openxmlformats.org/officeDocument/2006/relationships/hyperlink" Target="http://allforchildren.ru/pictures/showimg/school21/school2112jpg.htm" TargetMode="External"/><Relationship Id="rId10" Type="http://schemas.openxmlformats.org/officeDocument/2006/relationships/hyperlink" Target="http://allforchildren.ru/pictures/showimg/school21/school2112jpg.htm" TargetMode="External"/><Relationship Id="rId11" Type="http://schemas.openxmlformats.org/officeDocument/2006/relationships/hyperlink" Target="http://allforchildren.ru/pictures/showimg/school21/school2112jpg.htm" TargetMode="External"/><Relationship Id="rId12" Type="http://schemas.openxmlformats.org/officeDocument/2006/relationships/hyperlink" Target="http://allforchildren.ru/pictures/showimg/school21/school2112jpg.htm" TargetMode="External"/><Relationship Id="rId13" Type="http://schemas.openxmlformats.org/officeDocument/2006/relationships/hyperlink" Target="http://allforchildren.ru/pictures/showimg/school21/school2112jpg.htm" TargetMode="External"/><Relationship Id="rId14" Type="http://schemas.openxmlformats.org/officeDocument/2006/relationships/hyperlink" Target="http://allforchildren.ru/pictures/showimg/school21/school2112jpg.htm" TargetMode="External"/><Relationship Id="rId15" Type="http://schemas.openxmlformats.org/officeDocument/2006/relationships/hyperlink" Target="http://allforchildren.ru/pictures/showimg/school21/school2112jpg.htm" TargetMode="External"/><Relationship Id="rId16" Type="http://schemas.openxmlformats.org/officeDocument/2006/relationships/hyperlink" Target="http://allforchildren.ru/pictures/showimg/school21/school2112jpg.htm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803736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33"/>
                </a:solidFill>
                <a:latin typeface="Garamond"/>
              </a:rPr>
              <a:t>Тема урока: «Учение с увлечением.</a:t>
            </a:r>
            <a:br>
              <a:rPr sz="4700"/>
            </a:br>
            <a:r>
              <a:rPr b="0" lang="en-US" sz="4700" spc="-1" strike="noStrike">
                <a:solidFill>
                  <a:srgbClr val="006633"/>
                </a:solidFill>
                <a:latin typeface="Garamond"/>
              </a:rPr>
              <a:t>( урок закрепления и обобщения)</a:t>
            </a:r>
            <a:endParaRPr b="0" lang="en-US" sz="4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4221000"/>
            <a:ext cx="655344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начальных классов  Филиала МБОУ Староюрьевской сош в с. Новоюрье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тормина Н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175440" y="2852640"/>
            <a:ext cx="278928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Аленуш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ленушк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снулась 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ладк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тянулась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олнцу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лыбнулась 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тянул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ученьк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олотом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Лучик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Лучи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 дается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ленушк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меетс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 вмест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 Аленушко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лыбнулос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олнышко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l_fi" descr=""/>
          <p:cNvPicPr/>
          <p:nvPr/>
        </p:nvPicPr>
        <p:blipFill>
          <a:blip r:embed="rId1"/>
          <a:stretch/>
        </p:blipFill>
        <p:spPr>
          <a:xfrm>
            <a:off x="4356000" y="549360"/>
            <a:ext cx="453708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Ашипк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десь ашип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была и близко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 просто-напрост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пис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не нуж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льно придиратьс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к ведь мож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ждый аписать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il_fi" descr=""/>
          <p:cNvPicPr/>
          <p:nvPr/>
        </p:nvPicPr>
        <p:blipFill>
          <a:blip r:embed="rId1"/>
          <a:stretch/>
        </p:blipFill>
        <p:spPr>
          <a:xfrm>
            <a:off x="5580000" y="404640"/>
            <a:ext cx="302436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28083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Разбор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92360" y="836280"/>
            <a:ext cx="27352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А у нашег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Егорк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Уж с утр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Идут разборк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н машин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Разобрал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се  по пол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Разброса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Были мамин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Час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Удивительно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Крас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Те час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н разобрал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По столу вс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Разброса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03640" y="404280"/>
            <a:ext cx="1871640" cy="29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вор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горке м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Надо с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собр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 Егор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до сборки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н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дут разбор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l_fi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2448000" cy="37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2800" y="-360"/>
            <a:ext cx="8244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3314880"/>
            <a:ext cx="822960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тят – хотя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людца – напьют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уд – пью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il_fi" descr=""/>
          <p:cNvPicPr/>
          <p:nvPr/>
        </p:nvPicPr>
        <p:blipFill>
          <a:blip r:embed="rId1"/>
          <a:stretch/>
        </p:blipFill>
        <p:spPr>
          <a:xfrm>
            <a:off x="5148360" y="476280"/>
            <a:ext cx="280836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егодня на урок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знал, открыл для себя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Я       научился, смог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могу похвалить себя и своих одноклассников за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пасибо за урок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835280" y="6669000"/>
            <a:ext cx="64735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Литератур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утормин А.Г. Вкусные слова. Стихи для детей. Тамбов: Изд-во Тамбовского отделения ОООп « Литфонд России», 200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Источники информации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google.ru/imgres?imgurl=http://olesya-emelyanova.ru/stihi/soroka-vorona_25.jpg&amp;imgrefurl=http://olesya-emelyanova.ru/index-stihi-soroka-vorona-zanjati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fotto.ru/tag/kartinki_fruktov/ws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www.google.ru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imgres?imgurl=http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://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pics.livejournal.com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dominicana_faq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12"/>
              </a:rPr>
              <a:t>/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13"/>
              </a:rPr>
              <a:t>pic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14"/>
              </a:rPr>
              <a:t>/0000zx55&amp;imgrefurl=http://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15"/>
              </a:rPr>
              <a:t>dominicana-faq.livejournal.com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16"/>
              </a:rPr>
              <a:t>/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17"/>
              </a:rPr>
              <a:t>5589.html&amp;h=341&amp;w=400&amp;sz=40&amp;tbnid=8n9dfvC_04mNNM:&amp;tbnh=100&amp;tbnw=117&amp;zoom=1&amp;usg=__TYoVuL4FVfeIMwBWzXJ6TsY2axA=&amp;docid=0sgnfuXIlWCEHM&amp;hl=ru&amp;sa=X&amp;ei=_hf9UICXO-eA4gSnzIGgCg&amp;sqi=2&amp;ved=0CDEQ9QEwAQ&amp;dur=36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18"/>
              </a:rPr>
              <a:t>http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19"/>
              </a:rPr>
              <a:t>://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20"/>
              </a:rPr>
              <a:t>www.google.ru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21"/>
              </a:rPr>
              <a:t>/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22"/>
              </a:rPr>
              <a:t>imgres?imgurl=http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23"/>
              </a:rPr>
              <a:t>://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24"/>
              </a:rPr>
              <a:t>www.slavg.net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25"/>
              </a:rPr>
              <a:t>/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26"/>
              </a:rPr>
              <a:t>uploads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27"/>
              </a:rPr>
              <a:t>/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28"/>
              </a:rPr>
              <a:t>posts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29"/>
              </a:rPr>
              <a:t>/2009-08/1251208228_12345.gif&amp;imgrefurl=http://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30"/>
              </a:rPr>
              <a:t>www.slavg.net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31"/>
              </a:rPr>
              <a:t>/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32"/>
              </a:rPr>
              <a:t>news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33"/>
              </a:rPr>
              <a:t>/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34"/>
              </a:rPr>
              <a:t>yarovoenews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35"/>
              </a:rPr>
              <a:t>/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36"/>
              </a:rPr>
              <a:t>238-zhitelyam-yarovogo-predlozhili-razrabotat.html&amp;h=452&amp;w=384&amp;sz=84&amp;tbnid=8G8h1osG-MGjfM:&amp;tbnh=90&amp;tbnw=76&amp;zoom=1&amp;usg=__iBFAuKwcgkdmoDSNP56ktUpSCC0=&amp;docid=Kuagid5iaH49cM&amp;hl=ru&amp;sa=X&amp;ei=-Rz9UPWwHsb04QSQ5oCgAw&amp;sqi=2&amp;ved=0CDEQ9QEwAQ&amp;dur=40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allforchildren.ru</a:t>
            </a:r>
            <a:r>
              <a:rPr b="0" lang="ru-RU" sz="24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4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pictures</a:t>
            </a:r>
            <a:r>
              <a:rPr b="0" lang="ru-RU" sz="24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4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showimg</a:t>
            </a:r>
            <a:r>
              <a:rPr b="0" lang="ru-RU" sz="24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/school21/school2106jpg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http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://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allforchildren.ru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12"/>
              </a:rPr>
              <a:t>/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13"/>
              </a:rPr>
              <a:t>pictures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14"/>
              </a:rPr>
              <a:t>/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15"/>
              </a:rPr>
              <a:t>showimg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16"/>
              </a:rPr>
              <a:t>/school21/school2112jpg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mirnt.ru/files/ucheba_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moechudo2010.narod2.ru/portfolio/scrn_big_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vperedi.ru/images/toys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t3.gstatic.com/images?q=tbn:ANd9GcTKENPd8t-Vd50aWH6I6F50Q0P6mX0m9QWy3IAKZqgAsZ_aExK4b2FTjBqKw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demiart.ru/forum/journal_uploads/j82674_1234426313.jp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katyaburg.ru/sites/default/files/pictures/zabavnie_jivotnie/rechnoy_rak_foto_0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А. Г. Сутормин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Лесная школа.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241128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тали пт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тром ра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зяли воду из-под кр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сик вым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лап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зяли книж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зяли пап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й попи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ка-кол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е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вою шко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40440" y="1341000"/>
            <a:ext cx="38145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Эта школ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е простая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азывается –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Лесна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Здесь не слышн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Шума, грая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тицы учатся 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гра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у и м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чением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Займемс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 увлечение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l_fi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352728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3640" y="404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400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ЧЕНИЕ С УВЛЕЧЕН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55640" y="3284640"/>
            <a:ext cx="7632720" cy="3620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5600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А.Г. Сутормин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А" descr=""/>
          <p:cNvPicPr/>
          <p:nvPr/>
        </p:nvPicPr>
        <p:blipFill>
          <a:blip r:embed="rId1">
            <a:lum bright="-12000"/>
          </a:blip>
          <a:srcRect l="28868" t="20665" r="50671" b="57721"/>
          <a:stretch/>
        </p:blipFill>
        <p:spPr>
          <a:xfrm>
            <a:off x="2556000" y="1557360"/>
            <a:ext cx="2663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А. Г. Сутормин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 Лесная школа.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В)стали птиц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тром ра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зяли во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-под кра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с.к  (вы)м.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лап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зяли кни.к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зяли папк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.й  (п.)пил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ка-колу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П.)л.те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В) свою школ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а шко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проста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зывается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.сна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десь  (не) слыш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ума, грая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тицы уч.т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гра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у и 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ение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ймемся (с) увлечени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Раки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178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Говорили греки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Враки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Что живу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той реке рак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ащат рак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Грека в реку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могит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Человек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 сказал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Греку раки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Никогд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е слушай врак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&amp;rcy;&amp;iecy;&amp;chcy;&amp;ncy;&amp;ocy;&amp;jcy; &amp;rcy;&amp;acy;&amp;kcy; &amp;fcy;&amp;ocy;&amp;tcy;&amp;ocy; &amp;kcy;&amp;acy;&amp;rcy;&amp;tcy;&amp;icy;&amp;ncy;&amp;kcy;&amp;icy; &amp;vcy;&amp;icy;&amp;dcy;&amp;iecy;&amp;ocy;"/>
          <p:cNvPicPr/>
          <p:nvPr/>
        </p:nvPicPr>
        <p:blipFill>
          <a:blip r:embed="rId1"/>
          <a:stretch/>
        </p:blipFill>
        <p:spPr>
          <a:xfrm>
            <a:off x="3995640" y="333360"/>
            <a:ext cx="316872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кусные слов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295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Начинаются на 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чень вкусные слова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Апельсины и арбузы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Абрикосы и ай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На столе лежит арбуз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импатичный карапуз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Мы возьмем его с друзьям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И попробуем на вкус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Посмотрели- а на на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мотрит сочный ананас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Мы попробовали сами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Угостим теперь и ва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А вот это магазин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магазине- апельсин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04000" y="1599840"/>
            <a:ext cx="188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пельсинами сего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гостим и Вань, и З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чень вкусны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брикосы и ай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 попробовать сего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м придется их ед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l_fi" descr=""/>
          <p:cNvPicPr/>
          <p:nvPr/>
        </p:nvPicPr>
        <p:blipFill>
          <a:blip r:embed="rId1"/>
          <a:stretch/>
        </p:blipFill>
        <p:spPr>
          <a:xfrm>
            <a:off x="3059280" y="1989000"/>
            <a:ext cx="331308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ловарные слов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пельсин, арбуз, абрикос, айва- фрукты и ягода. Магаз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l_fi" descr=""/>
          <p:cNvPicPr/>
          <p:nvPr/>
        </p:nvPicPr>
        <p:blipFill>
          <a:blip r:embed="rId1"/>
          <a:stretch/>
        </p:blipFill>
        <p:spPr>
          <a:xfrm>
            <a:off x="5076720" y="3068640"/>
            <a:ext cx="3333960" cy="309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68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68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Белая ворона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4360" y="1726920"/>
            <a:ext cx="40338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(В)городе  (о,О)мске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 может (в,В)ерон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Ж.ли да был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огда-то в.р.н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(В)небе л.тали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ак ч.рные тучи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оли искали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верное, лучше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ыли он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Ч.рной ночи ч.рней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Ч.рною тен.ю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ни всех пугали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се их всегд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т)себя  (от)гонял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олько однажды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Что хочешь тут делай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.р.на од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казалась вдруг бело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ыла она белог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нега б.л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 никогд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(Не)пугала люде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а это в.р.н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е (не)любил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 даже однажд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много (по)бил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Где бы ты ни был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д (о,О)мском, (в,В)ероной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чень уж трудн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ыть белой в.р.но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il_fi" descr=""/>
          <p:cNvPicPr/>
          <p:nvPr/>
        </p:nvPicPr>
        <p:blipFill>
          <a:blip r:embed="rId1"/>
          <a:stretch/>
        </p:blipFill>
        <p:spPr>
          <a:xfrm>
            <a:off x="2916360" y="1268280"/>
            <a:ext cx="1726920" cy="349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4T15:33:52Z</dcterms:created>
  <dc:creator>natali</dc:creator>
  <dc:description/>
  <dc:language>en-US</dc:language>
  <cp:lastModifiedBy>user</cp:lastModifiedBy>
  <dcterms:modified xsi:type="dcterms:W3CDTF">2013-02-14T09:40:31Z</dcterms:modified>
  <cp:revision>10</cp:revision>
  <dc:subject/>
  <dc:title>Тема урока: «Ученье с увлеченьем. ( урок закрепления и обобщения)</dc:title>
</cp:coreProperties>
</file>