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14.gif" ContentType="image/gif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F780-9E63-4D65-BF28-3B0261F80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571E-83C9-41E3-A9A6-C8979224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2D01-96C4-4F06-92C2-7D1704903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377B-5002-4624-9952-83BF8DED1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52B1-BEFB-4BE9-9589-DA23F6758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FAA8-59CC-40D7-A1BA-987831CE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CCDEF-8E17-4FF8-80F0-847C07A5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55E2-D340-44F0-94FB-9CC33D08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2B82-60B6-4373-81FF-702FCFFE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0F06-0686-4C50-A8BD-998D7D77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7954-CDC9-4E16-8288-81C6ED7E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B565-6E24-40E4-AB21-BA24A25B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AB19-9026-4CD1-823D-E1DA30EF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9EAF-9962-444F-9D04-F66A4602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64C70-6F2B-43F6-A732-621362B7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BB5D-BC55-4F42-A8DB-ECC3327D8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6346-A735-47F0-B51D-96FFD0E52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243C0-0780-4E10-BA4A-38E5AB26D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73C7C-5F81-4863-A79B-58653C85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CE851-29BA-4687-B73E-7D36F31C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0843C-DCCC-4A4B-87A1-FAD016BD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94C53-9C14-4CCB-AC84-D554937B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728B-E12E-4451-9DFA-4D2D23A0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D6697-0EF9-49BD-9C3E-18EC0AF8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9D2A0-4EAF-4CA2-8E5A-04ADBEDD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CAC4A-3F73-4AE9-A2BD-04F3D625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B05AB-1A78-4EC0-9A3F-339CEB15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0CDB8-DCCC-4D29-A94B-0C43FD7D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3FC71-B1A3-4491-B69D-26DBBDDCF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A7446-2E8A-4F0C-A441-1FB273526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2BB7D-77B8-4A34-BF38-451D1D3B8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1CF45-1379-490A-879D-34BE03C2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40678-8F93-4031-AEAF-5819B30A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CED1-79AC-4286-A9AD-1CF33EF9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31F10-6131-4F5E-93A5-71460548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68E87-5FEF-486E-9A5D-8E4FB791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08F22-58E0-455C-8C6D-23B4A18F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E03EE-FB93-4BAF-B197-FB79C2A4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3FA15-D367-4670-8FD8-7CA76C53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46ACA-3FF4-40CF-9C32-46D69FB2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ABA53-4372-46E0-9D48-ED6116D5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8201B-40D2-4F35-BA64-89E56AAEB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45D6E-EC8E-4FD1-94F6-B2CCB7111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EB4CF-FAD2-4E39-9DB5-E049E641B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DCB8-A460-4888-AE42-CEA12046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0B27D-FCF7-4EBE-A967-402516A6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21374-64EC-49AF-95AD-0D87275F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C495D-0743-4AB5-B4C8-00D4797A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31029-605D-471B-90B0-F525E55D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E1E98-4033-48BD-81A9-6FA509C0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6BC2C-CEC6-4421-8654-8A4CD8E5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68F8A-8A8E-4888-BB0C-E03ECD94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6A40E-BEA9-49E9-8724-FBD74069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16E04-551C-4288-BC20-C5C0F1CD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F6E72-4865-401A-9936-13FDA4542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63FB-B3D6-4FCA-ABC5-E0099880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6BBEA-5300-4D95-9563-F44C5A9CC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C532-ABF4-41B6-BF33-7FF68099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25F8-F296-4B77-89CF-4AF96D7D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A074-6687-45B5-90DC-A5B1336D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3E4C-9D20-4B4B-BD1A-B7A6328B639B}" type="slidenum">
              <a:rPr b="0" lang="ru-RU" sz="1100" spc="-1" strike="noStrike">
                <a:solidFill>
                  <a:srgbClr val="b13f9a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FB4D-9C26-491A-8686-E84671909A2C}" type="slidenum">
              <a:rPr b="0" lang="ru-RU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7964-3621-4EAB-9ACA-A9C321770492}" type="slidenum">
              <a:rPr b="0" lang="ru-RU" sz="1100" spc="-1" strike="noStrike">
                <a:solidFill>
                  <a:srgbClr val="b13f9a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CE31-8C69-44CE-AB51-B3325FDB596C}" type="slidenum">
              <a:rPr b="0" lang="ru-RU" sz="1100" spc="-1" strike="noStrike">
                <a:solidFill>
                  <a:srgbClr val="b13f9a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7AC9-E5C5-44B2-9440-2E07D9C9333F}" type="slidenum">
              <a:rPr b="0" lang="ru-RU" sz="1100" spc="-1" strike="noStrike">
                <a:solidFill>
                  <a:srgbClr val="b13f9a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2908440" y="-6480"/>
            <a:ext cx="6022800" cy="45910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5157360"/>
            <a:ext cx="5114880" cy="1150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АВТОР ПРОЕКТА: ПЕДАГОГ-ПСИХОЛОГ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МБДОУ №215 « Колосок» г. Ульяновс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Парахина Е.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882720"/>
          </a:xfrm>
          <a:prstGeom prst="rect">
            <a:avLst/>
          </a:prstGeom>
          <a:ln w="0">
            <a:noFill/>
          </a:ln>
        </p:spPr>
      </p:pic>
      <p:pic>
        <p:nvPicPr>
          <p:cNvPr id="223" name="Содержимое 3" descr="Безымянный.png"/>
          <p:cNvPicPr/>
          <p:nvPr/>
        </p:nvPicPr>
        <p:blipFill>
          <a:blip r:embed="rId2"/>
          <a:stretch/>
        </p:blipFill>
        <p:spPr>
          <a:xfrm>
            <a:off x="946080" y="1628640"/>
            <a:ext cx="6147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371520" y="542880"/>
            <a:ext cx="7486560" cy="31082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C:\Users\123\Desktop\2.png"/>
          <p:cNvPicPr/>
          <p:nvPr/>
        </p:nvPicPr>
        <p:blipFill>
          <a:blip r:embed="rId2"/>
          <a:stretch/>
        </p:blipFill>
        <p:spPr>
          <a:xfrm>
            <a:off x="2556000" y="3933720"/>
            <a:ext cx="3168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244440" y="-60480"/>
            <a:ext cx="7461360" cy="16941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3635280" y="1773000"/>
            <a:ext cx="4392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Рисунок 3" descr="http://www.kirov.spb.ru/dou/31/images/stories/kids1.JPG"/>
          <p:cNvPicPr/>
          <p:nvPr/>
        </p:nvPicPr>
        <p:blipFill>
          <a:blip r:embed="rId2"/>
          <a:stretch/>
        </p:blipFill>
        <p:spPr>
          <a:xfrm>
            <a:off x="1403280" y="1844640"/>
            <a:ext cx="5472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219240" y="-23760"/>
            <a:ext cx="7735680" cy="1157400"/>
          </a:xfrm>
          <a:prstGeom prst="rect">
            <a:avLst/>
          </a:prstGeom>
          <a:ln w="0">
            <a:noFill/>
          </a:ln>
        </p:spPr>
      </p:pic>
      <p:pic>
        <p:nvPicPr>
          <p:cNvPr id="230" name="Содержимое 3" descr=""/>
          <p:cNvPicPr/>
          <p:nvPr/>
        </p:nvPicPr>
        <p:blipFill>
          <a:blip r:embed="rId2"/>
          <a:stretch/>
        </p:blipFill>
        <p:spPr>
          <a:xfrm>
            <a:off x="539640" y="1052640"/>
            <a:ext cx="7272360" cy="523548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3"/>
          <p:cNvSpPr/>
          <p:nvPr/>
        </p:nvSpPr>
        <p:spPr>
          <a:xfrm>
            <a:off x="0" y="5950080"/>
            <a:ext cx="80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аграмма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Сравнительные показатели  уровней познавательного развит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816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C:\Users\123\Desktop\4.png"/>
          <p:cNvPicPr/>
          <p:nvPr/>
        </p:nvPicPr>
        <p:blipFill>
          <a:blip r:embed="rId2"/>
          <a:stretch/>
        </p:blipFill>
        <p:spPr>
          <a:xfrm>
            <a:off x="4716360" y="2000160"/>
            <a:ext cx="3168720" cy="3373560"/>
          </a:xfrm>
          <a:prstGeom prst="rect">
            <a:avLst/>
          </a:prstGeom>
          <a:ln w="0">
            <a:noFill/>
          </a:ln>
        </p:spPr>
      </p:pic>
      <p:sp>
        <p:nvSpPr>
          <p:cNvPr id="234" name="Прямоугольник 3"/>
          <p:cNvSpPr/>
          <p:nvPr/>
        </p:nvSpPr>
        <p:spPr>
          <a:xfrm>
            <a:off x="539640" y="1582560"/>
            <a:ext cx="4032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Компьютерные игры влия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на познавательное развит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Использование компьютерных упражн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позволяет повыси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уровень познаватель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развития, формировать положи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отношение к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Использование развивающих компьютерных игр  является обогащающим и преобразующим фактором развивающей предметной ср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259920"/>
            <a:ext cx="7238880" cy="6195960"/>
          </a:xfrm>
          <a:prstGeom prst="rect">
            <a:avLst/>
          </a:prstGeom>
          <a:solidFill>
            <a:srgbClr val="a34b73"/>
          </a:solidFill>
          <a:ln w="936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cbb8b"/>
                </a:solidFill>
                <a:latin typeface="Calibri"/>
              </a:rPr>
              <a:t>       </a:t>
            </a:r>
            <a:r>
              <a:rPr b="1" lang="ru-RU" sz="5400" spc="-1" strike="noStrike">
                <a:solidFill>
                  <a:srgbClr val="fcbb8b"/>
                </a:solidFill>
                <a:latin typeface="Calibri"/>
              </a:rPr>
              <a:t>ЗА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4" descr="C:\Users\123\Desktop\184.gif"/>
          <p:cNvPicPr/>
          <p:nvPr/>
        </p:nvPicPr>
        <p:blipFill>
          <a:blip r:embed="rId1"/>
          <a:stretch/>
        </p:blipFill>
        <p:spPr>
          <a:xfrm>
            <a:off x="1403280" y="549360"/>
            <a:ext cx="532944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6T12:07:54Z</dcterms:created>
  <dc:creator>123</dc:creator>
  <dc:description/>
  <dc:language>en-US</dc:language>
  <cp:lastModifiedBy>123</cp:lastModifiedBy>
  <dcterms:modified xsi:type="dcterms:W3CDTF">2013-06-19T16:48:16Z</dcterms:modified>
  <cp:revision>21</cp:revision>
  <dc:subject/>
  <dc:title>Слайд 1</dc:title>
</cp:coreProperties>
</file>