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8F7-8297-4A0C-814F-23BDDE59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A4A-A32B-4D58-8AA6-45B8EA19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F3A-6A15-4F29-8429-7D6DE17B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F89-161B-4920-81DB-EEDC4F0B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BD73-934D-4452-ABC9-E559F7E9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A3FF-0EC8-4BBD-AB00-A940610A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5D5E-FDC3-4C03-903F-D6B21BCE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D14F-3E59-4514-8483-FCC278BE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4AE4-2387-4C99-946C-589D0D13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071C-9AF0-40D6-8E34-50E04271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7AA4-F7E4-455A-B8FF-9B08E655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9FF-9819-430C-9FEC-F6A8ADA0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5829-F385-4640-B357-B1D08FE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FCE1-AF35-43F8-8406-12F3C916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F516-B91F-453E-BD21-1DBCE467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317-56E6-4A20-B583-FDF82A77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94CC-A8E6-4D08-B39B-4A01E7DA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85C-2C42-417A-A026-29CAC7FF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8DB-915F-4BDF-A1C9-F4B49F9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486-B5D6-402B-B729-41CE1595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A58-5459-4F65-96CC-0CE59E4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D91-6345-4583-A359-CD0DC88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839-DA0B-4EC3-9C51-9D312466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172-28BC-4C0E-99E1-DD16EC04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8B43-23A3-4655-B151-E58AE03DD57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E8F-063E-43C1-A69B-560F3084E46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ahom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Tahoma"/>
              </a:rPr>
              <a:t>Консультация для   родителей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Тема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«Образ жизни семьи и здоровье     ребен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дготовила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Диброва Оксана Ивановна – воспитатель МДОУ д\с №32 п. Птич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79261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Что способствует укреплению здоровь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и предпринимается родителями с этой целью?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Диаграмма 6"/>
          <p:cNvGraphicFramePr/>
          <p:nvPr/>
        </p:nvGraphicFramePr>
        <p:xfrm>
          <a:off x="1619280" y="1700280"/>
          <a:ext cx="662472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62472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6"/>
          <p:cNvSpPr/>
          <p:nvPr/>
        </p:nvSpPr>
        <p:spPr>
          <a:xfrm>
            <a:off x="0" y="596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ahoma"/>
              </a:rPr>
              <a:t>Факторы, влияющие на приобщение детей к ЗОЖ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059280" y="1916280"/>
            <a:ext cx="3930480" cy="91440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Личный пример членов семь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89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3348000" y="2924280"/>
            <a:ext cx="3529080" cy="115236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Учебно-воспитательный процесс в ДО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39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3635280" y="4149720"/>
            <a:ext cx="3024360" cy="1130400"/>
          </a:xfrm>
          <a:prstGeom prst="ellipse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Личные наблюдения реб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11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979640" y="42210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7524720" y="42210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556000" y="5372280"/>
            <a:ext cx="5111640" cy="1296720"/>
          </a:xfrm>
          <a:prstGeom prst="rect">
            <a:avLst/>
          </a:prstGeom>
          <a:solidFill>
            <a:srgbClr val="fde9d9"/>
          </a:solidFill>
          <a:ln w="2844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Хотя родители и признают значение личного примера в формировании здорового образа жизни и основным источником информации для них служит жизненный опыт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,  их пример явно нельзя рассматривать как позитив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15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15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0" y="24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0" y="24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24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Диаграмма 2"/>
          <p:cNvGraphicFramePr/>
          <p:nvPr/>
        </p:nvGraphicFramePr>
        <p:xfrm>
          <a:off x="1476360" y="620640"/>
          <a:ext cx="684072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20640"/>
                    <a:ext cx="684072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6"/>
          <p:cNvSpPr/>
          <p:nvPr/>
        </p:nvSpPr>
        <p:spPr>
          <a:xfrm>
            <a:off x="0" y="385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1"/>
          <p:cNvPicPr/>
          <p:nvPr/>
        </p:nvPicPr>
        <p:blipFill>
          <a:blip r:embed="rId1"/>
          <a:stretch/>
        </p:blipFill>
        <p:spPr>
          <a:xfrm>
            <a:off x="0" y="0"/>
            <a:ext cx="4105440" cy="5800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2"/>
          <p:cNvPicPr/>
          <p:nvPr/>
        </p:nvPicPr>
        <p:blipFill>
          <a:blip r:embed="rId2"/>
          <a:stretch/>
        </p:blipFill>
        <p:spPr>
          <a:xfrm>
            <a:off x="2268360" y="549360"/>
            <a:ext cx="4096080" cy="5781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3"/>
          <p:cNvPicPr/>
          <p:nvPr/>
        </p:nvPicPr>
        <p:blipFill>
          <a:blip r:embed="rId3"/>
          <a:stretch/>
        </p:blipFill>
        <p:spPr>
          <a:xfrm>
            <a:off x="5048280" y="1066680"/>
            <a:ext cx="4095720" cy="579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41200" y="2327040"/>
            <a:ext cx="739908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9900"/>
                </a:solidFill>
                <a:latin typeface="Bookman Old Style"/>
              </a:rPr>
              <a:t>Движение – это жизнь, развитие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Необходимо двигаться, играть с детьми и тогда они будут здоровы и счастлив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12"/>
          <p:cNvSpPr/>
          <p:nvPr/>
        </p:nvSpPr>
        <p:spPr>
          <a:xfrm>
            <a:off x="3419640" y="1052640"/>
            <a:ext cx="2835000" cy="1751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радиционные формы оздоро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11"/>
          <p:cNvCxnSpPr/>
          <p:nvPr/>
        </p:nvCxnSpPr>
        <p:spPr>
          <a:xfrm flipH="1">
            <a:off x="2626920" y="2421000"/>
            <a:ext cx="86760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10"/>
          <p:cNvCxnSpPr/>
          <p:nvPr/>
        </p:nvCxnSpPr>
        <p:spPr>
          <a:xfrm flipH="1">
            <a:off x="3419640" y="2781360"/>
            <a:ext cx="58140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9"/>
          <p:cNvCxnSpPr/>
          <p:nvPr/>
        </p:nvCxnSpPr>
        <p:spPr>
          <a:xfrm>
            <a:off x="5148000" y="2707920"/>
            <a:ext cx="523080" cy="83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8"/>
          <p:cNvCxnSpPr/>
          <p:nvPr/>
        </p:nvCxnSpPr>
        <p:spPr>
          <a:xfrm>
            <a:off x="5867280" y="2133360"/>
            <a:ext cx="689760" cy="15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Oval 7"/>
          <p:cNvSpPr/>
          <p:nvPr/>
        </p:nvSpPr>
        <p:spPr>
          <a:xfrm>
            <a:off x="900000" y="2492280"/>
            <a:ext cx="179712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Физические упраж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1692360" y="3573360"/>
            <a:ext cx="2448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Гигиеническ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и водные процеду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4788000" y="3645000"/>
            <a:ext cx="23032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Свето-воздушные ван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6588000" y="2133720"/>
            <a:ext cx="201636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Активный отд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50920" y="195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684360" y="195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53"/>
          <p:cNvSpPr/>
          <p:nvPr/>
        </p:nvSpPr>
        <p:spPr>
          <a:xfrm>
            <a:off x="3708360" y="2421000"/>
            <a:ext cx="3168720" cy="1584360"/>
          </a:xfrm>
          <a:prstGeom prst="ellipse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Нетрадиционные формы оздоро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52"/>
          <p:cNvSpPr/>
          <p:nvPr/>
        </p:nvSpPr>
        <p:spPr>
          <a:xfrm>
            <a:off x="1835280" y="1341360"/>
            <a:ext cx="203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Дыхательная и звуковая гимнаст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51"/>
          <p:cNvSpPr/>
          <p:nvPr/>
        </p:nvSpPr>
        <p:spPr>
          <a:xfrm>
            <a:off x="6156360" y="1197000"/>
            <a:ext cx="20876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Пальчиковая гимнаст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50"/>
          <p:cNvSpPr/>
          <p:nvPr/>
        </p:nvSpPr>
        <p:spPr>
          <a:xfrm>
            <a:off x="6948360" y="2349360"/>
            <a:ext cx="194328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«дорожки здоровь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49"/>
          <p:cNvSpPr/>
          <p:nvPr/>
        </p:nvSpPr>
        <p:spPr>
          <a:xfrm>
            <a:off x="4067280" y="836640"/>
            <a:ext cx="17622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Точечный масса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8"/>
          <p:cNvSpPr/>
          <p:nvPr/>
        </p:nvSpPr>
        <p:spPr>
          <a:xfrm>
            <a:off x="1547640" y="3716280"/>
            <a:ext cx="215748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Игровой массаж, самомасса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7"/>
          <p:cNvSpPr/>
          <p:nvPr/>
        </p:nvSpPr>
        <p:spPr>
          <a:xfrm>
            <a:off x="3203640" y="4653000"/>
            <a:ext cx="20113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Гимнастика пробу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46"/>
          <p:cNvSpPr/>
          <p:nvPr/>
        </p:nvSpPr>
        <p:spPr>
          <a:xfrm>
            <a:off x="6732720" y="3500280"/>
            <a:ext cx="20160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Арома- и фитотерап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45"/>
          <p:cNvSpPr/>
          <p:nvPr/>
        </p:nvSpPr>
        <p:spPr>
          <a:xfrm>
            <a:off x="1116000" y="2492280"/>
            <a:ext cx="208296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Психогимнас-тика и релакс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44"/>
          <p:cNvSpPr/>
          <p:nvPr/>
        </p:nvSpPr>
        <p:spPr>
          <a:xfrm>
            <a:off x="5435640" y="4437000"/>
            <a:ext cx="20160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узтерап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395280" y="1230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65"/>
          <p:cNvSpPr/>
          <p:nvPr/>
        </p:nvSpPr>
        <p:spPr>
          <a:xfrm>
            <a:off x="103320" y="1466280"/>
            <a:ext cx="2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се родители хотят видеть своих детей счастливыми. Основа счастья -это здоровье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2" name="Содержимое 4" descr="i.jpg"/>
          <p:cNvPicPr/>
          <p:nvPr/>
        </p:nvPicPr>
        <p:blipFill>
          <a:blip r:embed="rId1"/>
          <a:stretch/>
        </p:blipFill>
        <p:spPr>
          <a:xfrm>
            <a:off x="1116000" y="3860640"/>
            <a:ext cx="3695760" cy="278460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5" descr="small_information_items_73.jpg"/>
          <p:cNvPicPr/>
          <p:nvPr/>
        </p:nvPicPr>
        <p:blipFill>
          <a:blip r:embed="rId2"/>
          <a:stretch/>
        </p:blipFill>
        <p:spPr>
          <a:xfrm>
            <a:off x="5867280" y="4292640"/>
            <a:ext cx="26290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Ожидаемые результ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имулирование повышения внимания родителей к вопросам здоровья, питания, здорового образа жизни, рациональной двигательной актив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ктуальн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  <a:ea typeface="Narkisim"/>
              </a:rPr>
              <a:t>Здоровье – бесценное достояние     не только  каждого человека, но и всего об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Цель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динить усилия семьи и детского сада в решении задач, связанных с укреплением здоровья детей, сформировать у родителей практические умения и навыки, значимые для формирования у детей здорового образа жиз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Задачи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Заинтересовать родителей укреплять здоровый образ жизни в сем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Расширять знания родителей о физических умениях и навыках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Участники                     Тип проекта: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оекта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о-творческий, группо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"/>
          <p:cNvSpPr/>
          <p:nvPr/>
        </p:nvSpPr>
        <p:spPr>
          <a:xfrm>
            <a:off x="3419640" y="1125360"/>
            <a:ext cx="3135240" cy="1224000"/>
          </a:xfrm>
          <a:prstGeom prst="rect">
            <a:avLst/>
          </a:prstGeom>
          <a:solidFill>
            <a:srgbClr val="fabf8f"/>
          </a:solidFill>
          <a:ln w="12600">
            <a:solidFill>
              <a:srgbClr val="0d0d0d"/>
            </a:solidFill>
            <a:miter/>
          </a:ln>
          <a:effectLst>
            <a:outerShdw dist="153753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Monotype Corsiva"/>
                <a:ea typeface="Times New Roman"/>
              </a:rPr>
              <a:t>Наблюдение за взаимоотноше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Monotype Corsiva"/>
                <a:ea typeface="Times New Roman"/>
              </a:rPr>
              <a:t>родителей и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1" name="AutoShape 9"/>
          <p:cNvCxnSpPr/>
          <p:nvPr/>
        </p:nvCxnSpPr>
        <p:spPr>
          <a:xfrm flipH="1">
            <a:off x="2484000" y="1699920"/>
            <a:ext cx="891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8"/>
          <p:cNvCxnSpPr/>
          <p:nvPr/>
        </p:nvCxnSpPr>
        <p:spPr>
          <a:xfrm flipH="1">
            <a:off x="6587280" y="1700280"/>
            <a:ext cx="793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AutoShape 7"/>
          <p:cNvCxnSpPr/>
          <p:nvPr/>
        </p:nvCxnSpPr>
        <p:spPr>
          <a:xfrm>
            <a:off x="2484000" y="1699920"/>
            <a:ext cx="10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6"/>
          <p:cNvCxnSpPr/>
          <p:nvPr/>
        </p:nvCxnSpPr>
        <p:spPr>
          <a:xfrm>
            <a:off x="7380000" y="1699920"/>
            <a:ext cx="10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5"/>
          <p:cNvSpPr/>
          <p:nvPr/>
        </p:nvSpPr>
        <p:spPr>
          <a:xfrm>
            <a:off x="900000" y="2565360"/>
            <a:ext cx="3479760" cy="35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  <a:ea typeface="Times New Roman"/>
              </a:rPr>
              <a:t>1. Стиль взаимоотношений родителей с детьм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эмоциональная окраска этих взаимоотнош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характер обращения к ребен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интонации высказываний / употребление уменьшительно-ласкательных, грубых сл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наличие замечаний, нравоуч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вопросы о проведенном д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стиль помощи ребен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580000" y="2565360"/>
            <a:ext cx="3395880" cy="35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2. Что интересует родителей о жизни ребенка в детском саду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его пове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успехи на занятия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аппети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дневной с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развитие культурно-гигиенических навы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нравственные качества реб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- общение со сверстни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-228600" y="139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228600" y="1398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едварительная рабо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кетирование родителей с целью выявления знаний и умений в области здорового образа жизни, организации двигательной активности детей, выполнение режимных моментов в семь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Ценностные ориентации родител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2411280" y="2565360"/>
            <a:ext cx="687600" cy="6415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6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8"/>
          <p:cNvSpPr/>
          <p:nvPr/>
        </p:nvSpPr>
        <p:spPr>
          <a:xfrm>
            <a:off x="2411280" y="3332160"/>
            <a:ext cx="687600" cy="60156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6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2411280" y="4076640"/>
            <a:ext cx="666720" cy="57636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3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6"/>
          <p:cNvSpPr/>
          <p:nvPr/>
        </p:nvSpPr>
        <p:spPr>
          <a:xfrm>
            <a:off x="2411280" y="4797360"/>
            <a:ext cx="666720" cy="57636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1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2411280" y="5516640"/>
            <a:ext cx="666720" cy="5713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1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3"/>
          <p:cNvSpPr/>
          <p:nvPr/>
        </p:nvSpPr>
        <p:spPr>
          <a:xfrm>
            <a:off x="3179880" y="2565360"/>
            <a:ext cx="2851200" cy="641520"/>
          </a:xfrm>
          <a:prstGeom prst="rect">
            <a:avLst/>
          </a:prstGeom>
          <a:solidFill>
            <a:srgbClr val="e5df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Крепкое здоровь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3179880" y="3332160"/>
            <a:ext cx="2851200" cy="601560"/>
          </a:xfrm>
          <a:prstGeom prst="rect">
            <a:avLst/>
          </a:prstGeom>
          <a:solidFill>
            <a:srgbClr val="daee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Морально-нравственные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3203640" y="4076640"/>
            <a:ext cx="2851200" cy="57636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3203640" y="4797360"/>
            <a:ext cx="2851200" cy="571680"/>
          </a:xfrm>
          <a:prstGeom prst="rect">
            <a:avLst/>
          </a:prstGeom>
          <a:solidFill>
            <a:srgbClr val="eaf1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Материальное благополуч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3203640" y="5516640"/>
            <a:ext cx="2851200" cy="576360"/>
          </a:xfrm>
          <a:prstGeom prst="rect">
            <a:avLst/>
          </a:prstGeom>
          <a:solidFill>
            <a:srgbClr val="dbe5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  <a:ea typeface="Times New Roman"/>
              </a:rPr>
              <a:t>Волевые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4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1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причины, мешающие родителям уделять большее внимание здоровью детей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2916360" y="2133720"/>
            <a:ext cx="2482560" cy="1460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Arial"/>
                <a:ea typeface="Times New Roman"/>
              </a:rPr>
              <a:t>Дефицит времени вследствие высокой профессиональной занятости (61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364000" y="3429000"/>
            <a:ext cx="2482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Arial"/>
                <a:ea typeface="Times New Roman"/>
              </a:rPr>
              <a:t>Отсутствие специальных знаний и умений (39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2987640" y="4869000"/>
            <a:ext cx="2482920" cy="141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Arial"/>
                <a:ea typeface="Times New Roman"/>
              </a:rPr>
              <a:t>Недостаточный уровень материальной обеспеченности (28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351080" y="25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255680" y="3471840"/>
            <a:ext cx="1228680" cy="2219400"/>
          </a:xfrm>
          <a:custGeom>
            <a:avLst/>
            <a:gdLst>
              <a:gd name="textAreaLeft" fmla="*/ 59760 w 1228680"/>
              <a:gd name="textAreaRight" fmla="*/ 1168920 w 1228680"/>
              <a:gd name="textAreaTop" fmla="*/ 59760 h 2219400"/>
              <a:gd name="textAreaBottom" fmla="*/ 2159640 h 2219400"/>
            </a:gdLst>
            <a:ahLst/>
            <a:rect l="textAreaLeft" t="textAreaTop" r="textAreaRight" b="textAreaBottom"/>
            <a:pathLst>
              <a:path w="21600" h="39012">
                <a:moveTo>
                  <a:pt x="3600" y="0"/>
                </a:moveTo>
                <a:arcTo wR="3600" hR="3600" stAng="16200000" swAng="-5400000"/>
                <a:lnTo>
                  <a:pt x="0" y="35412"/>
                </a:lnTo>
                <a:arcTo wR="3600" hR="3600" stAng="10800000" swAng="-5400000"/>
                <a:lnTo>
                  <a:pt x="18000" y="39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974706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Arial"/>
                <a:ea typeface="Times New Roman"/>
              </a:rPr>
              <a:t>Основные причины, мешающие родителям уделять большее внимание здоровью де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20:45:53Z</dcterms:created>
  <dc:creator>Архипов Н.И.</dc:creator>
  <dc:description/>
  <dc:language>en-US</dc:language>
  <cp:lastModifiedBy>Queen</cp:lastModifiedBy>
  <dcterms:modified xsi:type="dcterms:W3CDTF">2011-11-02T08:01:24Z</dcterms:modified>
  <cp:revision>55</cp:revision>
  <dc:subject/>
  <dc:title>Слайд 1</dc:title>
</cp:coreProperties>
</file>