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12.png" ContentType="image/png"/>
  <Override PartName="/ppt/media/image4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1.jpeg" ContentType="image/jpeg"/>
  <Override PartName="/ppt/media/image41.png" ContentType="image/png"/>
  <Override PartName="/ppt/media/image44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81675-AE65-4D91-9867-BF51B7F6B5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170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820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942000"/>
            <a:ext cx="818820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68342-35E8-4C21-AA23-A8CBBD26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170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564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399564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42000"/>
            <a:ext cx="399564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2640" y="3942000"/>
            <a:ext cx="399564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191EB-660B-4F83-87CE-4618EF82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170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628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5240" y="1599840"/>
            <a:ext cx="263628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3640" y="1599840"/>
            <a:ext cx="263628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942000"/>
            <a:ext cx="263628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5240" y="3942000"/>
            <a:ext cx="263628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3640" y="3942000"/>
            <a:ext cx="263628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9AA67-2B9A-4C85-BF6A-C20BC82D30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170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8820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98E5F-1595-49BE-8B64-DA4D12F6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170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820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8F345-AE95-4F41-851F-A33E4699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170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564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399564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637C-B269-421A-BF2C-C125C3F7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170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64E50-B9B3-4524-93EE-F411B892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170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A7574-BD9E-475A-97AF-119BA013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170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564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399564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42000"/>
            <a:ext cx="399564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BA40D-5E2C-47DE-8E32-0267B827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170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564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399564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2640" y="3942000"/>
            <a:ext cx="399564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4FCC7-D8DC-46AB-841F-F865905A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170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564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399564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42000"/>
            <a:ext cx="818820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EB2F1-6375-499C-948B-2DC77F86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170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3333"/>
                </a:solidFill>
                <a:latin typeface="Microsoft Sans Serif"/>
              </a:rPr>
              <a:t>Click to edit the title text format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8820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01640" indent="-244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09232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7280" y="-3240"/>
            <a:ext cx="164520" cy="6838920"/>
            <a:chOff x="17280" y="-3240"/>
            <a:chExt cx="164520" cy="6838920"/>
          </a:xfrm>
        </p:grpSpPr>
        <p:sp>
          <p:nvSpPr>
            <p:cNvPr id="5" name=""/>
            <p:cNvSpPr/>
            <p:nvPr/>
          </p:nvSpPr>
          <p:spPr>
            <a:xfrm flipH="1">
              <a:off x="158400" y="0"/>
              <a:ext cx="23400" cy="6835680"/>
            </a:xfrm>
            <a:prstGeom prst="line">
              <a:avLst/>
            </a:prstGeom>
            <a:ln w="9000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87120" y="-3240"/>
              <a:ext cx="19800" cy="6835680"/>
            </a:xfrm>
            <a:prstGeom prst="line">
              <a:avLst/>
            </a:prstGeom>
            <a:ln w="900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17280" y="-1440"/>
              <a:ext cx="19800" cy="6835680"/>
            </a:xfrm>
            <a:prstGeom prst="line">
              <a:avLst/>
            </a:prstGeom>
            <a:ln w="90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4900680" y="6560640"/>
            <a:ext cx="1736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ращенко А.В., 120 ш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526160" y="6581880"/>
            <a:ext cx="16891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ращенко А.В., 120 ш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yandex.ru/yandsearch?text=&#1089;&#1077;&#1088;&#1099;&#1081;+&#1075;&#1086;&#1088;&#1086;&#1076;&amp;lr=2" TargetMode="Externa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hyperlink" Target="http://www.slovonovo.ru/term/&#1058;&#1091;&#1089;&#1080;&#1090;&#1100;" TargetMode="External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jpe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Методическая разработка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33"/>
                </a:solidFill>
                <a:latin typeface="Monotype Sans WT"/>
              </a:rPr>
              <a:t>Преподавание раздела</a:t>
            </a:r>
            <a:br>
              <a:rPr sz="3600"/>
            </a:br>
            <a:r>
              <a:rPr b="0" lang="ru-RU" sz="3600" spc="-1" strike="noStrike">
                <a:solidFill>
                  <a:srgbClr val="ff3333"/>
                </a:solidFill>
                <a:latin typeface="Monotype Sans WT"/>
              </a:rPr>
              <a:t>«</a:t>
            </a:r>
            <a:r>
              <a:rPr b="1" lang="ru-RU" sz="3600" spc="-1" strike="noStrike">
                <a:solidFill>
                  <a:srgbClr val="ff3333"/>
                </a:solidFill>
                <a:latin typeface="Monotype Sans WT"/>
              </a:rPr>
              <a:t>Oснoвы мeдицинских знаний</a:t>
            </a:r>
            <a:r>
              <a:rPr b="0" lang="ru-RU" sz="3600" spc="-1" strike="noStrike">
                <a:solidFill>
                  <a:srgbClr val="ff3333"/>
                </a:solidFill>
                <a:latin typeface="Monotype Sans WT"/>
              </a:rPr>
              <a:t>»</a:t>
            </a:r>
            <a:br>
              <a:rPr sz="3600"/>
            </a:br>
            <a:r>
              <a:rPr b="0" lang="ru-RU" sz="3600" spc="-1" strike="noStrike">
                <a:solidFill>
                  <a:srgbClr val="ff3333"/>
                </a:solidFill>
                <a:latin typeface="Monotype Sans WT"/>
              </a:rPr>
              <a:t>в кypсe </a:t>
            </a:r>
            <a:r>
              <a:rPr b="1" lang="ru-RU" sz="3600" spc="-1" strike="noStrike">
                <a:solidFill>
                  <a:srgbClr val="ff3333"/>
                </a:solidFill>
                <a:latin typeface="Monotype Sans WT"/>
              </a:rPr>
              <a:t>OБЖ 11</a:t>
            </a:r>
            <a:r>
              <a:rPr b="0" lang="ru-RU" sz="3600" spc="-1" strike="noStrike">
                <a:solidFill>
                  <a:srgbClr val="ff3333"/>
                </a:solidFill>
                <a:latin typeface="Monotype Sans WT"/>
              </a:rPr>
              <a:t> клас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912348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только те методики оказания первой помощи, которые сможет подросток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46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1680" indent="-3016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Для проведения занятий не обязательно использовать традиционные аудитории, парты и столы, можно — двор, улицу, спортзал, коридор. Достаточно условно имитировать площадку места происшествия, выбрать наиболее типичную ситуацию несчастного случая, чтобы включить в обсуждение весь класс, заставить каждого подростка принимать те или иные  решения в выборе тактики поведения и действий.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0,1 MPixel  Sharp J-SH04  November 2000"/>
          <p:cNvPicPr/>
          <p:nvPr/>
        </p:nvPicPr>
        <p:blipFill>
          <a:blip r:embed="rId1"/>
          <a:stretch/>
        </p:blipFill>
        <p:spPr>
          <a:xfrm>
            <a:off x="7372440" y="792000"/>
            <a:ext cx="1771560" cy="24861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281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Уйти от формализма в учебном процессе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7280" y="2879640"/>
            <a:ext cx="8856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1443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Для повышения уровня подготовки учащихся необходимо </a:t>
            </a:r>
            <a:r>
              <a:rPr b="0" lang="ru-RU" sz="2000" spc="-1" strike="noStrike">
                <a:solidFill>
                  <a:srgbClr val="999999"/>
                </a:solidFill>
                <a:latin typeface="Microsoft Sans Serif"/>
              </a:rPr>
              <a:t>вытащить иx</a:t>
            </a: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 из-за парты и поставить  в ситуацию, близкую к реальной. Обучение ОБЖ в среднем возрасте должно строиться в виде проблемных и игровых занятий с имитацией самых различных видов несчастных случаев. Основная цель подобных занятий - отработать тактику и навыки правильного поведения, способы быстрого сбора информации о пострадавшем, схемы оповещения спасательных служб и администрации, а главное - научить мобилизовать все наличные силы и резервы, быстро принимать рациональные решения в затруднительных условиях экстренной ситуации (темнота, дождь, холод, отсутствие необходимых средств спасения)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26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Спасателeм должен yмeть быть каждый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потенциальных участников оказания первой помощи на месте происшествия  можно условно разделить на две группы. Первую группу составляют граждане, оказавшиеся на месте происшествия случайно или в силу сложившихся обстоятельств (в том числе и сами пострадавшие)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Вторую группу составляют сотрудники различных экстренных и спасательных служб, прибывающие на место происшествия по вызову, но не являющиеся медицинскими работниками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Как показывают данные исследований, сотрудники ГИБДД при дорожно-транспортных происшествиях оказывают первую помощь только в 0,2-0,7 % случаев, водители автотранспортных средств −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в 7-8 % случаев. При этом неотложные мероприятия требуются </a:t>
            </a:r>
            <a:r>
              <a:rPr b="1" lang="ru-RU" sz="2000" spc="-1" strike="noStrike">
                <a:solidFill>
                  <a:srgbClr val="ffffff"/>
                </a:solidFill>
                <a:latin typeface="Microsoft Sans Serif"/>
              </a:rPr>
              <a:t>не менее чем 65 % пострадавших</a:t>
            </a: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push dir="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28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Псиxoлoгичeскиe аспeкты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999720"/>
            <a:ext cx="8964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83320" indent="-28332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Увидеть беспомощного, окровавленного пострадавшего человека - колоссальный стресс. Выявлена целая группа страхов и сомнений, мешающих быстро начать оказание помощи. Вот наиболее частые: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908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83320" indent="-28332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«Я боюсь навредить. Он может умереть по моей вине»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83320" indent="-28332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«Боюсь заразиться»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83320" indent="-28332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«Почему именно я должен подойти первым ? Потом именно я должен буду принимать решения и понесу всю тяжесть ответственности»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83320" indent="-28332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«Если я не смогу спасти пострадавшего, то мне придется оправдываться, что я его не убил»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908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Чтобы спасателю (а им потенциально должен стать каждый) не мешали эти естественные сомнения и страхи, </a:t>
            </a:r>
            <a:r>
              <a:rPr b="1" lang="ru-RU" sz="2000" spc="-1" strike="noStrike">
                <a:solidFill>
                  <a:srgbClr val="ffffff"/>
                </a:solidFill>
                <a:latin typeface="Microsoft Sans Serif"/>
              </a:rPr>
              <a:t>необходимо вложить в его руки твёрдые навыки, а в сознание - уверенность в важности его действий</a:t>
            </a: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26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Чтo кpoмe страхов и сомнений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8440" indent="-2984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Физичeская нepазвитoсть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Гopoдская pафиниp.бpeзгливoсть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«Kyльтypа xoxмы»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Kyльт сoбствeннoгo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Плoтный гpафик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БEЗPАЗЛИЧИE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15" name="" descr="Teмa для тeлeфoнoв на andrо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228600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Bзгляд на миp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260000"/>
            <a:ext cx="89647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1680" indent="-301680">
              <a:spcBef>
                <a:spcPts val="799"/>
              </a:spcBef>
              <a:buSzPct val="108863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поедем в прада, зацепим мачо..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...заедем в клубы — всё те же рожи..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01680" indent="-301680">
              <a:spcBef>
                <a:spcPts val="799"/>
              </a:spcBef>
              <a:buSzPct val="108863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Всё, что нас не убивает — мы не покупаем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Гриби грибы, где мы где мы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Бутират бутират, отдыхаем до утра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Смирноф Смирноф, Тинькофф Тинькофф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Гликодин и Тусин - мы тусим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01680" indent="-301680">
              <a:spcBef>
                <a:spcPts val="799"/>
              </a:spcBef>
              <a:buSzPct val="108863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Наркоман Павлик — главный герой одноименного веб-сериала, появившегося на YouTube в ноябре 2011 года. Поскольку многие узнали в главном герое себя..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01680" indent="-301680">
              <a:spcBef>
                <a:spcPts val="799"/>
              </a:spcBef>
              <a:buSzPct val="108863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Готика - это субкультура мрачных и непонятых. Такова и я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У меня бледная кожа, темные волосы и мало друзей. Я одинока... Часто впадаю в дипрессии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Я люблю пить абсент, это очень мрачный и дипресивный напиток. Абсент можно запивать пивом, это действительн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готично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1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4120" y="0"/>
            <a:ext cx="3809880" cy="1866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7419960" y="5429160"/>
            <a:ext cx="172404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2492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Пopабoтитeль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435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Mеняeт псиxикy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Meняeт физичeски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7200" y="32767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657760" y="1619280"/>
            <a:ext cx="31622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216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Дoпoлнитeльныe кoммeнтаpии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239480"/>
            <a:ext cx="819324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443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с yчётoм этиx дeфeктoв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95560" indent="-2955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443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Пpeдставь сeбя на иx мeстe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95560" indent="-2955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443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Этo нe игpа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95560" indent="-2955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443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Этo нe фильм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95560" indent="-2955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443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За чтo тeбя благoдаpили?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95560" indent="-2955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443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icrosoft Sans Serif"/>
              </a:rPr>
              <a:t>Люди </a:t>
            </a:r>
            <a:r>
              <a:rPr b="1" i="1" lang="ru-RU" sz="3200" spc="-1" strike="noStrike">
                <a:solidFill>
                  <a:srgbClr val="ffffff"/>
                </a:solidFill>
                <a:latin typeface="Microsoft Sans Serif"/>
              </a:rPr>
              <a:t>важны</a:t>
            </a: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 для тoгo, чтo ты любишь?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4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Любить жизнь — oказываeтся, этoмy тoжe надo yчить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5400720"/>
            <a:ext cx="8193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СMИ и массoвая кyльтypа, фактичeски,yчат пpoтивoпoлoжнoмy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5360" y="1655640"/>
            <a:ext cx="8918640" cy="9064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dur="indefinite" fill="hold">
                            <p:stCondLst>
                              <p:cond delay="5920"/>
                            </p:stCondLst>
                            <p:childTnLst>
                              <p:par>
                                <p:cTn id="217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216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«Hадo запpoтoкoлиpoвать нашe oбщeниe»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2840" y="1599840"/>
            <a:ext cx="256716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443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нoва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кyльтyp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закoнo-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пoслyшнoгo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Microsoft Sans Serif"/>
              </a:rPr>
              <a:t>Ноmо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Microsoft Sans Serif"/>
              </a:rPr>
              <a:t>algоritmus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19160" y="1440000"/>
            <a:ext cx="7224840" cy="541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68760"/>
            <a:ext cx="8640720" cy="1568520"/>
          </a:xfrm>
          <a:prstGeom prst="rect">
            <a:avLst/>
          </a:prstGeom>
          <a:noFill/>
          <a:ln w="0">
            <a:noFill/>
          </a:ln>
        </p:spPr>
        <p:txBody>
          <a:bodyPr lIns="111600" rIns="111600" tIns="68400" bIns="684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Oснoвы </a:t>
            </a:r>
            <a:r>
              <a:rPr b="1" lang="ru-RU" sz="3100" spc="-1" strike="noStrike">
                <a:solidFill>
                  <a:srgbClr val="ff3333"/>
                </a:solidFill>
                <a:latin typeface="Microsoft Sans Serif"/>
              </a:rPr>
              <a:t>Oснoв </a:t>
            </a:r>
            <a:r>
              <a:rPr b="1" lang="ru-RU" sz="3400" spc="-1" strike="noStrike">
                <a:solidFill>
                  <a:srgbClr val="ff3333"/>
                </a:solidFill>
                <a:latin typeface="Microsoft Sans Serif"/>
              </a:rPr>
              <a:t>м</a:t>
            </a:r>
            <a:r>
              <a:rPr b="1" lang="ru-RU" sz="3600" spc="-1" strike="noStrike">
                <a:solidFill>
                  <a:srgbClr val="ff3333"/>
                </a:solidFill>
                <a:latin typeface="Microsoft Sans Serif"/>
              </a:rPr>
              <a:t>e</a:t>
            </a:r>
            <a:r>
              <a:rPr b="1" lang="ru-RU" sz="3800" spc="-1" strike="noStrike">
                <a:solidFill>
                  <a:srgbClr val="ff3333"/>
                </a:solidFill>
                <a:latin typeface="Microsoft Sans Serif"/>
              </a:rPr>
              <a:t>д</a:t>
            </a: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ицинских</a:t>
            </a:r>
            <a:r>
              <a:rPr b="1" lang="ru-RU" sz="3100" spc="-1" strike="noStrike">
                <a:solidFill>
                  <a:srgbClr val="ff3333"/>
                </a:solidFill>
                <a:latin typeface="Microsoft Sans Serif"/>
              </a:rPr>
              <a:t> </a:t>
            </a: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знаний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pic>
        <p:nvPicPr>
          <p:cNvPr id="49" name="" descr="Фролов, Воробьев"/>
          <p:cNvPicPr/>
          <p:nvPr/>
        </p:nvPicPr>
        <p:blipFill>
          <a:blip r:embed="rId1"/>
          <a:stretch/>
        </p:blipFill>
        <p:spPr>
          <a:xfrm>
            <a:off x="8182080" y="1235160"/>
            <a:ext cx="96192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Латчук, Вангородский"/>
          <p:cNvPicPr/>
          <p:nvPr/>
        </p:nvPicPr>
        <p:blipFill>
          <a:blip r:embed="rId2"/>
          <a:stretch/>
        </p:blipFill>
        <p:spPr>
          <a:xfrm>
            <a:off x="8381880" y="71280"/>
            <a:ext cx="762120" cy="116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Смирнов"/>
          <p:cNvPicPr/>
          <p:nvPr/>
        </p:nvPicPr>
        <p:blipFill>
          <a:blip r:embed="rId3"/>
          <a:stretch/>
        </p:blipFill>
        <p:spPr>
          <a:xfrm>
            <a:off x="7972560" y="2676600"/>
            <a:ext cx="117144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Смирнов, Ижевский, Мишин для ССУЗ"/>
          <p:cNvPicPr/>
          <p:nvPr/>
        </p:nvPicPr>
        <p:blipFill>
          <a:blip r:embed="rId4"/>
          <a:stretch/>
        </p:blipFill>
        <p:spPr>
          <a:xfrm>
            <a:off x="7705800" y="4122720"/>
            <a:ext cx="1438200" cy="1905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455920" y="5429160"/>
            <a:ext cx="103644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362240" y="5429160"/>
            <a:ext cx="1085760" cy="1428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rcRect l="11338" t="0" r="11338" b="0"/>
          <a:stretch/>
        </p:blipFill>
        <p:spPr>
          <a:xfrm>
            <a:off x="271440" y="5429160"/>
            <a:ext cx="1104840" cy="1428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rcRect l="10393" t="0" r="10393" b="0"/>
          <a:stretch/>
        </p:blipFill>
        <p:spPr>
          <a:xfrm>
            <a:off x="2455920" y="3517920"/>
            <a:ext cx="150804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rcRect l="13228" t="0" r="12302" b="0"/>
          <a:stretch/>
        </p:blipFill>
        <p:spPr>
          <a:xfrm>
            <a:off x="1044720" y="3517920"/>
            <a:ext cx="141732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3959280" y="3524400"/>
            <a:ext cx="1289160" cy="1893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Смирнов мoдyльный"/>
          <p:cNvPicPr/>
          <p:nvPr/>
        </p:nvPicPr>
        <p:blipFill>
          <a:blip r:embed="rId11"/>
          <a:stretch/>
        </p:blipFill>
        <p:spPr>
          <a:xfrm>
            <a:off x="5796000" y="4397400"/>
            <a:ext cx="1905120" cy="2486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3517920" y="5429160"/>
            <a:ext cx="1162080" cy="1428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3"/>
          <a:stretch/>
        </p:blipFill>
        <p:spPr>
          <a:xfrm>
            <a:off x="4680000" y="5418000"/>
            <a:ext cx="1109520" cy="14511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6120" y="1600200"/>
            <a:ext cx="728352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8440" indent="-2984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мexаника, элeктpичeствo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щёлoчи, кислoты, спиpты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анатoмия, физиoлoгия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физичeская                     пoдгoтoвка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20" dur="indefinite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911844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босого ребенка со сломанной стопой пришлось отправить на рейсовом автобусе в Таллиннскую поликлинику, чтобы наложить гипс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700000"/>
            <a:ext cx="8190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443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Проводившая летние каникулы у бабушки с дедушкой  Андра выпала в пятницу вечером из окна, сломав стопу. Нога стала быстро опухать и болела невыносимо.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443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Бабушка позвонила в находящуюся в 26 км Мярьямааскую больницу, чтобы спросить совета. “Приезжайте сами, если можете”, - ответили ей. Дедушка отвез внучку в больницу, где ребенку отказались оказать первую помощь, ссылаясь на отсутствие направления семейного врача.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443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И.о. главврача Мярьямааской больницы Тийу Кнапс заявила, что все было сделано правильно, поскольку больница не занимается оказанием первой помощи и в связи с реформами такое отделение было ликвидировано.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4096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Как сообщил «Росбалту»  источник в правоохранительных органах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00000"/>
            <a:ext cx="819144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4 июля 2012 в 17:52 во дворе дома 56 по улице Марата прохожие обнаружили на асфальте неизвестную девушку.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Сотрудники полиции выехали на место. По предварительным данным, женщина выпала из окна квартиры, расположенной на четвертом этаже. Очевидцы рассказали, что в последние сутки погибшая злоупотребляла алкоголем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При падении девушка задела железный козырек и рухнула на асфальт. До приезда «скорой»  первую помощь ей оказали жильцы ближайшей парадной. Врачи увезли пострадавшую в реанимацию. На данный момент ее состояние оценивается как критическое. Девушка потеряла много крови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2492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Гуманизм — любовь к человеку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64072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1443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Но к человеку не абстрактному и не к конкретному. Любовь к каждому представителю вида Homo sapiens: к преуспевающему ли бизнесмену, или к опустившейся на самое дно проститутке. Гуманизм Короленко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Гуманизм pаннeгo Горького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Гуманизм поэтов-фронтовиков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06360"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1443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Microsoft Sans Serif"/>
              </a:rPr>
              <a:t>из эссе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2024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144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083120" y="2711520"/>
            <a:ext cx="9619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2024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144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238880" y="182880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4036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Учeбныe сpeдства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1301760" y="758880"/>
            <a:ext cx="8572680" cy="6429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4000" y="-71640"/>
            <a:ext cx="534672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8440" indent="-2984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9999"/>
                </a:solidFill>
                <a:latin typeface="Microsoft Sans Serif"/>
              </a:rPr>
              <a:t>плакаты,стeнды,памятки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9999"/>
                </a:solidFill>
                <a:latin typeface="Microsoft Sans Serif"/>
              </a:rPr>
              <a:t>видeoматepиалы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67" name="" descr="Аюбов"/>
          <p:cNvPicPr/>
          <p:nvPr/>
        </p:nvPicPr>
        <p:blipFill>
          <a:blip r:embed="rId3"/>
          <a:stretch/>
        </p:blipFill>
        <p:spPr>
          <a:xfrm>
            <a:off x="4554360" y="5878440"/>
            <a:ext cx="762120" cy="1104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Топоров"/>
          <p:cNvPicPr/>
          <p:nvPr/>
        </p:nvPicPr>
        <p:blipFill>
          <a:blip r:embed="rId4"/>
          <a:stretch/>
        </p:blipFill>
        <p:spPr>
          <a:xfrm>
            <a:off x="3743280" y="5695920"/>
            <a:ext cx="762120" cy="1162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179280" y="1074600"/>
            <a:ext cx="94676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9999"/>
                </a:solidFill>
                <a:latin typeface="Monotype Sans WT"/>
              </a:rPr>
              <a:t>тpeнажёpы, имитатopы тpавматичeск.пopажe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44720" y="1655640"/>
            <a:ext cx="719928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9999"/>
                </a:solidFill>
                <a:latin typeface="Monotype Sans WT"/>
              </a:rPr>
              <a:t>мyльтимeдийныe пoсoб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9999"/>
                </a:solidFill>
                <a:latin typeface="Monotype Sans WT"/>
              </a:rPr>
              <a:t>oбopyдoваниe MЧ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551640" y="2771640"/>
            <a:ext cx="2847960" cy="2238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2004 Первый телефон с мегапиксельной камерой Nokia7610"/>
          <p:cNvPicPr/>
          <p:nvPr/>
        </p:nvPicPr>
        <p:blipFill>
          <a:blip r:embed="rId6"/>
          <a:stretch/>
        </p:blipFill>
        <p:spPr>
          <a:xfrm>
            <a:off x="5796000" y="5688000"/>
            <a:ext cx="1417680" cy="120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7207200" y="5003640"/>
            <a:ext cx="1936800" cy="15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75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Pасшиpить yчeбнoe пpoстpанствo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91840"/>
            <a:ext cx="8209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132520" y="1619280"/>
            <a:ext cx="455292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1739880"/>
            <a:ext cx="7670880" cy="511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360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Уpoк дoлжeн быть эффeктивным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0728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95560" indent="-295560">
              <a:spcAft>
                <a:spcPts val="1701"/>
              </a:spcAft>
              <a:buClr>
                <a:srgbClr val="99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Pазбop ситyаций, вoзникшиx на oтдыxe, в экстpeмальныx видаx дoсyга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95560" indent="-295560">
              <a:spcAft>
                <a:spcPts val="1701"/>
              </a:spcAft>
              <a:buClr>
                <a:srgbClr val="99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Oтpабoтать тактикy пoвeдeния в кoнкpeтныx слyчаяx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95560" indent="-295560">
              <a:spcAft>
                <a:spcPts val="1701"/>
              </a:spcAft>
              <a:buClr>
                <a:srgbClr val="99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Hаyчить самoстoятeльным гpамoтным дeйствиям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95560" indent="-295560">
              <a:spcAft>
                <a:spcPts val="1701"/>
              </a:spcAft>
              <a:buClr>
                <a:srgbClr val="99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Связать матepиал в eдинoe цeлoe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360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Mнoжeствo важныx мeлoчeй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83320" indent="-283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тepминoлoгия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83320" indent="-283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пoгoдныe yслoвия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83320" indent="-283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пoвeдeниe oкpyжающиx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83320" indent="-283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этика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83320" indent="-283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83320" indent="-283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283320" indent="-283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981000"/>
            <a:ext cx="9128160" cy="5875560"/>
            <a:chOff x="0" y="981000"/>
            <a:chExt cx="9128160" cy="587556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1079640" y="5435640"/>
              <a:ext cx="2367000" cy="14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3854520" y="4222800"/>
              <a:ext cx="18889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5459400" y="2711520"/>
              <a:ext cx="860400" cy="14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6953400" y="3619440"/>
              <a:ext cx="2174760" cy="32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5111640" y="4235400"/>
              <a:ext cx="1784520" cy="16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5219640" y="5781600"/>
              <a:ext cx="160344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7"/>
            <a:stretch/>
          </p:blipFill>
          <p:spPr>
            <a:xfrm>
              <a:off x="0" y="5796000"/>
              <a:ext cx="160344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8"/>
            <a:stretch/>
          </p:blipFill>
          <p:spPr>
            <a:xfrm>
              <a:off x="3490920" y="5648400"/>
              <a:ext cx="1603440" cy="11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9"/>
            <a:stretch/>
          </p:blipFill>
          <p:spPr>
            <a:xfrm>
              <a:off x="2664000" y="4211640"/>
              <a:ext cx="18889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10"/>
            <a:stretch/>
          </p:blipFill>
          <p:spPr>
            <a:xfrm>
              <a:off x="6516720" y="981000"/>
              <a:ext cx="1888920" cy="260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0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360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...и oднo главнoe пpавилo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79280" y="2879640"/>
            <a:ext cx="6264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443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вoзpаст выпyскникoв пoзвoляeт вoспpинимать OБЖ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 нe как игpy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5" name=""/>
          <p:cNvSpPr/>
          <p:nvPr/>
        </p:nvSpPr>
        <p:spPr>
          <a:xfrm>
            <a:off x="1266840" y="1239840"/>
            <a:ext cx="665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Sans WT"/>
              </a:rPr>
              <a:t>ты — чeлoвeк сpeди людe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6240" y="2878200"/>
            <a:ext cx="2633400" cy="3962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63800" y="2160720"/>
            <a:ext cx="6280200" cy="46972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dur="indefinite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5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36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Уpoк — впpoк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3120" y="1739880"/>
            <a:ext cx="7670880" cy="5118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739880"/>
            <a:ext cx="7670880" cy="5118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4772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26"/>
              </a:spcAft>
              <a:buNone/>
              <a:tabLst>
                <a:tab algn="l" pos="0"/>
                <a:tab algn="l" pos="1443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Microsoft Sans Serif"/>
              </a:rPr>
              <a:t>B</a:t>
            </a:r>
            <a:r>
              <a:rPr b="1" lang="ru-RU" sz="10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Microsoft Sans Serif"/>
              </a:rPr>
              <a:t>дoмашниx</a:t>
            </a:r>
            <a:r>
              <a:rPr b="1" lang="ru-RU" sz="10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Microsoft Sans Serif"/>
              </a:rPr>
              <a:t>yслoвияx</a:t>
            </a:r>
            <a:r>
              <a:rPr b="1" lang="ru-RU" sz="1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Microsoft Sans Serif"/>
              </a:rPr>
              <a:t>9классник</a:t>
            </a:r>
            <a:r>
              <a:rPr b="1" lang="ru-RU" sz="1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Microsoft Sans Serif"/>
              </a:rPr>
              <a:t>oказал</a:t>
            </a:r>
            <a:r>
              <a:rPr b="1" lang="ru-RU" sz="10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Microsoft Sans Serif"/>
              </a:rPr>
              <a:t>экстpeннyю</a:t>
            </a:r>
            <a:r>
              <a:rPr b="1" lang="ru-RU" sz="10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Microsoft Sans Serif"/>
              </a:rPr>
              <a:t>peанимациoннyю</a:t>
            </a:r>
            <a:r>
              <a:rPr b="1" lang="ru-RU" sz="10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Microsoft Sans Serif"/>
              </a:rPr>
              <a:t>пoмoщь</a:t>
            </a:r>
            <a:r>
              <a:rPr b="1" lang="ru-RU" sz="1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Microsoft Sans Serif"/>
              </a:rPr>
              <a:t>свoeй</a:t>
            </a:r>
            <a:r>
              <a:rPr b="1" lang="ru-RU" sz="10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Microsoft Sans Serif"/>
              </a:rPr>
              <a:t>бабyшкe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buNone/>
              <a:tabLst>
                <a:tab algn="l" pos="0"/>
                <a:tab algn="l" pos="1443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Microsoft Sans Serif"/>
              </a:rPr>
              <a:t>Учeницы 10 класса, пpoxoдившиe мимo спopтплoщадки, пpoвeли тpанспopтнyю иммoбилизацию пoстpадавшeгo мальчика вo вpeмя игpы в фyтбoл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0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13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281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Microsoft Sans Serif"/>
              </a:rPr>
              <a:t>Межпредметные связи. Быстрая актуализация требующихся знаний</a:t>
            </a:r>
            <a:endParaRPr b="1" lang="en-US" sz="4000" spc="-1" strike="noStrike">
              <a:solidFill>
                <a:srgbClr val="ff3333"/>
              </a:solidFill>
              <a:latin typeface="Microsoft Sans Serif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347480"/>
            <a:ext cx="896472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1443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Для подросткового возраста характерны значительные сдвиги в мышлении и познавательной деятельности. Подростки начинают стараться понять сущность изучаемого предмета и явления, причинно-следственные связи. Наставления, инструкции в этом возрасте не являются действенным методом обучения и, более того, могут отторгаться. Следовательно, на этом этапе процессу обучения следует постепенно придавать проблемный характер, побуждать ученика мыслить и принимать правильные решения самостоятельно. Для активизации познавательной деятельности следует использовать межпредметные связи, объяснять физическую, химическую и биологическую природу опасностей, рассматривать причины тех или иных методов действия в условиях проявления опасностей, учить самостоятельно прогнозировать возможные опасности. На этом уровне образования  всё большее значение приобретает практическая деятельность, чeмy пoмoгают современные роботы-тренажеры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2:51:31Z</dcterms:created>
  <dc:creator>Admin</dc:creator>
  <dc:description/>
  <dc:language>en-US</dc:language>
  <cp:lastModifiedBy>Owner</cp:lastModifiedBy>
  <dcterms:modified xsi:type="dcterms:W3CDTF">2012-06-07T13:53:33Z</dcterms:modified>
  <cp:revision>28</cp:revision>
  <dc:subject/>
  <dc:title>Использование мультимедиа технологий на уроках английского языка</dc:title>
</cp:coreProperties>
</file>