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CBC0-DC8B-44F0-9729-8F8A20F7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9ED-50E3-4AFE-87A8-379E2773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532-33FA-46A7-BAA1-5038819E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730D-B8A5-4027-800A-E24C83D4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B2A0-5CD2-45B1-857E-49CFF6BE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E57D-F049-430D-8766-95010973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4521-410F-4653-A79A-1C3C97D2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CB53-51A8-4F0A-8913-33B24F39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7F10-BB94-4B95-9973-F4631AB1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D6BD-E998-49CE-AFC2-48CD30F5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A788-2BD3-4737-AD8F-8A8DD037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477D-2971-4092-8690-E4163014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DDE3-0838-4755-A0B2-748ABA12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A573-2E35-46CB-B39F-FF6D5565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3569-B1F4-437E-B9CF-116857A6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CB92-C028-4D7E-816E-0736577F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6B8A-3E04-4881-B182-5500FE76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0A2E-32FA-4871-AE31-6105BFB0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6DD2-73DC-4D2E-8FBC-C5983B65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1D18-9E53-432F-B8D4-F20DD34C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BA59-123D-4BA1-B454-5C9D0D35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A2F1-85F1-4B82-9818-DC29BEE6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AAAD-762C-4661-9A32-70399F71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C4C5-615B-496C-BF94-F8996A4C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81E7-E2C1-4181-B4AF-77DA8279AB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F5A6-C7D0-4CD1-BF28-39C866644A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УТЕШЕСТВИЕ ПО ПРОИЗВЕДЕНИЯМ С.Я.МАРША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Рисунок 8" descr=""/>
          <p:cNvPicPr/>
          <p:nvPr/>
        </p:nvPicPr>
        <p:blipFill>
          <a:blip r:embed="rId2"/>
          <a:stretch/>
        </p:blipFill>
        <p:spPr>
          <a:xfrm>
            <a:off x="3276720" y="2781360"/>
            <a:ext cx="2763720" cy="35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284720" y="189000"/>
            <a:ext cx="4044960" cy="3236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564000" y="2997360"/>
            <a:ext cx="3228840" cy="3600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4"/>
          <a:stretch/>
        </p:blipFill>
        <p:spPr>
          <a:xfrm>
            <a:off x="250920" y="260280"/>
            <a:ext cx="3168720" cy="410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84720" y="404640"/>
            <a:ext cx="2649600" cy="3600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3429000" cy="4762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851280" y="2852640"/>
            <a:ext cx="257652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3076560" cy="4286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64000" y="476280"/>
            <a:ext cx="3600720" cy="4392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556000" y="3068640"/>
            <a:ext cx="285408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Горизонтальный свиток 5"/>
          <p:cNvSpPr/>
          <p:nvPr/>
        </p:nvSpPr>
        <p:spPr>
          <a:xfrm>
            <a:off x="4067280" y="4437000"/>
            <a:ext cx="4608360" cy="175284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Любите Маршака, 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сь у него!»                               А.М. Горь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12" descr="http://s-marshak.ru/autographs/nadpis/nadpis15_1.jpg"/>
          <p:cNvPicPr/>
          <p:nvPr/>
        </p:nvPicPr>
        <p:blipFill>
          <a:blip r:embed="rId2"/>
          <a:stretch/>
        </p:blipFill>
        <p:spPr>
          <a:xfrm>
            <a:off x="468360" y="333360"/>
            <a:ext cx="369576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762440" cy="3181320"/>
          </a:xfrm>
          <a:prstGeom prst="rect">
            <a:avLst/>
          </a:prstGeom>
          <a:ln w="0">
            <a:noFill/>
          </a:ln>
        </p:spPr>
      </p:pic>
      <p:sp>
        <p:nvSpPr>
          <p:cNvPr id="88" name="Горизонтальный свиток 5"/>
          <p:cNvSpPr/>
          <p:nvPr/>
        </p:nvSpPr>
        <p:spPr>
          <a:xfrm>
            <a:off x="1908000" y="1844640"/>
            <a:ext cx="7236000" cy="501336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де обедал воробей?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зоопарке у звер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обедал у лисиц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моржа попил водицы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л морковку у слон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журавлем поел пшен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мохнатый рыжий львено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уть не съел меня спросон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2735280" cy="4032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186080" y="1386720"/>
            <a:ext cx="3732480" cy="451548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бин-Боби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е-ка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крепил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тощак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ъел теленка утром рано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ух овечек и баран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ъел корову целико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прилавок с мясником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тню жаворонков в тест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коня с телегой вместе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ять коней и колоколен, 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 еще и недоволен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3209760" cy="3681360"/>
          </a:xfrm>
          <a:prstGeom prst="rect">
            <a:avLst/>
          </a:prstGeom>
          <a:ln w="0">
            <a:noFill/>
          </a:ln>
        </p:spPr>
      </p:pic>
      <p:sp>
        <p:nvSpPr>
          <p:cNvPr id="92" name="Горизонтальный свиток 5"/>
          <p:cNvSpPr/>
          <p:nvPr/>
        </p:nvSpPr>
        <p:spPr>
          <a:xfrm>
            <a:off x="3924360" y="907920"/>
            <a:ext cx="4976640" cy="575964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стучится в дверь ко мн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толстой сумкой на ремн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цифрой «5» на медной бляшк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иней форменной фуражке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он, это 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нинградский почтальон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3584520" cy="5327640"/>
          </a:xfrm>
          <a:prstGeom prst="rect">
            <a:avLst/>
          </a:prstGeom>
          <a:ln w="0">
            <a:noFill/>
          </a:ln>
        </p:spPr>
      </p:pic>
      <p:sp>
        <p:nvSpPr>
          <p:cNvPr id="94" name="Горизонтальный свиток 5"/>
          <p:cNvSpPr/>
          <p:nvPr/>
        </p:nvSpPr>
        <p:spPr>
          <a:xfrm>
            <a:off x="3743280" y="2997360"/>
            <a:ext cx="5149800" cy="280800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ук упал и встать не мож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дет он кто ему помож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нцирь носит черепах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ячев голову от страха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7668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7714" y="9773"/>
                </a:moveTo>
                <a:lnTo>
                  <a:pt x="7714" y="977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3238560" cy="4286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260280"/>
            <a:ext cx="3803760" cy="2852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572000" y="3284640"/>
            <a:ext cx="380376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211640" y="18900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50920" y="256536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895640" cy="5076720"/>
          </a:xfrm>
          <a:prstGeom prst="rect">
            <a:avLst/>
          </a:prstGeom>
          <a:ln w="0">
            <a:noFill/>
          </a:ln>
        </p:spPr>
      </p:pic>
      <p:sp>
        <p:nvSpPr>
          <p:cNvPr id="102" name="Горизонтальный свиток 5"/>
          <p:cNvSpPr/>
          <p:nvPr/>
        </p:nvSpPr>
        <p:spPr>
          <a:xfrm>
            <a:off x="3419640" y="2176560"/>
            <a:ext cx="5400360" cy="468144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тилось , покатилос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лино колечк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тилось, покатилось с нашего крылеч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тилось колес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таилось за куст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ечко, колечк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йди на крылеч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06:39:48Z</dcterms:created>
  <dc:creator>user</dc:creator>
  <dc:description/>
  <dc:language>en-US</dc:language>
  <cp:lastModifiedBy>user</cp:lastModifiedBy>
  <dcterms:modified xsi:type="dcterms:W3CDTF">2013-03-24T09:57:50Z</dcterms:modified>
  <cp:revision>5</cp:revision>
  <dc:subject/>
  <dc:title>ПУТЕШЕСТВИЕ ПО ПРОИЗВЕДЕНИЯМ С.Я.МАРШАКА</dc:title>
</cp:coreProperties>
</file>