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A86-EECC-41EE-956A-B84F33F4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CBF-2526-4882-BF57-8664EF9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FA3-3038-444A-90F0-B2FD3BD3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AE0-A4D0-4212-8F5F-21B383A4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5BB0-75E9-4552-9A84-9A2549F6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588F-7D0B-4D95-A9B3-A1C59C2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D52D-5AF4-4273-ADFF-F9B8E18D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E270-DCCC-4A36-AFC3-E135339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EC62-1F1A-4433-8340-36B4BDF1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CA8B-9AA9-41DD-9B08-1B4CB41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AAA-E424-4814-BDF6-0340A449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500-B201-4AB4-8984-C594585B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A975-DA10-4027-98CB-DFF50C8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D7D8-9A5C-425B-AF61-8286D89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ADB0-D8FC-4ACB-864B-71D7F77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9813-E7B6-40F5-ABEF-89431B23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867C-C418-4A9A-BA65-5DCC7C9F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19A-A74E-4634-8BE8-85BE095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AAB-B043-42B2-B350-05CFBF09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611-26FD-4426-A9FF-EE75B1E9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57A-C84E-45D3-92C0-C90E7BF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B04-985C-4379-ACFC-B05B80E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A76-247C-4A4C-83AE-B7FF3EC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06E-AF08-4261-9456-7349444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FD7-6DF7-4EC8-AE4E-CE250C8B7B9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D959-8A63-428F-88F3-C2F380C1BFF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Unicode MS"/>
              </a:rPr>
              <a:t>Методическая учеб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c9900"/>
                </a:solidFill>
                <a:latin typeface="Verdana"/>
              </a:rPr>
              <a:t>Технология индивидуализации обучения</a:t>
            </a:r>
            <a:br>
              <a:rPr sz="2800"/>
            </a:br>
            <a:r>
              <a:rPr b="1" lang="ru-RU" sz="2000" spc="-1" strike="noStrike">
                <a:solidFill>
                  <a:srgbClr val="cc6600"/>
                </a:solidFill>
                <a:latin typeface="Verdana"/>
              </a:rPr>
              <a:t>(И.Э. Ун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00"/>
                </a:solidFill>
                <a:latin typeface="Verdana"/>
              </a:rPr>
              <a:t>              </a:t>
            </a:r>
            <a:r>
              <a:rPr b="0" i="1" lang="ru-RU" sz="2400" spc="-1" strike="noStrike">
                <a:solidFill>
                  <a:srgbClr val="666600"/>
                </a:solidFill>
                <a:latin typeface="Verdana"/>
              </a:rPr>
              <a:t>Чернова С.Ю.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00"/>
                </a:solidFill>
                <a:latin typeface="Verdana"/>
              </a:rPr>
              <a:t>                            </a:t>
            </a:r>
            <a:r>
              <a:rPr b="0" i="1" lang="ru-RU" sz="2400" spc="-1" strike="noStrike">
                <a:solidFill>
                  <a:srgbClr val="666600"/>
                </a:solidFill>
                <a:latin typeface="Verdana"/>
              </a:rPr>
              <a:t>учитель МБОУ «СОШ № 49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00"/>
                </a:solidFill>
                <a:latin typeface="Verdana"/>
              </a:rPr>
              <a:t>                               </a:t>
            </a:r>
            <a:r>
              <a:rPr b="0" i="1" lang="ru-RU" sz="2400" spc="-1" strike="noStrike">
                <a:solidFill>
                  <a:srgbClr val="666600"/>
                </a:solidFill>
                <a:latin typeface="Verdana"/>
              </a:rPr>
              <a:t>г.Чебокса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1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65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5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Особенности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содержания и методик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ьные учебные задания для самостоятельной работ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тетради на печатной основ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к индивидуализированной самостоятельной работ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пособление к имеющейся учебной литерату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cademy Engraved LET"/>
              </a:rPr>
              <a:t>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692360" y="189000"/>
            <a:ext cx="644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Verdana"/>
              </a:rPr>
              <a:t>Индивидуализацию можно рассматривать с точек зр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00000" y="1700280"/>
            <a:ext cx="76327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00"/>
                </a:solidFill>
                <a:latin typeface="Verdana"/>
              </a:rPr>
              <a:t>процесса обуч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касается отбора форм, методов и приемов обуч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66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00"/>
                </a:solidFill>
                <a:latin typeface="Verdana"/>
              </a:rPr>
              <a:t>содержания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создание учебных планов, программ, учебной литературы и составление заданий, предъявляемых учащим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66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00"/>
                </a:solidFill>
                <a:latin typeface="Verdana"/>
              </a:rPr>
              <a:t>построения школь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формирование различных типов школ и кла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6877080" y="3429000"/>
            <a:ext cx="22669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cademy Engraved LET"/>
              </a:rPr>
              <a:t>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535560" cy="305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262320" cy="38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3024360" cy="231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076720" y="3573360"/>
            <a:ext cx="352764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пасибо за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8327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cademy Engraved LET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ечественной педагогической практике и теории наиболее ярким примером технологий внутриклассной индивидуализации обучения являе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технология</a:t>
            </a: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индивидуализированного </a:t>
            </a: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обучения Инге У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588000" y="4370400"/>
            <a:ext cx="2300400" cy="24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78598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Технология индивидуализации обучения</a:t>
            </a:r>
            <a:r>
              <a:rPr b="1" lang="ru-RU" sz="2800" spc="-1" strike="noStrike">
                <a:solidFill>
                  <a:srgbClr val="cc6600"/>
                </a:solidFill>
                <a:latin typeface="Garamond"/>
              </a:rPr>
              <a:t>(И.Э. Унт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00"/>
                </a:solidFill>
                <a:latin typeface="Verdana"/>
              </a:rPr>
              <a:t>    </a:t>
            </a:r>
            <a:r>
              <a:rPr b="1" i="1" lang="ru-RU" sz="2800" spc="-1" strike="noStrike">
                <a:solidFill>
                  <a:srgbClr val="cc9900"/>
                </a:solidFill>
                <a:latin typeface="Verdana"/>
              </a:rPr>
              <a:t>Гипотеза И. Унт: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ых условиях главная форма индивидуализации обучения — самостоятельная работа учащегося в школе и до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cc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ятие </a:t>
            </a:r>
            <a:r>
              <a:rPr b="0" lang="ru-RU" sz="3600" spc="-1" strike="noStrike">
                <a:solidFill>
                  <a:srgbClr val="666600"/>
                </a:solidFill>
                <a:latin typeface="Verdana"/>
              </a:rPr>
              <a:t>индивидуализаци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овсе не предполагает обязательного учета особенностей каждого, чаще всего исследователи ограничиваются учетом групп учащихся сходных по какому-либо признаку.</a:t>
            </a:r>
            <a:r>
              <a:rPr b="0" lang="ru-RU" sz="2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По мнению И. Унт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6600"/>
                </a:solidFill>
                <a:latin typeface="Garamond"/>
              </a:rPr>
              <a:t>Инге Унт считае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практике, речь идет не об </a:t>
            </a:r>
            <a:r>
              <a:rPr b="0" lang="ru-RU" sz="3200" spc="-1" strike="noStrike">
                <a:solidFill>
                  <a:srgbClr val="666600"/>
                </a:solidFill>
                <a:latin typeface="Verdana"/>
              </a:rPr>
              <a:t>абсолют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а об </a:t>
            </a:r>
            <a:r>
              <a:rPr b="0" lang="ru-RU" sz="3200" spc="-1" strike="noStrike">
                <a:solidFill>
                  <a:srgbClr val="666600"/>
                </a:solidFill>
                <a:latin typeface="Verdana"/>
              </a:rPr>
              <a:t>относительной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762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Причины относительности индивидуализации:</a:t>
            </a:r>
            <a:br>
              <a:rPr sz="32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1 причин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ьные особенности не каждого отдельного учащегося, а группы учащихся, обладающих примерно сходными особенностя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7767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35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 причин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ывая лишь известные особенности или их комплексы и именно такие, которые важны с точки зрения учения (например, умственные способности), наряду с этим может выступать ряд особенностей, учет которых в конкретной форме индивидуализации невозможен или даже не так уж необходим (например, различные свойства характера или темперамент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 flipV="1">
            <a:off x="539640" y="477000"/>
            <a:ext cx="34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2589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00"/>
                </a:solidFill>
                <a:latin typeface="Garamond"/>
              </a:rPr>
              <a:t>3 причи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огда происходит учет некоторых свойств или состояний лишь в том случае, если это важно для данного ученика (талантливость, свойство здоровья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3601800" cy="2687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281808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00"/>
                </a:solidFill>
                <a:latin typeface="Garamond"/>
              </a:rPr>
              <a:t>4 причи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1187280" y="2060640"/>
            <a:ext cx="352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дивидуализация реализуется не во всем объеме учебной деятельности, а эпизодически, либо в каком-то виде учебной работы и интегрирована с неиндивидуализированной работ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35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8163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5:14:49Z</dcterms:created>
  <dc:creator>User</dc:creator>
  <dc:description/>
  <dc:language>en-US</dc:language>
  <cp:lastModifiedBy>SamLab.ws</cp:lastModifiedBy>
  <dcterms:modified xsi:type="dcterms:W3CDTF">2013-10-04T16:59:41Z</dcterms:modified>
  <cp:revision>25</cp:revision>
  <dc:subject/>
  <dc:title>Слайд 1</dc:title>
</cp:coreProperties>
</file>