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20.png" ContentType="image/png"/>
  <Override PartName="/ppt/media/image18.png" ContentType="image/png"/>
  <Override PartName="/ppt/media/image32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4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245-8988-4B7C-8E37-9C6CF370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8FB-10E8-4AE0-954A-6986113B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420-7C16-4E2A-8B23-D2F48867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735-3416-497F-B2F5-41C0814B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D5B-FA8D-485F-AA42-3C8DB1D7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7E9-AA31-4100-AC0B-6AA8906E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DF2-027F-43D3-9321-E9A9C228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486-4BAD-4496-8767-8B06F0FD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330-5EFB-4B52-A868-4767A72A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395-A744-4C41-805B-C136A100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305-851D-46EF-B0DC-C6810E6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244-5520-43B3-8DFE-26362AE4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8C34-A1D6-4FDF-96E4-A2C98BDC6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6"/>
          <p:cNvSpPr/>
          <p:nvPr/>
        </p:nvSpPr>
        <p:spPr>
          <a:xfrm>
            <a:off x="1643040" y="642960"/>
            <a:ext cx="5786640" cy="3000240"/>
          </a:xfrm>
          <a:prstGeom prst="roundRect">
            <a:avLst>
              <a:gd name="adj" fmla="val 16667"/>
            </a:avLst>
          </a:prstGeom>
          <a:solidFill>
            <a:srgbClr val="8eb4e3">
              <a:alpha val="6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7"/>
          <p:cNvSpPr/>
          <p:nvPr/>
        </p:nvSpPr>
        <p:spPr>
          <a:xfrm>
            <a:off x="2643120" y="5500800"/>
            <a:ext cx="30006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Тест 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по математике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2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D:\Мои рисунки\анимация\школьные\j0283687.gif"/>
          <p:cNvPicPr/>
          <p:nvPr/>
        </p:nvPicPr>
        <p:blipFill>
          <a:blip r:embed="rId2"/>
          <a:stretch/>
        </p:blipFill>
        <p:spPr>
          <a:xfrm>
            <a:off x="7786800" y="142920"/>
            <a:ext cx="107136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28400" y="1214280"/>
            <a:ext cx="871524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пропущенное число, пользуясь переместительным законом умножения. Замените умножение сложением: 5 · 3 = 3 ·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Скругленный прямоугольник 3"/>
          <p:cNvGrpSpPr/>
          <p:nvPr/>
        </p:nvGrpSpPr>
        <p:grpSpPr>
          <a:xfrm>
            <a:off x="5145120" y="3468600"/>
            <a:ext cx="3986280" cy="1116000"/>
            <a:chOff x="5145120" y="3468600"/>
            <a:chExt cx="3986280" cy="1116000"/>
          </a:xfrm>
        </p:grpSpPr>
        <p:pic>
          <p:nvPicPr>
            <p:cNvPr id="162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5145120" y="3468600"/>
              <a:ext cx="3986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253120" y="3538440"/>
              <a:ext cx="3566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+5+5=3+3+3+3+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Скругленный прямоугольник 4"/>
          <p:cNvGrpSpPr/>
          <p:nvPr/>
        </p:nvGrpSpPr>
        <p:grpSpPr>
          <a:xfrm>
            <a:off x="3432240" y="4395960"/>
            <a:ext cx="3906720" cy="1109520"/>
            <a:chOff x="3432240" y="4395960"/>
            <a:chExt cx="3906720" cy="1109520"/>
          </a:xfrm>
        </p:grpSpPr>
        <p:pic>
          <p:nvPicPr>
            <p:cNvPr id="165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432240" y="4395960"/>
              <a:ext cx="3906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538440" y="44672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+5+5+5+5=3+3+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Скругленный прямоугольник 5"/>
          <p:cNvGrpSpPr/>
          <p:nvPr/>
        </p:nvGrpSpPr>
        <p:grpSpPr>
          <a:xfrm>
            <a:off x="858960" y="5327640"/>
            <a:ext cx="4060800" cy="1116000"/>
            <a:chOff x="858960" y="5327640"/>
            <a:chExt cx="4060800" cy="1116000"/>
          </a:xfrm>
        </p:grpSpPr>
        <p:pic>
          <p:nvPicPr>
            <p:cNvPr id="168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858960" y="5327640"/>
              <a:ext cx="4060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966960" y="5396040"/>
              <a:ext cx="3638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+5+5=3+3+3+3+3+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Значение какого выражения равно 2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кругленный прямоугольник 3"/>
          <p:cNvGrpSpPr/>
          <p:nvPr/>
        </p:nvGrpSpPr>
        <p:grpSpPr>
          <a:xfrm>
            <a:off x="2219400" y="4041720"/>
            <a:ext cx="3773520" cy="1116000"/>
            <a:chOff x="2219400" y="4041720"/>
            <a:chExt cx="3773520" cy="1116000"/>
          </a:xfrm>
        </p:grpSpPr>
        <p:pic>
          <p:nvPicPr>
            <p:cNvPr id="176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219400" y="4041720"/>
              <a:ext cx="3773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324160" y="4110120"/>
              <a:ext cx="3352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-(13+8)-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Скругленный прямоугольник 4"/>
          <p:cNvGrpSpPr/>
          <p:nvPr/>
        </p:nvGrpSpPr>
        <p:grpSpPr>
          <a:xfrm>
            <a:off x="933480" y="2895480"/>
            <a:ext cx="3625920" cy="1116000"/>
            <a:chOff x="933480" y="2895480"/>
            <a:chExt cx="3625920" cy="1116000"/>
          </a:xfrm>
        </p:grpSpPr>
        <p:pic>
          <p:nvPicPr>
            <p:cNvPr id="17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933480" y="2895480"/>
              <a:ext cx="36259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038240" y="2967120"/>
              <a:ext cx="32097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-(31-5)+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Скругленный прямоугольник 5"/>
          <p:cNvGrpSpPr/>
          <p:nvPr/>
        </p:nvGrpSpPr>
        <p:grpSpPr>
          <a:xfrm>
            <a:off x="4432320" y="5181480"/>
            <a:ext cx="3846600" cy="1116000"/>
            <a:chOff x="4432320" y="5181480"/>
            <a:chExt cx="3846600" cy="1116000"/>
          </a:xfrm>
        </p:grpSpPr>
        <p:pic>
          <p:nvPicPr>
            <p:cNvPr id="18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432320" y="5181480"/>
              <a:ext cx="3846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38520" y="5253120"/>
              <a:ext cx="34243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9+27-15-3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9680" y="1642680"/>
            <a:ext cx="86439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лина прямоугольника 6 см, а ши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см. Чему равен периметр прямо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Скругленный прямоугольник 3"/>
          <p:cNvGrpSpPr/>
          <p:nvPr/>
        </p:nvGrpSpPr>
        <p:grpSpPr>
          <a:xfrm>
            <a:off x="4505400" y="4327560"/>
            <a:ext cx="3340080" cy="1116000"/>
            <a:chOff x="4505400" y="4327560"/>
            <a:chExt cx="3340080" cy="1116000"/>
          </a:xfrm>
        </p:grpSpPr>
        <p:pic>
          <p:nvPicPr>
            <p:cNvPr id="19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505400" y="4327560"/>
              <a:ext cx="33400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610160" y="4395960"/>
              <a:ext cx="2924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 с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Скругленный прямоугольник 4"/>
          <p:cNvGrpSpPr/>
          <p:nvPr/>
        </p:nvGrpSpPr>
        <p:grpSpPr>
          <a:xfrm>
            <a:off x="1006560" y="5254560"/>
            <a:ext cx="3267000" cy="1116000"/>
            <a:chOff x="1006560" y="5254560"/>
            <a:chExt cx="3267000" cy="1116000"/>
          </a:xfrm>
        </p:grpSpPr>
        <p:pic>
          <p:nvPicPr>
            <p:cNvPr id="19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006560" y="5254560"/>
              <a:ext cx="3267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109520" y="5324400"/>
              <a:ext cx="2853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с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Скругленный прямоугольник 5"/>
          <p:cNvGrpSpPr/>
          <p:nvPr/>
        </p:nvGrpSpPr>
        <p:grpSpPr>
          <a:xfrm>
            <a:off x="6076800" y="3181320"/>
            <a:ext cx="3127680" cy="1116000"/>
            <a:chOff x="6076800" y="3181320"/>
            <a:chExt cx="3127680" cy="1116000"/>
          </a:xfrm>
        </p:grpSpPr>
        <p:pic>
          <p:nvPicPr>
            <p:cNvPr id="19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6076800" y="3181320"/>
              <a:ext cx="3127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181560" y="3252960"/>
              <a:ext cx="27100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 с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9"/>
          <p:cNvSpPr/>
          <p:nvPr/>
        </p:nvSpPr>
        <p:spPr>
          <a:xfrm>
            <a:off x="1285920" y="3571920"/>
            <a:ext cx="264312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Периметр квадрата равен 20 дм. Чему равна сторона квадрат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Скругленный прямоугольник 3"/>
          <p:cNvGrpSpPr/>
          <p:nvPr/>
        </p:nvGrpSpPr>
        <p:grpSpPr>
          <a:xfrm>
            <a:off x="2292480" y="5181480"/>
            <a:ext cx="3693960" cy="1116000"/>
            <a:chOff x="2292480" y="5181480"/>
            <a:chExt cx="3693960" cy="1116000"/>
          </a:xfrm>
        </p:grpSpPr>
        <p:pic>
          <p:nvPicPr>
            <p:cNvPr id="20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292480" y="5181480"/>
              <a:ext cx="36939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395440" y="5253120"/>
              <a:ext cx="32814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д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Скругленный прямоугольник 4"/>
          <p:cNvGrpSpPr/>
          <p:nvPr/>
        </p:nvGrpSpPr>
        <p:grpSpPr>
          <a:xfrm>
            <a:off x="4290840" y="4041720"/>
            <a:ext cx="3414960" cy="1116000"/>
            <a:chOff x="4290840" y="4041720"/>
            <a:chExt cx="3414960" cy="1116000"/>
          </a:xfrm>
        </p:grpSpPr>
        <p:pic>
          <p:nvPicPr>
            <p:cNvPr id="20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290840" y="4041720"/>
              <a:ext cx="34149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395960" y="4110120"/>
              <a:ext cx="2995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д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Скругленный прямоугольник 5"/>
          <p:cNvGrpSpPr/>
          <p:nvPr/>
        </p:nvGrpSpPr>
        <p:grpSpPr>
          <a:xfrm>
            <a:off x="5505480" y="2968560"/>
            <a:ext cx="3699000" cy="1116000"/>
            <a:chOff x="5505480" y="2968560"/>
            <a:chExt cx="3699000" cy="1116000"/>
          </a:xfrm>
        </p:grpSpPr>
        <p:pic>
          <p:nvPicPr>
            <p:cNvPr id="21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505480" y="2968560"/>
              <a:ext cx="3699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610240" y="3038400"/>
              <a:ext cx="32814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д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9"/>
          <p:cNvSpPr/>
          <p:nvPr/>
        </p:nvSpPr>
        <p:spPr>
          <a:xfrm>
            <a:off x="1357200" y="3143160"/>
            <a:ext cx="1428840" cy="13575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упили 6 пакетов крупы по 3 кг каждый. Сколько килограммов крупы купил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Скругленный прямоугольник 3"/>
          <p:cNvGrpSpPr/>
          <p:nvPr/>
        </p:nvGrpSpPr>
        <p:grpSpPr>
          <a:xfrm>
            <a:off x="858960" y="3828960"/>
            <a:ext cx="3700440" cy="1114560"/>
            <a:chOff x="858960" y="3828960"/>
            <a:chExt cx="3700440" cy="1114560"/>
          </a:xfrm>
        </p:grpSpPr>
        <p:pic>
          <p:nvPicPr>
            <p:cNvPr id="22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858960" y="3828960"/>
              <a:ext cx="37004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966960" y="3895560"/>
              <a:ext cx="32810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 · 6=18(</a:t>
              </a:r>
              <a:r>
                <a:rPr b="1" lang="en-US" sz="3200" spc="-1" strike="noStrike">
                  <a:solidFill>
                    <a:srgbClr val="17375e"/>
                  </a:solidFill>
                  <a:latin typeface="Arial"/>
                  <a:ea typeface="Arial"/>
                </a:rPr>
                <a:t>кг</a:t>
              </a:r>
              <a:r>
                <a:rPr b="1" lang="en-US" sz="4000" spc="-1" strike="noStrike">
                  <a:solidFill>
                    <a:srgbClr val="17375e"/>
                  </a:solidFill>
                  <a:latin typeface="Arial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4"/>
          <p:cNvGrpSpPr/>
          <p:nvPr/>
        </p:nvGrpSpPr>
        <p:grpSpPr>
          <a:xfrm>
            <a:off x="1006560" y="5114880"/>
            <a:ext cx="3625920" cy="1114560"/>
            <a:chOff x="1006560" y="5114880"/>
            <a:chExt cx="3625920" cy="1114560"/>
          </a:xfrm>
        </p:grpSpPr>
        <p:pic>
          <p:nvPicPr>
            <p:cNvPr id="22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006560" y="5114880"/>
              <a:ext cx="362592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109520" y="5181480"/>
              <a:ext cx="32101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7375e"/>
                  </a:solidFill>
                  <a:latin typeface="Arial"/>
                  <a:ea typeface="Arial"/>
                </a:rPr>
                <a:t>6 · 3=18(</a:t>
              </a:r>
              <a:r>
                <a:rPr b="1" lang="en-US" sz="3200" spc="-1" strike="noStrike">
                  <a:solidFill>
                    <a:srgbClr val="17375e"/>
                  </a:solidFill>
                  <a:latin typeface="Arial"/>
                  <a:ea typeface="Arial"/>
                </a:rPr>
                <a:t>кг</a:t>
              </a:r>
              <a:r>
                <a:rPr b="1" lang="en-US" sz="4000" spc="-1" strike="noStrike">
                  <a:solidFill>
                    <a:srgbClr val="17375e"/>
                  </a:solidFill>
                  <a:latin typeface="Arial"/>
                  <a:ea typeface="Arial"/>
                </a:rPr>
                <a:t>)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5"/>
          <p:cNvGrpSpPr/>
          <p:nvPr/>
        </p:nvGrpSpPr>
        <p:grpSpPr>
          <a:xfrm>
            <a:off x="5005440" y="5181480"/>
            <a:ext cx="3700440" cy="1116000"/>
            <a:chOff x="5005440" y="5181480"/>
            <a:chExt cx="3700440" cy="1116000"/>
          </a:xfrm>
        </p:grpSpPr>
        <p:pic>
          <p:nvPicPr>
            <p:cNvPr id="22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005440" y="5181480"/>
              <a:ext cx="3700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110200" y="5253120"/>
              <a:ext cx="32814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7375e"/>
                  </a:solidFill>
                  <a:latin typeface="Arial"/>
                  <a:ea typeface="Arial"/>
                </a:rPr>
                <a:t>6 · 3=24(</a:t>
              </a:r>
              <a:r>
                <a:rPr b="1" lang="en-US" sz="3200" spc="-1" strike="noStrike">
                  <a:solidFill>
                    <a:srgbClr val="17375e"/>
                  </a:solidFill>
                  <a:latin typeface="Arial"/>
                  <a:ea typeface="Arial"/>
                </a:rPr>
                <a:t>кг</a:t>
              </a:r>
              <a:r>
                <a:rPr b="1" lang="en-US" sz="4000" spc="-1" strike="noStrike">
                  <a:solidFill>
                    <a:srgbClr val="17375e"/>
                  </a:solidFill>
                  <a:latin typeface="Arial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C:\Documents and Settings\Admin\Рабочий стол\12692421156383.jpg"/>
          <p:cNvPicPr/>
          <p:nvPr/>
        </p:nvPicPr>
        <p:blipFill>
          <a:blip r:embed="rId7"/>
          <a:stretch/>
        </p:blipFill>
        <p:spPr>
          <a:xfrm>
            <a:off x="5072040" y="3000240"/>
            <a:ext cx="351468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упили 3 десятка яиц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разложили их поровну в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оробки. Сколько яиц ст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 каждой коробке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Скругленный прямоугольник 3"/>
          <p:cNvGrpSpPr/>
          <p:nvPr/>
        </p:nvGrpSpPr>
        <p:grpSpPr>
          <a:xfrm>
            <a:off x="5364000" y="3541680"/>
            <a:ext cx="4054680" cy="1116000"/>
            <a:chOff x="5364000" y="3541680"/>
            <a:chExt cx="4054680" cy="1116000"/>
          </a:xfrm>
        </p:grpSpPr>
        <p:pic>
          <p:nvPicPr>
            <p:cNvPr id="23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5364000" y="3541680"/>
              <a:ext cx="4054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467320" y="3610080"/>
              <a:ext cx="3638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:2=15(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яиц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Скругленный прямоугольник 4"/>
          <p:cNvGrpSpPr/>
          <p:nvPr/>
        </p:nvGrpSpPr>
        <p:grpSpPr>
          <a:xfrm>
            <a:off x="858960" y="4968720"/>
            <a:ext cx="3846240" cy="1114560"/>
            <a:chOff x="858960" y="4968720"/>
            <a:chExt cx="3846240" cy="1114560"/>
          </a:xfrm>
        </p:grpSpPr>
        <p:pic>
          <p:nvPicPr>
            <p:cNvPr id="23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858960" y="4968720"/>
              <a:ext cx="38462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966960" y="5038560"/>
              <a:ext cx="34239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: 2=5(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яиц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кругленный прямоугольник 5"/>
          <p:cNvGrpSpPr/>
          <p:nvPr/>
        </p:nvGrpSpPr>
        <p:grpSpPr>
          <a:xfrm>
            <a:off x="4863960" y="5041800"/>
            <a:ext cx="4340520" cy="1114560"/>
            <a:chOff x="4863960" y="5041800"/>
            <a:chExt cx="4340520" cy="1114560"/>
          </a:xfrm>
        </p:grpSpPr>
        <p:pic>
          <p:nvPicPr>
            <p:cNvPr id="24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863960" y="5041800"/>
              <a:ext cx="434052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967280" y="511020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r>
                <a:rPr b="1" lang="en-US" sz="4000" spc="-1" strike="noStrike">
                  <a:solidFill>
                    <a:srgbClr val="17375e"/>
                  </a:solidFill>
                  <a:latin typeface="Arial"/>
                  <a:ea typeface="Arial"/>
                </a:rPr>
                <a:t> · 2 =60 (</a:t>
              </a:r>
              <a:r>
                <a:rPr b="1" lang="en-US" sz="3200" spc="-1" strike="noStrike">
                  <a:solidFill>
                    <a:srgbClr val="17375e"/>
                  </a:solidFill>
                  <a:latin typeface="Arial"/>
                  <a:ea typeface="Arial"/>
                </a:rPr>
                <a:t>яиц</a:t>
              </a:r>
              <a:r>
                <a:rPr b="1" lang="en-US" sz="4000" spc="-1" strike="noStrike">
                  <a:solidFill>
                    <a:srgbClr val="17375e"/>
                  </a:solidFill>
                  <a:latin typeface="Arial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C:\Documents and Settings\Admin\Рабочий стол\top-2.jpg"/>
          <p:cNvPicPr/>
          <p:nvPr/>
        </p:nvPicPr>
        <p:blipFill>
          <a:blip r:embed="rId7"/>
          <a:stretch/>
        </p:blipFill>
        <p:spPr>
          <a:xfrm>
            <a:off x="6357960" y="1643040"/>
            <a:ext cx="207180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3572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У Пети 24 марки, а наклеек на 18 больше, чем марок, а открыток на 35 меньше, чем марок и наклеек вместе. Сколько открыток у Пе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Скругленный прямоугольник 3"/>
          <p:cNvGrpSpPr/>
          <p:nvPr/>
        </p:nvGrpSpPr>
        <p:grpSpPr>
          <a:xfrm>
            <a:off x="2719440" y="4968720"/>
            <a:ext cx="4840200" cy="1114560"/>
            <a:chOff x="2719440" y="4968720"/>
            <a:chExt cx="4840200" cy="1114560"/>
          </a:xfrm>
        </p:grpSpPr>
        <p:pic>
          <p:nvPicPr>
            <p:cNvPr id="25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719440" y="4968720"/>
              <a:ext cx="48402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824200" y="5038560"/>
              <a:ext cx="44244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4+18)+24-35=31(шт)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Скругленный прямоугольник 4"/>
          <p:cNvGrpSpPr/>
          <p:nvPr/>
        </p:nvGrpSpPr>
        <p:grpSpPr>
          <a:xfrm>
            <a:off x="719280" y="3895560"/>
            <a:ext cx="4333680" cy="1109880"/>
            <a:chOff x="719280" y="3895560"/>
            <a:chExt cx="4333680" cy="1109880"/>
          </a:xfrm>
        </p:grpSpPr>
        <p:pic>
          <p:nvPicPr>
            <p:cNvPr id="25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719280" y="3895560"/>
              <a:ext cx="433368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824040" y="3967200"/>
              <a:ext cx="3924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4+18)+24-35=21(шт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Скругленный прямоугольник 5"/>
          <p:cNvGrpSpPr/>
          <p:nvPr/>
        </p:nvGrpSpPr>
        <p:grpSpPr>
          <a:xfrm>
            <a:off x="4932360" y="3895560"/>
            <a:ext cx="4340160" cy="1109880"/>
            <a:chOff x="4932360" y="3895560"/>
            <a:chExt cx="4340160" cy="1109880"/>
          </a:xfrm>
        </p:grpSpPr>
        <p:pic>
          <p:nvPicPr>
            <p:cNvPr id="25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932360" y="3895560"/>
              <a:ext cx="43401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038560" y="396720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4+18)-24+35=53(шт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пример с ответом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Скругленный прямоугольник 3"/>
          <p:cNvGrpSpPr/>
          <p:nvPr/>
        </p:nvGrpSpPr>
        <p:grpSpPr>
          <a:xfrm>
            <a:off x="1006560" y="4395960"/>
            <a:ext cx="3120840" cy="1109520"/>
            <a:chOff x="1006560" y="4395960"/>
            <a:chExt cx="3120840" cy="1109520"/>
          </a:xfrm>
        </p:grpSpPr>
        <p:pic>
          <p:nvPicPr>
            <p:cNvPr id="5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06560" y="4395960"/>
              <a:ext cx="31208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109520" y="4467240"/>
              <a:ext cx="27100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-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Скругленный прямоугольник 4"/>
          <p:cNvGrpSpPr/>
          <p:nvPr/>
        </p:nvGrpSpPr>
        <p:grpSpPr>
          <a:xfrm>
            <a:off x="3219480" y="2968560"/>
            <a:ext cx="3200400" cy="1116000"/>
            <a:chOff x="3219480" y="2968560"/>
            <a:chExt cx="3200400" cy="1116000"/>
          </a:xfrm>
        </p:grpSpPr>
        <p:pic>
          <p:nvPicPr>
            <p:cNvPr id="5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219480" y="2968560"/>
              <a:ext cx="3200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324240" y="3038400"/>
              <a:ext cx="2781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 -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Скругленный прямоугольник 5"/>
          <p:cNvGrpSpPr/>
          <p:nvPr/>
        </p:nvGrpSpPr>
        <p:grpSpPr>
          <a:xfrm>
            <a:off x="5364000" y="4395960"/>
            <a:ext cx="3121200" cy="1109520"/>
            <a:chOff x="5364000" y="4395960"/>
            <a:chExt cx="3121200" cy="1109520"/>
          </a:xfrm>
        </p:grpSpPr>
        <p:pic>
          <p:nvPicPr>
            <p:cNvPr id="5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364000" y="4395960"/>
              <a:ext cx="31212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467320" y="4467240"/>
              <a:ext cx="27097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 -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  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Скругленный прямоугольник 3"/>
          <p:cNvGrpSpPr/>
          <p:nvPr/>
        </p:nvGrpSpPr>
        <p:grpSpPr>
          <a:xfrm>
            <a:off x="1006560" y="3114720"/>
            <a:ext cx="2627280" cy="1116000"/>
            <a:chOff x="1006560" y="3114720"/>
            <a:chExt cx="2627280" cy="1116000"/>
          </a:xfrm>
        </p:grpSpPr>
        <p:pic>
          <p:nvPicPr>
            <p:cNvPr id="63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06560" y="3114720"/>
              <a:ext cx="2627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109520" y="3181320"/>
              <a:ext cx="2210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Скругленный прямоугольник 4"/>
          <p:cNvGrpSpPr/>
          <p:nvPr/>
        </p:nvGrpSpPr>
        <p:grpSpPr>
          <a:xfrm>
            <a:off x="5430960" y="4900680"/>
            <a:ext cx="2560680" cy="1116000"/>
            <a:chOff x="5430960" y="4900680"/>
            <a:chExt cx="2560680" cy="1116000"/>
          </a:xfrm>
        </p:grpSpPr>
        <p:pic>
          <p:nvPicPr>
            <p:cNvPr id="66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5430960" y="4900680"/>
              <a:ext cx="2560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38960" y="4967280"/>
              <a:ext cx="2138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Скругленный прямоугольник 5"/>
          <p:cNvGrpSpPr/>
          <p:nvPr/>
        </p:nvGrpSpPr>
        <p:grpSpPr>
          <a:xfrm>
            <a:off x="2932200" y="4114800"/>
            <a:ext cx="2554200" cy="1116000"/>
            <a:chOff x="2932200" y="4114800"/>
            <a:chExt cx="2554200" cy="1116000"/>
          </a:xfrm>
        </p:grpSpPr>
        <p:pic>
          <p:nvPicPr>
            <p:cNvPr id="69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932200" y="4114800"/>
              <a:ext cx="25542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038400" y="4181400"/>
              <a:ext cx="21384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456840" y="1600200"/>
            <a:ext cx="854388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каком числе 6 десятков и 4 единицы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 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акие числа являются соседями числа 5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кругленный прямоугольник 3"/>
          <p:cNvGrpSpPr/>
          <p:nvPr/>
        </p:nvGrpSpPr>
        <p:grpSpPr>
          <a:xfrm>
            <a:off x="1006560" y="5327640"/>
            <a:ext cx="3552840" cy="1116000"/>
            <a:chOff x="1006560" y="5327640"/>
            <a:chExt cx="3552840" cy="1116000"/>
          </a:xfrm>
        </p:grpSpPr>
        <p:pic>
          <p:nvPicPr>
            <p:cNvPr id="78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06560" y="5327640"/>
              <a:ext cx="35528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109520" y="5396040"/>
              <a:ext cx="31384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9 и 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4"/>
          <p:cNvGrpSpPr/>
          <p:nvPr/>
        </p:nvGrpSpPr>
        <p:grpSpPr>
          <a:xfrm>
            <a:off x="3219480" y="4395960"/>
            <a:ext cx="3546360" cy="1109520"/>
            <a:chOff x="3219480" y="4395960"/>
            <a:chExt cx="3546360" cy="1109520"/>
          </a:xfrm>
        </p:grpSpPr>
        <p:pic>
          <p:nvPicPr>
            <p:cNvPr id="81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219480" y="4395960"/>
              <a:ext cx="35463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324240" y="4467240"/>
              <a:ext cx="31384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 и 5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5"/>
          <p:cNvGrpSpPr/>
          <p:nvPr/>
        </p:nvGrpSpPr>
        <p:grpSpPr>
          <a:xfrm>
            <a:off x="4791240" y="3181320"/>
            <a:ext cx="3627360" cy="1116000"/>
            <a:chOff x="4791240" y="3181320"/>
            <a:chExt cx="3627360" cy="1116000"/>
          </a:xfrm>
        </p:grpSpPr>
        <p:pic>
          <p:nvPicPr>
            <p:cNvPr id="84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791240" y="3181320"/>
              <a:ext cx="3627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896000" y="3252960"/>
              <a:ext cx="32097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9 и 6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  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4284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ь число 78 в виде суммы разрядных слагаем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3"/>
          <p:cNvGrpSpPr/>
          <p:nvPr/>
        </p:nvGrpSpPr>
        <p:grpSpPr>
          <a:xfrm>
            <a:off x="2432160" y="3968640"/>
            <a:ext cx="3913200" cy="1116000"/>
            <a:chOff x="2432160" y="3968640"/>
            <a:chExt cx="3913200" cy="1116000"/>
          </a:xfrm>
        </p:grpSpPr>
        <p:pic>
          <p:nvPicPr>
            <p:cNvPr id="92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432160" y="3968640"/>
              <a:ext cx="39132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538360" y="403848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 +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4"/>
          <p:cNvGrpSpPr/>
          <p:nvPr/>
        </p:nvGrpSpPr>
        <p:grpSpPr>
          <a:xfrm>
            <a:off x="1219320" y="2895480"/>
            <a:ext cx="3767040" cy="1116000"/>
            <a:chOff x="1219320" y="2895480"/>
            <a:chExt cx="3767040" cy="1116000"/>
          </a:xfrm>
        </p:grpSpPr>
        <p:pic>
          <p:nvPicPr>
            <p:cNvPr id="95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219320" y="2895480"/>
              <a:ext cx="3767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324080" y="2967120"/>
              <a:ext cx="3352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 +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Скругленный прямоугольник 5"/>
          <p:cNvGrpSpPr/>
          <p:nvPr/>
        </p:nvGrpSpPr>
        <p:grpSpPr>
          <a:xfrm>
            <a:off x="4645080" y="5041800"/>
            <a:ext cx="3846600" cy="1114560"/>
            <a:chOff x="4645080" y="5041800"/>
            <a:chExt cx="3846600" cy="1114560"/>
          </a:xfrm>
        </p:grpSpPr>
        <p:pic>
          <p:nvPicPr>
            <p:cNvPr id="98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645080" y="5041800"/>
              <a:ext cx="3846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53080" y="5110200"/>
              <a:ext cx="3423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+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  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400" y="1428480"/>
            <a:ext cx="84294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часов и минут в 75 минут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Скругленный прямоугольник 3"/>
          <p:cNvGrpSpPr/>
          <p:nvPr/>
        </p:nvGrpSpPr>
        <p:grpSpPr>
          <a:xfrm>
            <a:off x="4645080" y="3468600"/>
            <a:ext cx="3560760" cy="1116000"/>
            <a:chOff x="4645080" y="3468600"/>
            <a:chExt cx="3560760" cy="1116000"/>
          </a:xfrm>
        </p:grpSpPr>
        <p:pic>
          <p:nvPicPr>
            <p:cNvPr id="106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645080" y="3468600"/>
              <a:ext cx="35607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753080" y="3538440"/>
              <a:ext cx="31384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ч 15 ми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Скругленный прямоугольник 4"/>
          <p:cNvGrpSpPr/>
          <p:nvPr/>
        </p:nvGrpSpPr>
        <p:grpSpPr>
          <a:xfrm>
            <a:off x="1073160" y="3468600"/>
            <a:ext cx="3486240" cy="1116000"/>
            <a:chOff x="1073160" y="3468600"/>
            <a:chExt cx="3486240" cy="1116000"/>
          </a:xfrm>
        </p:grpSpPr>
        <p:pic>
          <p:nvPicPr>
            <p:cNvPr id="10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073160" y="3468600"/>
              <a:ext cx="3486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181160" y="3538440"/>
              <a:ext cx="3066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ч 5 ми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кругленный прямоугольник 5"/>
          <p:cNvGrpSpPr/>
          <p:nvPr/>
        </p:nvGrpSpPr>
        <p:grpSpPr>
          <a:xfrm>
            <a:off x="3005280" y="4827600"/>
            <a:ext cx="3840120" cy="1116000"/>
            <a:chOff x="3005280" y="4827600"/>
            <a:chExt cx="3840120" cy="1116000"/>
          </a:xfrm>
        </p:grpSpPr>
        <p:pic>
          <p:nvPicPr>
            <p:cNvPr id="11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005280" y="4827600"/>
              <a:ext cx="38401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110040" y="4896000"/>
              <a:ext cx="3423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ч 15 ми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571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ют число, которое вычит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Скругленный прямоугольник 3"/>
          <p:cNvGrpSpPr/>
          <p:nvPr/>
        </p:nvGrpSpPr>
        <p:grpSpPr>
          <a:xfrm>
            <a:off x="2432160" y="3754440"/>
            <a:ext cx="4060800" cy="1116000"/>
            <a:chOff x="2432160" y="3754440"/>
            <a:chExt cx="4060800" cy="1116000"/>
          </a:xfrm>
        </p:grpSpPr>
        <p:pic>
          <p:nvPicPr>
            <p:cNvPr id="12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432160" y="3754440"/>
              <a:ext cx="4060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538360" y="3824280"/>
              <a:ext cx="3638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ЧИТАЕМ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4"/>
          <p:cNvGrpSpPr/>
          <p:nvPr/>
        </p:nvGrpSpPr>
        <p:grpSpPr>
          <a:xfrm>
            <a:off x="858960" y="5041800"/>
            <a:ext cx="4127400" cy="1114560"/>
            <a:chOff x="858960" y="5041800"/>
            <a:chExt cx="4127400" cy="1114560"/>
          </a:xfrm>
        </p:grpSpPr>
        <p:pic>
          <p:nvPicPr>
            <p:cNvPr id="12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858960" y="5041800"/>
              <a:ext cx="41274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966960" y="5110200"/>
              <a:ext cx="37098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З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5"/>
          <p:cNvGrpSpPr/>
          <p:nvPr/>
        </p:nvGrpSpPr>
        <p:grpSpPr>
          <a:xfrm>
            <a:off x="5078520" y="5041800"/>
            <a:ext cx="4198680" cy="1114560"/>
            <a:chOff x="5078520" y="5041800"/>
            <a:chExt cx="4198680" cy="1114560"/>
          </a:xfrm>
        </p:grpSpPr>
        <p:pic>
          <p:nvPicPr>
            <p:cNvPr id="12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078520" y="5041800"/>
              <a:ext cx="4198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181480" y="5110200"/>
              <a:ext cx="3781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МЕНЬШАЕМ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571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 каком неравенстве нужно поставить знак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Скругленный прямоугольник 3"/>
          <p:cNvGrpSpPr/>
          <p:nvPr/>
        </p:nvGrpSpPr>
        <p:grpSpPr>
          <a:xfrm>
            <a:off x="1073160" y="4968720"/>
            <a:ext cx="4059360" cy="1114560"/>
            <a:chOff x="1073160" y="4968720"/>
            <a:chExt cx="4059360" cy="111456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73160" y="4968720"/>
              <a:ext cx="40593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181160" y="5038560"/>
              <a:ext cx="36385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+33…12+5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Скругленный прямоугольник 4"/>
          <p:cNvGrpSpPr/>
          <p:nvPr/>
        </p:nvGrpSpPr>
        <p:grpSpPr>
          <a:xfrm>
            <a:off x="2646360" y="3614760"/>
            <a:ext cx="4125960" cy="1116000"/>
            <a:chOff x="2646360" y="3614760"/>
            <a:chExt cx="4125960" cy="1116000"/>
          </a:xfrm>
        </p:grpSpPr>
        <p:pic>
          <p:nvPicPr>
            <p:cNvPr id="13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646360" y="3614760"/>
              <a:ext cx="41259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52560" y="3681360"/>
              <a:ext cx="37101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4+26…37+3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Скругленный прямоугольник 5"/>
          <p:cNvGrpSpPr/>
          <p:nvPr/>
        </p:nvGrpSpPr>
        <p:grpSpPr>
          <a:xfrm>
            <a:off x="5078520" y="4968720"/>
            <a:ext cx="4198680" cy="1114560"/>
            <a:chOff x="5078520" y="4968720"/>
            <a:chExt cx="4198680" cy="1114560"/>
          </a:xfrm>
        </p:grpSpPr>
        <p:pic>
          <p:nvPicPr>
            <p:cNvPr id="140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078520" y="4968720"/>
              <a:ext cx="4198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181480" y="5038560"/>
              <a:ext cx="37814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1+19…34+5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C:\Documents and Settings\Admin\Рабочий стол\фон мате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28760" y="1571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Чему равен корень уравн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0 – Х = 86 - 59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Скругленный прямоугольник 3"/>
          <p:cNvGrpSpPr/>
          <p:nvPr/>
        </p:nvGrpSpPr>
        <p:grpSpPr>
          <a:xfrm>
            <a:off x="5578560" y="5114880"/>
            <a:ext cx="3127320" cy="1114560"/>
            <a:chOff x="5578560" y="5114880"/>
            <a:chExt cx="3127320" cy="1114560"/>
          </a:xfrm>
        </p:grpSpPr>
        <p:pic>
          <p:nvPicPr>
            <p:cNvPr id="148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5578560" y="5114880"/>
              <a:ext cx="312732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681520" y="5181480"/>
              <a:ext cx="27100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Скругленный прямоугольник 4"/>
          <p:cNvGrpSpPr/>
          <p:nvPr/>
        </p:nvGrpSpPr>
        <p:grpSpPr>
          <a:xfrm>
            <a:off x="3005280" y="4041720"/>
            <a:ext cx="3054240" cy="1116000"/>
            <a:chOff x="3005280" y="4041720"/>
            <a:chExt cx="3054240" cy="1116000"/>
          </a:xfrm>
        </p:grpSpPr>
        <p:pic>
          <p:nvPicPr>
            <p:cNvPr id="151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005280" y="4041720"/>
              <a:ext cx="3054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110040" y="4110120"/>
              <a:ext cx="2638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Скругленный прямоугольник 5"/>
          <p:cNvGrpSpPr/>
          <p:nvPr/>
        </p:nvGrpSpPr>
        <p:grpSpPr>
          <a:xfrm>
            <a:off x="858960" y="2968560"/>
            <a:ext cx="3060720" cy="1116000"/>
            <a:chOff x="858960" y="2968560"/>
            <a:chExt cx="3060720" cy="1116000"/>
          </a:xfrm>
        </p:grpSpPr>
        <p:pic>
          <p:nvPicPr>
            <p:cNvPr id="154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858960" y="2968560"/>
              <a:ext cx="30607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66960" y="3038400"/>
              <a:ext cx="26380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13" descr="D:\Мои рисунки\анимация\78756399111dbcdbfcf00793dbe37981.gif"/>
          <p:cNvPicPr/>
          <p:nvPr/>
        </p:nvPicPr>
        <p:blipFill>
          <a:blip r:embed="rId5"/>
          <a:stretch/>
        </p:blipFill>
        <p:spPr>
          <a:xfrm>
            <a:off x="7929720" y="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6"/>
          <a:stretch/>
        </p:blipFill>
        <p:spPr>
          <a:xfrm>
            <a:off x="785880" y="6286680"/>
            <a:ext cx="8358120" cy="57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8:58:54Z</dcterms:created>
  <dc:creator>КОЖЕВНИКОВА</dc:creator>
  <dc:description/>
  <dc:language>en-US</dc:language>
  <cp:lastModifiedBy>КОЖЕВНИКОВА</cp:lastModifiedBy>
  <dcterms:modified xsi:type="dcterms:W3CDTF">2011-02-01T09:03:06Z</dcterms:modified>
  <cp:revision>1</cp:revision>
  <dc:subject/>
  <dc:title>Тест  по математике 2 класс</dc:title>
</cp:coreProperties>
</file>