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22.png" ContentType="image/png"/>
  <Override PartName="/ppt/media/image20.gif" ContentType="image/gif"/>
  <Override PartName="/ppt/media/image18.jpeg" ContentType="image/jpeg"/>
  <Override PartName="/ppt/media/image19.gif" ContentType="image/gif"/>
  <Override PartName="/ppt/media/image21.gif" ContentType="image/gif"/>
  <Override PartName="/ppt/media/image1.jpeg" ContentType="image/jpeg"/>
  <Override PartName="/ppt/media/image4.gif" ContentType="image/gif"/>
  <Override PartName="/ppt/media/image17.jpeg" ContentType="image/jpeg"/>
  <Override PartName="/ppt/media/image15.gif" ContentType="image/gif"/>
  <Override PartName="/ppt/media/image14.jpeg" ContentType="image/jpeg"/>
  <Override PartName="/ppt/media/image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7BD-28FE-4017-855E-AA0E8F50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415-AB47-4D57-8E5F-571D6B8C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4FF-A389-40B4-BE04-54158975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622-B1A5-472F-9B31-9D73BCC3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284-60AD-4225-B112-91268A4C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1D7-0CAD-4FE6-9B3E-B89B83C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0B3-20A3-424C-AD03-360B750C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C5-10EB-4EB5-8236-322F5F90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039-37FE-444A-AE56-4B3D0AAF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A53-3C41-4F9F-A01A-A0D6AFB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6C9-8B7B-4412-84E6-B7B5996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5BC-B83A-4C6B-86E3-D2A48F13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2F6B-0F13-44C7-84EC-9E6A4EC02BC0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9465-9FA5-469F-9448-AD8D22A1EAD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That`s me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430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odule 2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 Black"/>
              </a:rPr>
              <a:t>Teddy bear</a:t>
            </a:r>
            <a:endParaRPr b="0" lang="en-US" sz="8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43280" y="1989000"/>
            <a:ext cx="2376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ff"/>
                </a:solidFill>
                <a:latin typeface="Arial Black"/>
              </a:rPr>
              <a:t>bicycle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 Black"/>
              </a:rPr>
              <a:t>gloves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cc"/>
                </a:solidFill>
                <a:latin typeface="Arial Black"/>
              </a:rPr>
              <a:t>Digital camera</a:t>
            </a:r>
            <a:endParaRPr b="0" lang="en-US" sz="7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83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cap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77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Arial Black"/>
              </a:rPr>
              <a:t>scarf</a:t>
            </a:r>
            <a:endParaRPr b="0" lang="en-US" sz="8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6985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 Black"/>
              </a:rPr>
              <a:t>trainers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064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Arial Black"/>
              </a:rPr>
              <a:t>mobile phone</a:t>
            </a:r>
            <a:endParaRPr b="0" lang="en-US" sz="8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67120" y="1523880"/>
            <a:ext cx="320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130120"/>
            <a:ext cx="8064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 Black"/>
              </a:rPr>
              <a:t>Which of these things have you got?</a:t>
            </a:r>
            <a:br>
              <a:rPr sz="4800"/>
            </a:br>
            <a:r>
              <a:rPr b="0" lang="en-US" sz="4800" spc="-1" strike="noStrike">
                <a:solidFill>
                  <a:srgbClr val="990000"/>
                </a:solidFill>
                <a:latin typeface="Arial Black"/>
              </a:rPr>
              <a:t>What colour are they?</a:t>
            </a:r>
            <a:endParaRPr b="0" lang="en-US" sz="4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561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 Black"/>
              </a:rPr>
              <a:t>Speaking</a:t>
            </a:r>
            <a:endParaRPr b="0" lang="en-US" sz="88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 Black"/>
              </a:rPr>
              <a:t>Role play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Your friend has got a new skateboard. Act out a dialogue.</a:t>
            </a:r>
            <a:endParaRPr b="0" lang="en-US" sz="54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Be polite.</a:t>
            </a:r>
            <a:endParaRPr b="0" lang="en-US" sz="5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821-84EB-4D70-B730-F78E9BD0A5BE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D48-F9C0-48E3-8114-72680BFB529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24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5640" y="177336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98900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 Black"/>
              </a:rPr>
              <a:t>My things</a:t>
            </a:r>
            <a:endParaRPr b="0" lang="en-US" sz="7200" spc="-1" strike="noStrike">
              <a:solidFill>
                <a:srgbClr val="99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 Black"/>
              </a:rPr>
              <a:t>2b</a:t>
            </a:r>
            <a:endParaRPr b="0" lang="en-US" sz="7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00"/>
                </a:solidFill>
                <a:latin typeface="Arial Black"/>
              </a:rPr>
              <a:t>Model dialogue</a:t>
            </a:r>
            <a:endParaRPr b="0" lang="en-US" sz="6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689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Hi,……!</a:t>
            </a: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s this your new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…..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ow,it`s fantastic!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(great,wonderful,super,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ol)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es.It`s a          from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t`s my birthday today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anks,…!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mile for the camera!?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80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Hi,……!</a:t>
            </a: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Yes, it is!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hanks,…. Is this your new                 ?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Oh,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315288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140360" y="3716280"/>
            <a:ext cx="934920" cy="129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156360" y="2492280"/>
            <a:ext cx="2987640" cy="2665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258920" y="306864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сылки на использованные источники: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Учебник английского языка «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Spotlight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» для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5 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класса .Авторы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Ваулина Ю.Е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Дули Д.,Подоляко О.Е,Эванс В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Google.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Картинки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8466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www.nivagold.ru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Calibri"/>
              </a:rPr>
              <a:t>Personal things</a:t>
            </a:r>
            <a:endParaRPr b="0" lang="en-US" sz="8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Vocabulary</a:t>
            </a:r>
            <a:endParaRPr b="0" lang="en-US" sz="66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 Black"/>
              </a:rPr>
              <a:t>helmet</a:t>
            </a:r>
            <a:endParaRPr b="0" lang="en-US" sz="8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311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 Black"/>
              </a:rPr>
              <a:t>skateboard</a:t>
            </a:r>
            <a:endParaRPr b="0" lang="en-US" sz="8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777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 Black"/>
              </a:rPr>
              <a:t>basketball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04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Arial Black"/>
              </a:rPr>
              <a:t>watch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616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 Black"/>
              </a:rPr>
              <a:t>guitar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4032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 Black"/>
              </a:rPr>
              <a:t>handbag</a:t>
            </a:r>
            <a:endParaRPr b="0" lang="en-US" sz="9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6265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06:54:28Z</dcterms:created>
  <dc:creator>Admin</dc:creator>
  <dc:description>http://aida.ucoz.ru</dc:description>
  <dc:language>en-US</dc:language>
  <cp:lastModifiedBy>Татьяна</cp:lastModifiedBy>
  <dcterms:modified xsi:type="dcterms:W3CDTF">2013-10-04T19:49:33Z</dcterms:modified>
  <cp:revision>4</cp:revision>
  <dc:subject/>
  <dc:title>That`s me</dc:title>
</cp:coreProperties>
</file>