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B19-9085-466D-BBAF-867CB42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1D4-2030-4678-9908-9B72112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346-DA79-49F8-88F8-795E3FD2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7A9-AFEC-45E4-AA40-5F86FBE7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6EF9-A582-4CD6-9AC6-A2AB5CBA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B5BF2-1C69-4B71-98E7-F484F41C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7293-911E-442C-8C5B-02DFA30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D6FB-2098-4562-9BC0-C4D439F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3B9B-2547-44BE-B403-EE03718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3EC3C-686F-4F70-93DC-257EE29F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8812-9195-4D2D-8B32-B54D1D0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DCE-E192-490B-BEE1-ECDDDB8C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0AB88-70EF-44D2-B08C-7DAD9CE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7D760-7564-4788-8776-24BA704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237EF-9A40-44EA-80DF-CB0021D6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12691-2260-46A3-8752-5553BD0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DBB9A-0311-468B-8947-F7CC13A1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28A8-93D0-487C-B314-2D7EA494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392C-FA75-4CEE-9A22-D5452CA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79FD-4A08-4BD7-8C40-0EDB55E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9EA3-850C-4ED3-BC57-5EF881D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20A9-BA17-4EAF-A1C4-9FCC9DE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0CF-5CA0-496E-8A9A-6CC78F4B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5C10-8BED-4DEC-BCFD-CC79016E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82EE-1148-4C6E-8ED2-7C3217D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6503-D5B4-4968-9C54-62B6A45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698B-3358-417B-A4AD-3F18869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1B1A-3BB1-4DD0-8DEF-52168849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C757-9157-4362-93C2-5DFE2855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28E6-F95E-4688-8D66-2C7B4DF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9CD-69B9-4FEF-A7E1-43C16F28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8E4-6C88-463A-88B3-215255FF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59B-ACF3-4174-9F13-7854078F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6D8-E634-467D-906B-808EA9C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3FF-92CF-4049-B36C-9D09916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6A0-2AFC-4711-AF19-00BAE48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74D3-6BE2-4A66-A87C-710AC587FA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deti-66.ru/ конкурс "Мастер презентаций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7D8-9691-46A6-AC9D-2382888BA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4526-FA73-4A79-A5D6-7258B8D37713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64E-180C-4030-B62B-7CBF2738DC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http://www.deti-66.ru/ конкурс "Мастер презентаций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454A-84F0-4967-8FB1-FA777276B71E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http://www.deti-66.ru/ конкурс "Мастер презентаций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BA6F-5B3F-4E81-9B16-C5C9041A70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volutsi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1042920" y="1989000"/>
            <a:ext cx="6624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Волшебная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трана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сер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42" name="Picture 4" descr="18bd50098a9c9073100158e035db9a86"/>
          <p:cNvPicPr/>
          <p:nvPr/>
        </p:nvPicPr>
        <p:blipFill>
          <a:blip r:embed="rId1"/>
          <a:stretch/>
        </p:blipFill>
        <p:spPr>
          <a:xfrm>
            <a:off x="5940360" y="0"/>
            <a:ext cx="2735280" cy="257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bestgif"/>
          <p:cNvPicPr/>
          <p:nvPr/>
        </p:nvPicPr>
        <p:blipFill>
          <a:blip r:embed="rId2"/>
          <a:stretch/>
        </p:blipFill>
        <p:spPr>
          <a:xfrm>
            <a:off x="324000" y="4514760"/>
            <a:ext cx="3384360" cy="2157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Творческих вам успехов!!!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Picture 19" descr="Рисунок2"/>
          <p:cNvPicPr/>
          <p:nvPr/>
        </p:nvPicPr>
        <p:blipFill>
          <a:blip r:embed="rId1"/>
          <a:stretch/>
        </p:blipFill>
        <p:spPr>
          <a:xfrm>
            <a:off x="2843280" y="2060640"/>
            <a:ext cx="3314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исок интернет-ресур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evolutsia.com/content/view/89/24/ (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Эволюция.com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www.deti-talento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бис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11" descr="biser"/>
          <p:cNvPicPr/>
          <p:nvPr/>
        </p:nvPicPr>
        <p:blipFill>
          <a:blip r:embed="rId1"/>
          <a:stretch/>
        </p:blipFill>
        <p:spPr>
          <a:xfrm>
            <a:off x="1547640" y="1844640"/>
            <a:ext cx="590400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еклянные бисер и буси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26" descr="&amp;Icy;&amp;zcy;&amp;ocy;&amp;bcy;&amp;rcy;&amp;acy;&amp;zhcy;&amp;iecy;&amp;ncy;&amp;icy;&amp;iecy; “http://biser.kiev.ua/upload/b39_3.jpg” &amp;ncy;&amp;iecy; &amp;mcy;&amp;ocy;&amp;zhcy;&amp;iecy;&amp;tcy; &amp;bcy;&amp;ycy;&amp;tcy;&amp;softcy; &amp;pcy;&amp;ocy;&amp;kcy;&amp;acy;&amp;zcy;&amp;acy;&amp;ncy;&amp;ocy;, &amp;tcy;&amp;acy;&amp;kcy; &amp;kcy;&amp;acy;&amp;kcy; &amp;scy;&amp;ocy;&amp;dcy;&amp;iecy;&amp;rcy;&amp;zhcy;&amp;icy;&amp;tcy; &amp;ocy;&amp;shcy;&amp;icy;&amp;bcy;&amp;kcy;&amp;icy;."/>
          <p:cNvPicPr/>
          <p:nvPr/>
        </p:nvPicPr>
        <p:blipFill>
          <a:blip r:embed="rId1"/>
          <a:stretch/>
        </p:blipFill>
        <p:spPr>
          <a:xfrm>
            <a:off x="1332000" y="1197000"/>
            <a:ext cx="63356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Рисунок 3" descr="008.jpg"/>
          <p:cNvPicPr/>
          <p:nvPr/>
        </p:nvPicPr>
        <p:blipFill>
          <a:blip r:embed="rId1"/>
          <a:stretch/>
        </p:blipFill>
        <p:spPr>
          <a:xfrm>
            <a:off x="5003640" y="1773360"/>
            <a:ext cx="3556080" cy="23731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010.jpg"/>
          <p:cNvPicPr/>
          <p:nvPr/>
        </p:nvPicPr>
        <p:blipFill>
          <a:blip r:embed="rId2"/>
          <a:stretch/>
        </p:blipFill>
        <p:spPr>
          <a:xfrm>
            <a:off x="1042920" y="4076640"/>
            <a:ext cx="3299040" cy="22636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9"/>
          <p:cNvSpPr txBox="1"/>
          <p:nvPr/>
        </p:nvSpPr>
        <p:spPr>
          <a:xfrm>
            <a:off x="1332000" y="2492280"/>
            <a:ext cx="30956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5219640" y="5084640"/>
            <a:ext cx="30974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гип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сс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25705221re5"/>
          <p:cNvPicPr/>
          <p:nvPr/>
        </p:nvPicPr>
        <p:blipFill>
          <a:blip r:embed="rId1"/>
          <a:stretch/>
        </p:blipFill>
        <p:spPr>
          <a:xfrm>
            <a:off x="755640" y="1989000"/>
            <a:ext cx="76201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3-10-04T08:26:31Z</dcterms:modified>
  <cp:revision>59</cp:revision>
  <dc:subject/>
  <dc:title>PowerPoint Presentation</dc:title>
</cp:coreProperties>
</file>