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80A2-E298-4E4E-9B87-08F1D7E275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C863-9319-49A6-8D5F-A555E0B42E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2221-77C9-4707-83A5-BB1D20604B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8BB9-6AB8-4A15-B528-6EBB8790C4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3990-3598-4067-AD83-BEFABC6F64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CA40-3845-4329-912E-5534415290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699C-C201-4B27-93AE-3B73C2F81B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CB87-4D0A-4BB9-84EE-0D95BE1791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DD8E-9D48-49A9-BF8F-BB7B7A3E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6CA0-4352-4454-B337-A666B43C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EDD5-8FB3-4240-85E0-499EE8031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AE66-CE7B-44C4-A2B7-3D43B1F8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B21F-A969-4ABD-BE05-BE60527D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CF2C-4787-4F6F-BD43-886A626E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86AB-BB09-454F-8468-E63ADA5B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BC47-EB57-4625-ACFC-242966D2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10DB-2D0E-42C1-9728-77CDCC6C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F6BB-1DB5-433B-BA07-43663AC5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D640-9F00-4234-B6FB-79B5F881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8A2B-9804-4EA3-A25A-E476068D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E52B-44F4-4A20-9D8D-102ACE0909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abeccfca8e28.jpg"/>
          <p:cNvPicPr/>
          <p:nvPr/>
        </p:nvPicPr>
        <p:blipFill>
          <a:blip r:embed="rId1"/>
          <a:stretch/>
        </p:blipFill>
        <p:spPr>
          <a:xfrm>
            <a:off x="1763640" y="-15840"/>
            <a:ext cx="5616720" cy="6873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Соединительная линия уступом 4"/>
          <p:cNvCxnSpPr/>
          <p:nvPr/>
        </p:nvCxnSpPr>
        <p:spPr>
          <a:xfrm>
            <a:off x="0" y="2492280"/>
            <a:ext cx="4860000" cy="3601440"/>
          </a:xfrm>
          <a:prstGeom prst="bentConnector3">
            <a:avLst>
              <a:gd name="adj1" fmla="val 49996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0" name="Соединительная линия уступом 6"/>
          <p:cNvCxnSpPr/>
          <p:nvPr/>
        </p:nvCxnSpPr>
        <p:spPr>
          <a:xfrm flipV="1">
            <a:off x="4284720" y="4723920"/>
            <a:ext cx="4860000" cy="1369440"/>
          </a:xfrm>
          <a:prstGeom prst="bentConnector3">
            <a:avLst>
              <a:gd name="adj1" fmla="val 49996"/>
            </a:avLst>
          </a:prstGeom>
          <a:ln w="38160">
            <a:solidFill>
              <a:srgbClr val="000000"/>
            </a:solidFill>
            <a:miter/>
          </a:ln>
        </p:spPr>
      </p:cxnSp>
      <p:pic>
        <p:nvPicPr>
          <p:cNvPr id="51" name="Рисунок 7" descr="1791956600474dcb94a67e2.jpg"/>
          <p:cNvPicPr/>
          <p:nvPr/>
        </p:nvPicPr>
        <p:blipFill>
          <a:blip r:embed="rId1"/>
          <a:srcRect l="10163" t="6693" r="10279" b="6693"/>
          <a:stretch/>
        </p:blipFill>
        <p:spPr>
          <a:xfrm>
            <a:off x="324000" y="0"/>
            <a:ext cx="1584000" cy="251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Рисунок 10" descr="1791956600474dcb94a67e2.jpg"/>
          <p:cNvPicPr/>
          <p:nvPr/>
        </p:nvPicPr>
        <p:blipFill>
          <a:blip r:embed="rId2"/>
          <a:srcRect l="10163" t="6693" r="10279" b="6693"/>
          <a:stretch/>
        </p:blipFill>
        <p:spPr>
          <a:xfrm>
            <a:off x="2700360" y="907920"/>
            <a:ext cx="3405240" cy="540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Рисунок 11" descr="1791956600474dcb94a67e2.jpg"/>
          <p:cNvPicPr/>
          <p:nvPr/>
        </p:nvPicPr>
        <p:blipFill>
          <a:blip r:embed="rId3"/>
          <a:srcRect l="10163" t="6693" r="10279" b="6693"/>
          <a:stretch/>
        </p:blipFill>
        <p:spPr>
          <a:xfrm>
            <a:off x="6467400" y="620640"/>
            <a:ext cx="2676600" cy="424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олилиния 17"/>
          <p:cNvSpPr/>
          <p:nvPr/>
        </p:nvSpPr>
        <p:spPr>
          <a:xfrm rot="160200">
            <a:off x="82440" y="3354120"/>
            <a:ext cx="9217080" cy="3782880"/>
          </a:xfrm>
          <a:custGeom>
            <a:avLst/>
            <a:gdLst/>
            <a:ahLst/>
            <a:rect l="l" t="t" r="r" b="b"/>
            <a:pathLst>
              <a:path w="9216453" h="3782518">
                <a:moveTo>
                  <a:pt x="0" y="3625121"/>
                </a:moveTo>
                <a:cubicBezTo>
                  <a:pt x="24983" y="3359046"/>
                  <a:pt x="49967" y="3092971"/>
                  <a:pt x="149902" y="2770682"/>
                </a:cubicBezTo>
                <a:cubicBezTo>
                  <a:pt x="249837" y="2448393"/>
                  <a:pt x="314794" y="1881265"/>
                  <a:pt x="599607" y="1691390"/>
                </a:cubicBezTo>
                <a:cubicBezTo>
                  <a:pt x="884420" y="1501515"/>
                  <a:pt x="1419070" y="1444052"/>
                  <a:pt x="1858781" y="1631429"/>
                </a:cubicBezTo>
                <a:cubicBezTo>
                  <a:pt x="2298492" y="1818806"/>
                  <a:pt x="2675745" y="2608288"/>
                  <a:pt x="3237876" y="2815652"/>
                </a:cubicBezTo>
                <a:cubicBezTo>
                  <a:pt x="3800007" y="3023016"/>
                  <a:pt x="4786860" y="2978046"/>
                  <a:pt x="5231568" y="2875613"/>
                </a:cubicBezTo>
                <a:cubicBezTo>
                  <a:pt x="5676276" y="2773180"/>
                  <a:pt x="5658787" y="2605790"/>
                  <a:pt x="5906125" y="2201056"/>
                </a:cubicBezTo>
                <a:cubicBezTo>
                  <a:pt x="6153463" y="1796322"/>
                  <a:pt x="6320853" y="734518"/>
                  <a:pt x="6715594" y="447207"/>
                </a:cubicBezTo>
                <a:cubicBezTo>
                  <a:pt x="7110335" y="159896"/>
                  <a:pt x="7879830" y="0"/>
                  <a:pt x="8274571" y="477187"/>
                </a:cubicBezTo>
                <a:cubicBezTo>
                  <a:pt x="8669312" y="954374"/>
                  <a:pt x="8951627" y="2838138"/>
                  <a:pt x="9084040" y="3310328"/>
                </a:cubicBezTo>
                <a:cubicBezTo>
                  <a:pt x="9216453" y="3782518"/>
                  <a:pt x="9142751" y="3546423"/>
                  <a:pt x="9069050" y="3310328"/>
                </a:cubicBezTo>
              </a:path>
            </a:pathLst>
          </a:custGeom>
          <a:solidFill>
            <a:srgbClr val="8eb4e3"/>
          </a:solidFill>
          <a:ln w="38160">
            <a:solidFill>
              <a:srgbClr val="4f81b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5" descr="1791956600474dcb94a67e2.jpg"/>
          <p:cNvPicPr/>
          <p:nvPr/>
        </p:nvPicPr>
        <p:blipFill>
          <a:blip r:embed="rId1"/>
          <a:srcRect l="10163" t="6693" r="10279" b="6693"/>
          <a:stretch/>
        </p:blipFill>
        <p:spPr>
          <a:xfrm>
            <a:off x="2484360" y="166680"/>
            <a:ext cx="4032360" cy="639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6" name="Рисунок 6" descr="1791956600474dcb94a67e2.jpg"/>
          <p:cNvPicPr/>
          <p:nvPr/>
        </p:nvPicPr>
        <p:blipFill>
          <a:blip r:embed="rId2"/>
          <a:srcRect l="10163" t="6693" r="10279" b="6693"/>
          <a:stretch/>
        </p:blipFill>
        <p:spPr>
          <a:xfrm>
            <a:off x="0" y="620640"/>
            <a:ext cx="2676600" cy="424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7" name="Рисунок 7" descr="1791956600474dcb94a67e2.jpg"/>
          <p:cNvPicPr/>
          <p:nvPr/>
        </p:nvPicPr>
        <p:blipFill>
          <a:blip r:embed="rId3"/>
          <a:srcRect l="10163" t="6693" r="10279" b="6693"/>
          <a:stretch/>
        </p:blipFill>
        <p:spPr>
          <a:xfrm>
            <a:off x="6634080" y="620640"/>
            <a:ext cx="1992240" cy="3160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ая соединительная линия 4"/>
          <p:cNvSpPr/>
          <p:nvPr/>
        </p:nvSpPr>
        <p:spPr>
          <a:xfrm>
            <a:off x="539640" y="6021360"/>
            <a:ext cx="820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6" descr="1791956600474dcb94a67e2.jpg"/>
          <p:cNvPicPr/>
          <p:nvPr/>
        </p:nvPicPr>
        <p:blipFill>
          <a:blip r:embed="rId1"/>
          <a:srcRect l="10163" t="6693" r="10279" b="6693"/>
          <a:stretch/>
        </p:blipFill>
        <p:spPr>
          <a:xfrm>
            <a:off x="250920" y="836640"/>
            <a:ext cx="3405240" cy="540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Рисунок 7" descr="1791956600474dcb94a67e2.jpg"/>
          <p:cNvPicPr/>
          <p:nvPr/>
        </p:nvPicPr>
        <p:blipFill>
          <a:blip r:embed="rId2"/>
          <a:srcRect l="10163" t="6693" r="10279" b="6693"/>
          <a:stretch/>
        </p:blipFill>
        <p:spPr>
          <a:xfrm>
            <a:off x="3564000" y="1989000"/>
            <a:ext cx="2676600" cy="4243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Рисунок 8" descr="1791956600474dcb94a67e2.jpg"/>
          <p:cNvPicPr/>
          <p:nvPr/>
        </p:nvPicPr>
        <p:blipFill>
          <a:blip r:embed="rId3"/>
          <a:srcRect l="10163" t="6693" r="10279" b="6693"/>
          <a:stretch/>
        </p:blipFill>
        <p:spPr>
          <a:xfrm>
            <a:off x="6588000" y="3645000"/>
            <a:ext cx="1584360" cy="2512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3"/>
          <p:cNvSpPr/>
          <p:nvPr/>
        </p:nvSpPr>
        <p:spPr>
          <a:xfrm>
            <a:off x="2484360" y="2781360"/>
            <a:ext cx="865440" cy="33843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1547640" y="907920"/>
            <a:ext cx="863640" cy="5257800"/>
          </a:xfrm>
          <a:prstGeom prst="rect">
            <a:avLst/>
          </a:prstGeom>
          <a:solidFill>
            <a:srgbClr val="04ac14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6" descr="ladybird025.png"/>
          <p:cNvPicPr/>
          <p:nvPr/>
        </p:nvPicPr>
        <p:blipFill>
          <a:blip r:embed="rId1"/>
          <a:stretch/>
        </p:blipFill>
        <p:spPr>
          <a:xfrm>
            <a:off x="6012000" y="3213000"/>
            <a:ext cx="2212920" cy="28036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ая соединительная линия 2"/>
          <p:cNvSpPr/>
          <p:nvPr/>
        </p:nvSpPr>
        <p:spPr>
          <a:xfrm>
            <a:off x="826920" y="6165720"/>
            <a:ext cx="432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Куб 5"/>
          <p:cNvSpPr/>
          <p:nvPr/>
        </p:nvSpPr>
        <p:spPr>
          <a:xfrm>
            <a:off x="1187280" y="3933720"/>
            <a:ext cx="1368720" cy="1366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Куб 6"/>
          <p:cNvSpPr/>
          <p:nvPr/>
        </p:nvSpPr>
        <p:spPr>
          <a:xfrm>
            <a:off x="2700360" y="3933720"/>
            <a:ext cx="1366920" cy="1366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Куб 3"/>
          <p:cNvSpPr/>
          <p:nvPr/>
        </p:nvSpPr>
        <p:spPr>
          <a:xfrm>
            <a:off x="5148360" y="3933720"/>
            <a:ext cx="1368360" cy="1366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Куб 1"/>
          <p:cNvSpPr/>
          <p:nvPr/>
        </p:nvSpPr>
        <p:spPr>
          <a:xfrm>
            <a:off x="6659640" y="4005360"/>
            <a:ext cx="1368360" cy="13683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Куб 4"/>
          <p:cNvSpPr/>
          <p:nvPr/>
        </p:nvSpPr>
        <p:spPr>
          <a:xfrm>
            <a:off x="2050920" y="2852640"/>
            <a:ext cx="1368720" cy="13683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Куб 2"/>
          <p:cNvSpPr/>
          <p:nvPr/>
        </p:nvSpPr>
        <p:spPr>
          <a:xfrm>
            <a:off x="5940360" y="2997360"/>
            <a:ext cx="1368360" cy="13683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Куб 2"/>
          <p:cNvSpPr/>
          <p:nvPr/>
        </p:nvSpPr>
        <p:spPr>
          <a:xfrm>
            <a:off x="1332000" y="4797360"/>
            <a:ext cx="1368360" cy="13683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Куб 1"/>
          <p:cNvSpPr/>
          <p:nvPr/>
        </p:nvSpPr>
        <p:spPr>
          <a:xfrm>
            <a:off x="1332000" y="3789360"/>
            <a:ext cx="1368360" cy="13683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Куб 3"/>
          <p:cNvSpPr/>
          <p:nvPr/>
        </p:nvSpPr>
        <p:spPr>
          <a:xfrm>
            <a:off x="3348000" y="4797360"/>
            <a:ext cx="1368360" cy="13683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Куб 4"/>
          <p:cNvSpPr/>
          <p:nvPr/>
        </p:nvSpPr>
        <p:spPr>
          <a:xfrm>
            <a:off x="3348000" y="3789360"/>
            <a:ext cx="1368360" cy="13683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Куб 5"/>
          <p:cNvSpPr/>
          <p:nvPr/>
        </p:nvSpPr>
        <p:spPr>
          <a:xfrm>
            <a:off x="1332000" y="2781360"/>
            <a:ext cx="1368360" cy="13683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Куб 6"/>
          <p:cNvSpPr/>
          <p:nvPr/>
        </p:nvSpPr>
        <p:spPr>
          <a:xfrm>
            <a:off x="5292720" y="4797360"/>
            <a:ext cx="1366920" cy="13683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7"/>
          <p:cNvSpPr/>
          <p:nvPr/>
        </p:nvSpPr>
        <p:spPr>
          <a:xfrm>
            <a:off x="826920" y="6165720"/>
            <a:ext cx="7345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2T13:21:19Z</dcterms:created>
  <dc:creator>Закирова</dc:creator>
  <dc:description/>
  <dc:language>en-US</dc:language>
  <cp:lastModifiedBy>Закирова</cp:lastModifiedBy>
  <dcterms:modified xsi:type="dcterms:W3CDTF">2013-05-14T11:37:26Z</dcterms:modified>
  <cp:revision>24</cp:revision>
  <dc:subject/>
  <dc:title>Слайд 1</dc:title>
</cp:coreProperties>
</file>