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E1B-98CB-4A69-9EFD-222AB400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06F-2816-48F7-BA0E-2143F877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9FF-F19B-436F-9516-774C1B26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194-6246-4748-8947-19687E7B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AC4-DC3F-42C0-83BF-C1FF5A6E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4D3-7F54-456D-BC1D-38E3256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FBF-8586-473F-8579-EDDFF6E5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405-D093-4A39-976E-7381AEC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24B-F9C7-451E-8F02-24F37FAA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227-4C29-42C3-8BE0-76FD0A0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4E4-45BB-4263-A77E-3391A8F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E49-9CF7-4F0A-A710-61551035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619E-8876-4B47-BF2D-B75B1FD05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2205000"/>
            <a:ext cx="62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гостях у ска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яется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ет печка, дым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Емеля на п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 большие кал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 сам нал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его хотен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казка назыв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букварём шагает в шк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й мальчу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адает вместо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лотняный бала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овётся эта книж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овётся сам мальчи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121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0066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недельник и С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торник и Суббо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номов этих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ерю, помнит кто – 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 этой сказкою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 давно знако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ывается о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дит в корзине 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 мишки за сп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н сам, того не вед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сёт её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у, отгадал загад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гда скорей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ье этой сказ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2944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тился он из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рожке незнак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узнал его, друж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амый непослу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ливый, простоду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 румян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8218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ивать интерес к сказка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ивать навыки коммуникативного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843280" y="907920"/>
            <a:ext cx="36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и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Всех грязнуль отчистит быс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Всех нерях умоет чи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Умывальников началь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И мочалок командир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Знаменит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329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чит всех зверей под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чит взрослых и реб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вам спешит, когда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 докто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Не пей, Иванушка, если устанеш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братец всё выпил до доны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пей, Иванушк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злёночком станешь!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чет сестри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33cc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476360" y="1557360"/>
            <a:ext cx="6335640" cy="25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 теперь, ребята, вст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ыстро руки вверх под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стороны, вперёд и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вернулись вправо,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ихо сели, вновь за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042920" y="476280"/>
            <a:ext cx="7921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азочный тес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195640" y="2997360"/>
            <a:ext cx="4968720" cy="14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 Знаете ли в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Рукодельница уронила в колодец в сказке « Мороз Иванович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436572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ьцо                              Ведёр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етено                          Пря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684360" y="1484280"/>
            <a:ext cx="80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Где жил Джинн тысячу л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ворце                  В буты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ампе                      За гран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то разрушил терем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147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Слон                               Нос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Медведь                         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Как зовут девочку с голубыми волос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арби                             Си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львина                       Алё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Какой цветок исполняет жел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нький цветочек           Цветик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емицве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омашка                           Васе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Что кот Леопольд всегда говорит мышата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4358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 жить дружно   Приходите в 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таньте шалить    Вы мои друз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 кому пошёл Винни- Пух на день рожд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3141720"/>
            <a:ext cx="7931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К Кролику                      К С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К Пятачку                      К Ос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836640"/>
            <a:ext cx="8136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из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тойкий оловянный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 одной ноге постой - 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Будто ты солдатик стой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Руку левую – к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Да смотри – не уп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А теперь постой на ле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Если ты солдатик сме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539640" y="1484280"/>
            <a:ext cx="79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Сказочная одежд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6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333000"/>
            <a:ext cx="8002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Женщина, закутанная в тончайший белый тюль, который, казалось был соткан из миллионов снежных звёздочек. Женщина эта, необычайно прекрасна, была вся изо льда, из ослепительного, сверкающего ль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едьма"/>
          <p:cNvPicPr/>
          <p:nvPr/>
        </p:nvPicPr>
        <p:blipFill>
          <a:blip r:embed="rId1"/>
          <a:stretch/>
        </p:blipFill>
        <p:spPr>
          <a:xfrm>
            <a:off x="4932360" y="3789360"/>
            <a:ext cx="259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этой сказке – име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ного было там г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 на этих именин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явился вдруг зло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н хотел украсть хозяй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уть её не погу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 коварному злод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то – то голову сру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персонаж ходит в красной( или голубой) шубе с белым воротником, носит валенки и шапку, а нос и щёки у него всегда кр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часы"/>
          <p:cNvPicPr/>
          <p:nvPr/>
        </p:nvPicPr>
        <p:blipFill>
          <a:blip r:embed="rId1"/>
          <a:stretch/>
        </p:blipFill>
        <p:spPr>
          <a:xfrm>
            <a:off x="5364000" y="2714760"/>
            <a:ext cx="23036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56880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6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кая героиня получила имя благодаря своей шапоч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часы"/>
          <p:cNvPicPr/>
          <p:nvPr/>
        </p:nvPicPr>
        <p:blipFill>
          <a:blip r:embed="rId1"/>
          <a:stretch/>
        </p:blipFill>
        <p:spPr>
          <a:xfrm>
            <a:off x="4898880" y="2852640"/>
            <a:ext cx="2732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Знают куколка Маль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И весёлый Бурати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Если враг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Победит в бою нера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Верный друг – надёжный, сла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Храбрый пуд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ит новое коры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овый дом, и слуг в при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сли уж она серд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ней вместе уплывёт уда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чезнет всё, и в море зыб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ает золот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2:48:04Z</dcterms:created>
  <dc:creator>MARK</dc:creator>
  <dc:description/>
  <dc:language>en-US</dc:language>
  <cp:lastModifiedBy>User</cp:lastModifiedBy>
  <dcterms:modified xsi:type="dcterms:W3CDTF">2010-10-16T11:23:05Z</dcterms:modified>
  <cp:revision>16</cp:revision>
  <dc:subject/>
  <dc:title>Слайд 1</dc:title>
</cp:coreProperties>
</file>