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.png" ContentType="image/png"/>
  <Override PartName="/ppt/media/image10.jpeg" ContentType="image/jpeg"/>
  <Override PartName="/ppt/media/image4.jpeg" ContentType="image/jpeg"/>
  <Override PartName="/ppt/media/image25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png" ContentType="image/png"/>
  <Override PartName="/ppt/media/image11.jpeg" ContentType="image/jpeg"/>
  <Override PartName="/ppt/media/image24.png" ContentType="image/png"/>
  <Override PartName="/ppt/media/image27.png" ContentType="image/pn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06A-C373-4FD9-99F1-7D2723B5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3880" y="600120"/>
            <a:ext cx="82724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808812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3440" y="3949560"/>
            <a:ext cx="808812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167-A9E1-4578-A8E3-52CAD4CB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3880" y="600120"/>
            <a:ext cx="82724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394668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7760" y="1832040"/>
            <a:ext cx="394668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3440" y="3949560"/>
            <a:ext cx="394668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7760" y="3949560"/>
            <a:ext cx="394668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0B59-D4BE-4E56-A870-A5C3F4FF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3880" y="600120"/>
            <a:ext cx="82724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260424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28360" y="1832040"/>
            <a:ext cx="260424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3280" y="1832040"/>
            <a:ext cx="260424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3440" y="3949560"/>
            <a:ext cx="260424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28360" y="3949560"/>
            <a:ext cx="260424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3280" y="3949560"/>
            <a:ext cx="260424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923A-08A5-4DA1-8B49-4348141C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3880" y="600120"/>
            <a:ext cx="82724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93440" y="1832040"/>
            <a:ext cx="80881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3880" y="600120"/>
            <a:ext cx="82724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80881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3880" y="600120"/>
            <a:ext cx="82724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394668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37760" y="1832040"/>
            <a:ext cx="394668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3880" y="600120"/>
            <a:ext cx="82724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13880" y="600120"/>
            <a:ext cx="82724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3880" y="600120"/>
            <a:ext cx="82724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394668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7760" y="1832040"/>
            <a:ext cx="394668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93440" y="3949560"/>
            <a:ext cx="394668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3880" y="600120"/>
            <a:ext cx="82724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3440" y="1832040"/>
            <a:ext cx="80881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7ED8-B41D-4E31-9BE1-571C9B90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600120"/>
            <a:ext cx="82724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394668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7760" y="1832040"/>
            <a:ext cx="394668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37760" y="3949560"/>
            <a:ext cx="394668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3880" y="600120"/>
            <a:ext cx="82724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394668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7760" y="1832040"/>
            <a:ext cx="394668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3440" y="3949560"/>
            <a:ext cx="808812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3880" y="600120"/>
            <a:ext cx="82724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808812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93440" y="3949560"/>
            <a:ext cx="808812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3880" y="600120"/>
            <a:ext cx="82724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394668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7760" y="1832040"/>
            <a:ext cx="394668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93440" y="3949560"/>
            <a:ext cx="394668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37760" y="3949560"/>
            <a:ext cx="394668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3880" y="600120"/>
            <a:ext cx="82724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260424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28360" y="1832040"/>
            <a:ext cx="260424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3280" y="1832040"/>
            <a:ext cx="260424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93440" y="3949560"/>
            <a:ext cx="260424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28360" y="3949560"/>
            <a:ext cx="260424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3280" y="3949560"/>
            <a:ext cx="260424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3880" y="600120"/>
            <a:ext cx="82724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80881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53E0-E0E2-43BC-9BC1-5F5A943E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3880" y="600120"/>
            <a:ext cx="82724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394668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7760" y="1832040"/>
            <a:ext cx="394668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466-28C4-40DA-87D6-6858E04E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3880" y="600120"/>
            <a:ext cx="82724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634-0758-4BAE-8CAA-60101189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3880" y="600120"/>
            <a:ext cx="82724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7D34-476B-4FEC-B5BF-211803F5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3880" y="600120"/>
            <a:ext cx="82724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394668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7760" y="1832040"/>
            <a:ext cx="394668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3440" y="3949560"/>
            <a:ext cx="394668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4117-AE86-4A37-A9CF-FCF6D94A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3880" y="600120"/>
            <a:ext cx="82724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394668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7760" y="1832040"/>
            <a:ext cx="394668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7760" y="3949560"/>
            <a:ext cx="394668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E312-62AB-4481-9968-26E1B4B6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3880" y="600120"/>
            <a:ext cx="82724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394668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7760" y="1832040"/>
            <a:ext cx="394668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3440" y="3949560"/>
            <a:ext cx="808812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99A-B401-4CB9-A35F-FC913847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1884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188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4000"/>
            <a:ext cx="22352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52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352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00B37-1189-4878-B269-8CFA18BCE6F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3880" y="600120"/>
            <a:ext cx="82724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5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93440" y="1832040"/>
            <a:ext cx="80881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8.png"/><Relationship Id="rId21" Type="http://schemas.openxmlformats.org/officeDocument/2006/relationships/image" Target="../media/image28.png"/><Relationship Id="rId22" Type="http://schemas.openxmlformats.org/officeDocument/2006/relationships/image" Target="../media/image28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0.png"/><Relationship Id="rId27" Type="http://schemas.openxmlformats.org/officeDocument/2006/relationships/image" Target="../media/image30.png"/><Relationship Id="rId28" Type="http://schemas.openxmlformats.org/officeDocument/2006/relationships/image" Target="../media/image30.png"/><Relationship Id="rId29" Type="http://schemas.openxmlformats.org/officeDocument/2006/relationships/image" Target="../media/image30.png"/><Relationship Id="rId30" Type="http://schemas.openxmlformats.org/officeDocument/2006/relationships/image" Target="../media/image30.png"/><Relationship Id="rId31" Type="http://schemas.openxmlformats.org/officeDocument/2006/relationships/image" Target="../media/image30.png"/><Relationship Id="rId32" Type="http://schemas.openxmlformats.org/officeDocument/2006/relationships/image" Target="../media/image30.png"/><Relationship Id="rId33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716360" y="3240000"/>
            <a:ext cx="4248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Black"/>
              </a:rPr>
              <a:t>Хуснуллина Венера Александровна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 Black"/>
              </a:rPr>
              <a:t>учитель истории и обществозна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Black"/>
              </a:rPr>
              <a:t>МБОУ СОШ № 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Black"/>
              </a:rPr>
              <a:t>Удмуртская Республика, город Ижевс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1640" y="792000"/>
            <a:ext cx="821700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b84747"/>
                </a:solidFill>
                <a:latin typeface="Arial Black"/>
              </a:rPr>
              <a:t>Юбилейные даты России в 2013 году (история и культу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16000" y="1655640"/>
            <a:ext cx="741528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663300"/>
                </a:solidFill>
                <a:latin typeface="Arial Black"/>
              </a:rPr>
              <a:t>      </a:t>
            </a:r>
            <a:r>
              <a:rPr b="0" lang="ru-RU" sz="1500" spc="-1" strike="noStrike">
                <a:solidFill>
                  <a:srgbClr val="663300"/>
                </a:solidFill>
                <a:latin typeface="Arial Black"/>
              </a:rPr>
              <a:t>Презентация к уроку истории, повторение материала,    подготовка к ЕГЭ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Arial Black"/>
              </a:rPr>
              <a:t>«400 лет дому Романовы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52000" y="71280"/>
            <a:ext cx="1285560" cy="1440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8520" y="3527280"/>
            <a:ext cx="4911840" cy="2745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9040" y="790200"/>
            <a:ext cx="83008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DejaVu Sans"/>
              </a:rPr>
              <a:t>400 лет дома Романовых</a:t>
            </a:r>
            <a:br>
              <a:rPr sz="3600"/>
            </a:br>
            <a:r>
              <a:rPr b="1" i="1" lang="ru-RU" sz="4000" spc="-1" strike="noStrike">
                <a:solidFill>
                  <a:srgbClr val="99284c"/>
                </a:solidFill>
                <a:latin typeface="DejaVu Sans"/>
              </a:rPr>
              <a:t>1613</a:t>
            </a:r>
            <a:r>
              <a:rPr b="1" i="1" lang="ru-RU" sz="3600" spc="-1" strike="noStrike">
                <a:solidFill>
                  <a:srgbClr val="99284c"/>
                </a:solidFill>
                <a:latin typeface="DejaVu Sans"/>
              </a:rPr>
              <a:t> — </a:t>
            </a:r>
            <a:r>
              <a:rPr b="1" i="1" lang="ru-RU" sz="4000" spc="-1" strike="noStrike">
                <a:solidFill>
                  <a:srgbClr val="99284c"/>
                </a:solidFill>
                <a:latin typeface="DejaVu Sans"/>
              </a:rPr>
              <a:t>2013</a:t>
            </a:r>
            <a:r>
              <a:rPr b="1" i="1" lang="ru-RU" sz="3600" spc="-1" strike="noStrike">
                <a:solidFill>
                  <a:srgbClr val="99284c"/>
                </a:solidFill>
                <a:latin typeface="DejaVu Sans"/>
              </a:rPr>
              <a:t> 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3520" y="2087640"/>
            <a:ext cx="3336840" cy="4149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040360" y="223200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5640" y="504720"/>
            <a:ext cx="460836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99284c"/>
                </a:solidFill>
                <a:latin typeface="DejaVu Sans"/>
              </a:rPr>
              <a:t>Правление 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</a:rPr>
              <a:t>Михаила Фёдоровича Романова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</a:rPr>
              <a:t>(1613 — 1645)</a:t>
            </a: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390920" y="2735280"/>
            <a:ext cx="4608720" cy="3095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6360" y="2735280"/>
            <a:ext cx="3743280" cy="3095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08360" y="287280"/>
            <a:ext cx="4248360" cy="2374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 февраля 161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3 марта по новому стил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ской собор избрал на ц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ила Фёдоровича Ром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03280" y="608040"/>
            <a:ext cx="496728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t">
            <a:noAutofit/>
          </a:bodyPr>
          <a:p>
            <a:pPr marL="216000" indent="-189000" algn="ct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Georgia"/>
              </a:rPr>
              <a:t>I. </a:t>
            </a:r>
            <a:r>
              <a:rPr b="1" lang="ru-RU" sz="1600" spc="-1" strike="noStrike">
                <a:solidFill>
                  <a:srgbClr val="000080"/>
                </a:solidFill>
                <a:latin typeface="Georgia"/>
              </a:rPr>
              <a:t>Преодоление последствий иностранной интервен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189000"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Georgi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617 г. Столбовский мир (со Швеци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189000"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1618 г. Деулинское перемир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189000">
              <a:lnSpc>
                <a:spcPct val="95000"/>
              </a:lnSpc>
              <a:buSzPct val="100000"/>
              <a:buBlip>
                <a:blip r:embed="rId3"/>
              </a:buBlip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1634 г. Поляновский мир (с Речью Посполит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189000" algn="ct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Georgia"/>
              </a:rPr>
              <a:t>II. Преодоление тяжелейших последствий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189000" algn="ct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Georgia"/>
              </a:rPr>
              <a:t>     </a:t>
            </a:r>
            <a:r>
              <a:rPr b="1" lang="ru-RU" sz="1600" spc="-1" strike="noStrike">
                <a:solidFill>
                  <a:srgbClr val="000080"/>
                </a:solidFill>
                <a:latin typeface="Georgia"/>
              </a:rPr>
              <a:t>Смутного времени, восстановлени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189000" algn="ct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Georgia"/>
              </a:rPr>
              <a:t>     </a:t>
            </a:r>
            <a:r>
              <a:rPr b="1" lang="ru-RU" sz="1600" spc="-1" strike="noStrike">
                <a:solidFill>
                  <a:srgbClr val="000080"/>
                </a:solidFill>
                <a:latin typeface="Georgia"/>
              </a:rPr>
              <a:t>нормального хозяйства и торгов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189000">
              <a:lnSpc>
                <a:spcPct val="95000"/>
              </a:lnSpc>
              <a:buSzPct val="100000"/>
              <a:buBlip>
                <a:blip r:embed="rId4"/>
              </a:buBlip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1632 г. Основание первого железоделательного завода под Тул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189000">
              <a:lnSpc>
                <a:spcPct val="95000"/>
              </a:lnSpc>
              <a:buSzPct val="100000"/>
              <a:buBlip>
                <a:blip r:embed="rId5"/>
              </a:buBlip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снование Немецкой слободы в Москве — поселения иностранных инженеров и военных специалис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189000" algn="ct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Georgia"/>
              </a:rPr>
              <a:t>III. Военная рефор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189000">
              <a:lnSpc>
                <a:spcPct val="95000"/>
              </a:lnSpc>
              <a:buSzPct val="100000"/>
              <a:buBlip>
                <a:blip r:embed="rId6"/>
              </a:buBlip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Georg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еорганизация армии (1631—1634 г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189000">
              <a:lnSpc>
                <a:spcPct val="95000"/>
              </a:lnSpc>
              <a:buSzPct val="100000"/>
              <a:buBlip>
                <a:blip r:embed="rId7"/>
              </a:buBlip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оздание полков «нового строя»: рейтарского, драгунского, солдатского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189000" algn="ct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Georgia"/>
              </a:rPr>
              <a:t>IV. Расширение территор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189000">
              <a:lnSpc>
                <a:spcPct val="95000"/>
              </a:lnSpc>
              <a:buSzPct val="100000"/>
              <a:buBlip>
                <a:blip r:embed="rId8"/>
              </a:buBlip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исоединения к России нижнего Урала (Яицкие казаки), Прибайкалья, Якутии и Чукот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189000">
              <a:lnSpc>
                <a:spcPct val="95000"/>
              </a:lnSpc>
              <a:buSzPct val="100000"/>
              <a:buBlip>
                <a:blip r:embed="rId9"/>
              </a:buBlip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ыход к Тихому океа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189000" algn="ct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5508720" y="252360"/>
            <a:ext cx="4068720" cy="5400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576360" y="71280"/>
            <a:ext cx="468000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ИТОГИ  ПРАВЛЕНИЯ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760" y="5688000"/>
            <a:ext cx="966960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420e"/>
                </a:solidFill>
                <a:latin typeface="Arial Black"/>
              </a:rPr>
              <a:t>Выход России из Смуты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420e"/>
              </a:solidFill>
              <a:latin typeface="Arial Black"/>
              <a:ea typeface="Arial Black"/>
            </a:endParaRPr>
          </a:p>
        </p:txBody>
      </p:sp>
    </p:spTree>
  </p:cSld>
  <p:transition spd="med">
    <p:strips dir="l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0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dur="indefinite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dur="indefinite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dur="indefinite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dur="indefinite" fill="hold">
                            <p:stCondLst>
                              <p:cond delay="11500"/>
                            </p:stCondLst>
                            <p:childTnLst>
                              <p:par>
                                <p:cTn id="7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2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2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dur="indefinite" fill="hold">
                            <p:stCondLst>
                              <p:cond delay="13500"/>
                            </p:stCondLst>
                            <p:childTnLst>
                              <p:par>
                                <p:cTn id="81" dur="indefinite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2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dur="indefinite" fill="hold">
                            <p:stCondLst>
                              <p:cond delay="16000"/>
                            </p:stCondLst>
                            <p:childTnLst>
                              <p:par>
                                <p:cTn id="87" dur="indefinite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2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dur="indefinite" fill="hold">
                            <p:stCondLst>
                              <p:cond delay="18500"/>
                            </p:stCondLst>
                            <p:childTnLst>
                              <p:par>
                                <p:cTn id="93" dur="indefinite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2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dur="indefinite" fill="hold">
                            <p:stCondLst>
                              <p:cond delay="21000"/>
                            </p:stCondLst>
                            <p:childTnLst>
                              <p:par>
                                <p:cTn id="99" dur="indefinite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2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dur="indefinite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5" dur="indefinite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2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dur="indefinite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2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dur="indefinite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5" dur="indefinite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20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dur="indefinite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1" dur="indefinite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20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2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3dc"/>
                                      </p:to>
                                    </p:animClr>
                                    <p:animClr clrSpc="rgb">
                                      <p:cBhvr>
                                        <p:cTn id="12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23dc"/>
                                      </p:to>
                                    </p:animClr>
                                    <p:set>
                                      <p:cBhvr>
                                        <p:cTn id="12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3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dur="indefinite" fill="hold">
                            <p:stCondLst>
                              <p:cond delay="41500"/>
                            </p:stCondLst>
                            <p:childTnLst>
                              <p:par>
                                <p:cTn id="13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00720" y="71280"/>
            <a:ext cx="1944360" cy="2592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360360"/>
            <a:ext cx="450072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7e0021"/>
                </a:solidFill>
                <a:latin typeface="DejaVu Sans"/>
              </a:rPr>
              <a:t>Правление </a:t>
            </a:r>
            <a:br>
              <a:rPr sz="2500"/>
            </a:br>
            <a:r>
              <a:rPr b="1" i="1" lang="ru-RU" sz="2500" spc="-1" strike="noStrike">
                <a:solidFill>
                  <a:srgbClr val="7e0021"/>
                </a:solidFill>
                <a:latin typeface="DejaVu Sans"/>
              </a:rPr>
              <a:t>Алексея Михайловича Тишайшего</a:t>
            </a:r>
            <a:br>
              <a:rPr sz="2500"/>
            </a:br>
            <a:r>
              <a:rPr b="1" i="1" lang="ru-RU" sz="2500" spc="-1" strike="noStrike">
                <a:solidFill>
                  <a:srgbClr val="7e0021"/>
                </a:solidFill>
                <a:latin typeface="DejaVu Sans"/>
              </a:rPr>
              <a:t>(1645 — 1676)</a:t>
            </a: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6000" y="1971720"/>
            <a:ext cx="4824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1800" spc="-1" strike="noStrike">
                <a:solidFill>
                  <a:srgbClr val="c5000b"/>
                </a:solidFill>
                <a:latin typeface="Segoe Print"/>
              </a:rPr>
              <a:t>Русский царь, второй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5000b"/>
                </a:solidFill>
                <a:latin typeface="Segoe Print"/>
              </a:rPr>
              <a:t> </a:t>
            </a:r>
            <a:r>
              <a:rPr b="1" i="1" lang="ru-RU" sz="1800" spc="-1" strike="noStrike">
                <a:solidFill>
                  <a:srgbClr val="c5000b"/>
                </a:solidFill>
                <a:latin typeface="Segoe Print"/>
              </a:rPr>
              <a:t>представитель династии Романовых      на российском престоле, сын и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5000b"/>
                </a:solidFill>
                <a:latin typeface="Segoe Print"/>
              </a:rPr>
              <a:t>  </a:t>
            </a:r>
            <a:r>
              <a:rPr b="1" i="1" lang="ru-RU" sz="1800" spc="-1" strike="noStrike">
                <a:solidFill>
                  <a:srgbClr val="c5000b"/>
                </a:solidFill>
                <a:latin typeface="Segoe Print"/>
              </a:rPr>
              <a:t>преемник царя Михаила Федорови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3708360"/>
            <a:ext cx="1665360" cy="2224080"/>
            <a:chOff x="0" y="3708360"/>
            <a:chExt cx="1665360" cy="222408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216000" y="3708360"/>
              <a:ext cx="139680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0" y="5651640"/>
              <a:ext cx="166536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2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Патриарх Ник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551640" y="3203640"/>
            <a:ext cx="3168720" cy="208764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1677960" y="3571920"/>
            <a:ext cx="1838520" cy="2382840"/>
            <a:chOff x="1677960" y="3571920"/>
            <a:chExt cx="1838520" cy="23828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1800360" y="3571920"/>
              <a:ext cx="143820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677960" y="5472000"/>
              <a:ext cx="18385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Протопо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Аввакум Петр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68720" y="3635280"/>
            <a:ext cx="1931760" cy="2009880"/>
            <a:chOff x="3168720" y="3635280"/>
            <a:chExt cx="1931760" cy="2009880"/>
          </a:xfrm>
        </p:grpSpPr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3168720" y="3635280"/>
              <a:ext cx="193176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384720" y="5364000"/>
              <a:ext cx="14414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2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Степан Раз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092560" y="3959280"/>
            <a:ext cx="1446480" cy="2066760"/>
            <a:chOff x="5092560" y="3959280"/>
            <a:chExt cx="1446480" cy="2066760"/>
          </a:xfrm>
        </p:grpSpPr>
        <p:pic>
          <p:nvPicPr>
            <p:cNvPr id="110" name="" descr=""/>
            <p:cNvPicPr/>
            <p:nvPr/>
          </p:nvPicPr>
          <p:blipFill>
            <a:blip r:embed="rId6"/>
            <a:stretch/>
          </p:blipFill>
          <p:spPr>
            <a:xfrm>
              <a:off x="5211720" y="3959280"/>
              <a:ext cx="132732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092560" y="5543640"/>
              <a:ext cx="13748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2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Богдан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Хмельниц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245280" y="426960"/>
            <a:ext cx="2020680" cy="2151000"/>
            <a:chOff x="6245280" y="426960"/>
            <a:chExt cx="2020680" cy="2151000"/>
          </a:xfrm>
        </p:grpSpPr>
        <p:pic>
          <p:nvPicPr>
            <p:cNvPr id="113" name="" descr=""/>
            <p:cNvPicPr/>
            <p:nvPr/>
          </p:nvPicPr>
          <p:blipFill>
            <a:blip r:embed="rId7"/>
            <a:stretch/>
          </p:blipFill>
          <p:spPr>
            <a:xfrm>
              <a:off x="6586560" y="838080"/>
              <a:ext cx="128592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245280" y="426960"/>
              <a:ext cx="20206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14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Segoe Print"/>
                </a:rPr>
                <a:t>М. И. Милославск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848720" y="828720"/>
            <a:ext cx="1858680" cy="2155680"/>
            <a:chOff x="7848720" y="828720"/>
            <a:chExt cx="1858680" cy="2155680"/>
          </a:xfrm>
        </p:grpSpPr>
        <p:pic>
          <p:nvPicPr>
            <p:cNvPr id="116" name="" descr=""/>
            <p:cNvPicPr/>
            <p:nvPr/>
          </p:nvPicPr>
          <p:blipFill>
            <a:blip r:embed="rId8"/>
            <a:stretch/>
          </p:blipFill>
          <p:spPr>
            <a:xfrm>
              <a:off x="8280360" y="828720"/>
              <a:ext cx="1247760" cy="17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848720" y="2592360"/>
              <a:ext cx="18586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4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Segoe Print"/>
                </a:rPr>
                <a:t>Н. К. Нарышки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0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dur="indefinite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7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6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8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dur="indefinite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30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71680" y="71280"/>
            <a:ext cx="56210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ИТОГИ  ПРАВЛЕНИЯ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40360" y="71280"/>
            <a:ext cx="2808360" cy="3527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76360" y="287280"/>
            <a:ext cx="5111640" cy="2087640"/>
          </a:xfrm>
          <a:prstGeom prst="rightArrow">
            <a:avLst>
              <a:gd name="adj1" fmla="val 50000"/>
              <a:gd name="adj2" fmla="val 61213"/>
            </a:avLst>
          </a:prstGeom>
          <a:gradFill rotWithShape="0">
            <a:gsLst>
              <a:gs pos="0">
                <a:srgbClr val="ffffff"/>
              </a:gs>
              <a:gs pos="100000">
                <a:srgbClr val="ff0000">
                  <a:alpha val="3529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 marL="189000" indent="-189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18900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649 — СОБОРНОЕ УЛО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18900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655 — ТОРГОВЫЙ УСТА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18900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667 — НОВОТОРГОВЫЙ УСТА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18900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654 — ЦЕРКОВНЫЙ РАСК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18900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654-1656 — СОЗДАНИЕ ПРИКАЗА ТАЙНЫХ Д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3280" y="3672000"/>
            <a:ext cx="7775640" cy="2808000"/>
          </a:xfrm>
          <a:prstGeom prst="rightArrow">
            <a:avLst>
              <a:gd name="adj1" fmla="val 50000"/>
              <a:gd name="adj2" fmla="val 69228"/>
            </a:avLst>
          </a:prstGeom>
          <a:gradFill rotWithShape="0">
            <a:gsLst>
              <a:gs pos="0">
                <a:srgbClr val="ffffff"/>
              </a:gs>
              <a:gs pos="100000">
                <a:srgbClr val="ff0000">
                  <a:alpha val="2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 marL="189000" indent="-189000"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18900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648 — ЭКСПЕДИЦИЯ С.И. ДЕЖН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3000"/>
              </a:lnSpc>
              <a:buSzPct val="100000"/>
              <a:buBlip>
                <a:blip r:embed="rId8"/>
              </a:buBlip>
              <a:tabLst>
                <a:tab algn="l" pos="18900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649 — ЭКСПЕДИЦИЯ Е.П. ХАБАРОВА НА АМУ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3000"/>
              </a:lnSpc>
              <a:buSzPct val="100000"/>
              <a:buBlip>
                <a:blip r:embed="rId9"/>
              </a:buBlip>
              <a:tabLst>
                <a:tab algn="l" pos="18900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654 — ПЕРЕЯСЛАВСКАЯ РАДА  (Присоединение Украины к Росс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3000"/>
              </a:lnSpc>
              <a:buSzPct val="100000"/>
              <a:buBlip>
                <a:blip r:embed="rId10"/>
              </a:buBlip>
              <a:tabLst>
                <a:tab algn="l" pos="18900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654 -1657 гг. – РУССКО - ПОЛЬСКАЯ ВОЙ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3000"/>
              </a:lnSpc>
              <a:buSzPct val="100000"/>
              <a:buBlip>
                <a:blip r:embed="rId11"/>
              </a:buBlip>
              <a:tabLst>
                <a:tab algn="l" pos="18900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656-1658гг. - РУССКО - ШВЕДСКАЯ ВОЙ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3000"/>
              </a:lnSpc>
              <a:buSzPct val="100000"/>
              <a:buBlip>
                <a:blip r:embed="rId12"/>
              </a:buBlip>
              <a:tabLst>
                <a:tab algn="l" pos="18900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666-1667 — ЦЕРКОВНЫЙ СОБОР С УЧАСТИЕМ ВСЕЛЕНСКИХ ПАТРИАРХ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3280" y="1511280"/>
            <a:ext cx="6335640" cy="3311640"/>
          </a:xfrm>
          <a:prstGeom prst="rightArrow">
            <a:avLst>
              <a:gd name="adj1" fmla="val 50000"/>
              <a:gd name="adj2" fmla="val 47829"/>
            </a:avLst>
          </a:prstGeom>
          <a:solidFill>
            <a:srgbClr val="00dcff">
              <a:alpha val="1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 marL="189000" indent="-189000">
              <a:lnSpc>
                <a:spcPct val="93000"/>
              </a:lnSpc>
              <a:buSzPct val="100000"/>
              <a:buBlip>
                <a:blip r:embed="rId13"/>
              </a:buBlip>
              <a:tabLst>
                <a:tab algn="l" pos="18900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648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— СОЛЯНОЙ БУ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3000"/>
              </a:lnSpc>
              <a:buSzPct val="100000"/>
              <a:buBlip>
                <a:blip r:embed="rId14"/>
              </a:buBlip>
              <a:tabLst>
                <a:tab algn="l" pos="18900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650 — ХЛЕБНЫЙ БУ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3000"/>
              </a:lnSpc>
              <a:buSzPct val="100000"/>
              <a:buBlip>
                <a:blip r:embed="rId15"/>
              </a:buBlip>
              <a:tabLst>
                <a:tab algn="l" pos="18900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662 — МЕДНЫЙ БУН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3000"/>
              </a:lnSpc>
              <a:buSzPct val="100000"/>
              <a:buBlip>
                <a:blip r:embed="rId16"/>
              </a:buBlip>
              <a:tabLst>
                <a:tab algn="l" pos="18900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667-1671 — ВОССТАНИЕ СТЕПАНА РАЗИ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836640" indent="-204840">
              <a:lnSpc>
                <a:spcPct val="93000"/>
              </a:lnSpc>
              <a:buSzPct val="100000"/>
              <a:buBlip>
                <a:blip r:embed="rId17"/>
              </a:buBlip>
              <a:tabLst>
                <a:tab algn="l" pos="18900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Первый этап: 1666 — Поход Василия У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836640" indent="-204840">
              <a:lnSpc>
                <a:spcPct val="93000"/>
              </a:lnSpc>
              <a:tabLst>
                <a:tab algn="l" pos="0"/>
                <a:tab algn="l" pos="18900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1667 — 1669 — Поход «за зипунам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836640" indent="-204840">
              <a:lnSpc>
                <a:spcPct val="93000"/>
              </a:lnSpc>
              <a:buSzPct val="100000"/>
              <a:buBlip>
                <a:blip r:embed="rId18"/>
              </a:buBlip>
              <a:tabLst>
                <a:tab algn="l" pos="18900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Второй этап:  1670 — 1671 — восст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836640" indent="-204840">
              <a:lnSpc>
                <a:spcPct val="93000"/>
              </a:lnSpc>
              <a:tabLst>
                <a:tab algn="l" pos="0"/>
                <a:tab algn="l" pos="18900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«против бояр и изменников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6600" y="5683320"/>
            <a:ext cx="966960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e6e6ff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Россия — самодержавное государство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e6e6ff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ransition spd="med">
    <p:strips dir="l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dur="indefinite" fill="hold">
                      <p:stCondLst>
                        <p:cond delay="0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dur="indefinite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dur="indefinite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" dur="indefinite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496728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99284c"/>
                </a:solidFill>
                <a:latin typeface="DejaVu Sans"/>
              </a:rPr>
              <a:t>Правление Петра I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</a:rPr>
              <a:t>(1689 — 1725)</a:t>
            </a: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152360"/>
            <a:ext cx="6372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4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5000b"/>
                </a:solidFill>
                <a:latin typeface="Segoe Print"/>
              </a:rPr>
              <a:t>Последний царь всея Руси из династии Романовых (с 1682 год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5000b"/>
                </a:solidFill>
                <a:latin typeface="Segoe Print"/>
              </a:rPr>
              <a:t>Первый Император Всероссийский (с 1721 го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16000" y="2700360"/>
            <a:ext cx="1834920" cy="2728800"/>
            <a:chOff x="216000" y="2700360"/>
            <a:chExt cx="1834920" cy="272880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252360" y="3054240"/>
              <a:ext cx="162720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16000" y="2700360"/>
              <a:ext cx="180792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14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280099"/>
                  </a:solidFill>
                  <a:latin typeface="Segoe Print"/>
                </a:rPr>
                <a:t>Фёдор Алексееви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440" y="5032440"/>
              <a:ext cx="1779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14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280099"/>
                  </a:solidFill>
                  <a:latin typeface="Segoe Print"/>
                </a:rPr>
                <a:t>1676 — 1682 </a:t>
              </a:r>
              <a:r>
                <a:rPr b="1" lang="ru-RU" sz="1400" spc="-1" strike="noStrike">
                  <a:solidFill>
                    <a:srgbClr val="280099"/>
                  </a:solidFill>
                  <a:latin typeface="Segoe Print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547640" y="3079800"/>
            <a:ext cx="3068640" cy="3300480"/>
            <a:chOff x="1547640" y="3079800"/>
            <a:chExt cx="3068640" cy="330048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2130480" y="3460680"/>
              <a:ext cx="1751040" cy="19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181240" y="3079800"/>
              <a:ext cx="1619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14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280099"/>
                  </a:solidFill>
                  <a:latin typeface="Segoe Print"/>
                </a:rPr>
                <a:t>Царевна Соф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47640" y="5297400"/>
              <a:ext cx="3068640" cy="10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4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280099"/>
                  </a:solidFill>
                  <a:latin typeface="Segoe Print"/>
                </a:rPr>
                <a:t>1682 — 1689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280099"/>
                  </a:solidFill>
                  <a:latin typeface="Segoe Print"/>
                </a:rPr>
                <a:t>Регент при Иване и Петре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022640" y="2735280"/>
            <a:ext cx="1708200" cy="2635200"/>
            <a:chOff x="4022640" y="2735280"/>
            <a:chExt cx="1708200" cy="2635200"/>
          </a:xfrm>
        </p:grpSpPr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4103640" y="3056040"/>
              <a:ext cx="1522440" cy="19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392720" y="2735280"/>
              <a:ext cx="8157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14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280099"/>
                  </a:solidFill>
                  <a:latin typeface="Segoe Print"/>
                </a:rPr>
                <a:t>Иван 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22640" y="4973760"/>
              <a:ext cx="1708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14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280099"/>
                  </a:solidFill>
                  <a:latin typeface="Segoe Print"/>
                </a:rPr>
                <a:t>1682 — 1689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184720" y="71280"/>
            <a:ext cx="4438800" cy="5673960"/>
            <a:chOff x="5184720" y="71280"/>
            <a:chExt cx="4438800" cy="5673960"/>
          </a:xfrm>
        </p:grpSpPr>
        <p:pic>
          <p:nvPicPr>
            <p:cNvPr id="139" name="" descr=""/>
            <p:cNvPicPr/>
            <p:nvPr/>
          </p:nvPicPr>
          <p:blipFill>
            <a:blip r:embed="rId4"/>
            <a:stretch/>
          </p:blipFill>
          <p:spPr>
            <a:xfrm>
              <a:off x="6551640" y="71280"/>
              <a:ext cx="3071880" cy="422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84720" y="4267080"/>
              <a:ext cx="41464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4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Segoe Print"/>
                </a:rPr>
                <a:t>                </a:t>
              </a:r>
              <a:r>
                <a:rPr b="1" i="1" lang="ru-RU" sz="2000" spc="-1" strike="noStrike">
                  <a:solidFill>
                    <a:srgbClr val="ff3333"/>
                  </a:solidFill>
                  <a:latin typeface="Segoe UI Semibold"/>
                </a:rPr>
                <a:t>1682 — 1689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ff3333"/>
                  </a:solidFill>
                  <a:latin typeface="Segoe UI Semibold"/>
                </a:rPr>
                <a:t>   </a:t>
              </a:r>
              <a:r>
                <a:rPr b="1" i="1" lang="ru-RU" sz="2000" spc="-1" strike="noStrike">
                  <a:solidFill>
                    <a:srgbClr val="ff3333"/>
                  </a:solidFill>
                  <a:latin typeface="Segoe UI Semibold"/>
                </a:rPr>
                <a:t>соуправление с Иваном 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ff3333"/>
                  </a:solidFill>
                  <a:latin typeface="Segoe UI Semibold"/>
                </a:rPr>
                <a:t>                     </a:t>
              </a:r>
              <a:r>
                <a:rPr b="1" i="1" lang="ru-RU" sz="2000" spc="-1" strike="noStrike">
                  <a:solidFill>
                    <a:srgbClr val="ff3333"/>
                  </a:solidFill>
                  <a:latin typeface="Segoe UI Semibold"/>
                </a:rPr>
                <a:t>1689 — 1725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ff3333"/>
                  </a:solidFill>
                  <a:latin typeface="Segoe UI Semibold"/>
                </a:rPr>
                <a:t>Самостоятельное прав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692360" y="2560680"/>
            <a:ext cx="28083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Georgia"/>
              </a:rPr>
              <a:t>ПРЕДШЕСТВЕННИ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dur="indefinite" fill="hold">
                      <p:stCondLst>
                        <p:cond delay="0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" dur="125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dur="indefinite" fill="hold">
                            <p:stCondLst>
                              <p:cond delay="1250"/>
                            </p:stCondLst>
                            <p:childTnLst>
                              <p:par>
                                <p:cTn id="21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dur="indefinite" fill="hold">
                            <p:stCondLst>
                              <p:cond delay="2250"/>
                            </p:stCondLst>
                            <p:childTnLst>
                              <p:par>
                                <p:cTn id="219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1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dur="indefinite" fill="hold">
                            <p:stCondLst>
                              <p:cond delay="4250"/>
                            </p:stCondLst>
                            <p:childTnLst>
                              <p:par>
                                <p:cTn id="2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dur="indefinite" fill="hold">
                            <p:stCondLst>
                              <p:cond delay="6250"/>
                            </p:stCondLst>
                            <p:childTnLst>
                              <p:par>
                                <p:cTn id="22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75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16000" y="71280"/>
            <a:ext cx="921528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e6e6ff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ВНУТРЕННЯЯ ПОЛИТИКА </a:t>
            </a:r>
            <a:endParaRPr b="0" lang="en-US" sz="1800" spc="-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e6e6ff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039000" y="588960"/>
            <a:ext cx="3647880" cy="3573360"/>
            <a:chOff x="6039000" y="588960"/>
            <a:chExt cx="3647880" cy="3573360"/>
          </a:xfrm>
        </p:grpSpPr>
        <p:grpSp>
          <p:nvGrpSpPr>
            <p:cNvPr id="144" name=""/>
            <p:cNvGrpSpPr/>
            <p:nvPr/>
          </p:nvGrpSpPr>
          <p:grpSpPr>
            <a:xfrm>
              <a:off x="6039000" y="588960"/>
              <a:ext cx="3638520" cy="3573360"/>
              <a:chOff x="6039000" y="588960"/>
              <a:chExt cx="3638520" cy="3573360"/>
            </a:xfrm>
          </p:grpSpPr>
          <p:sp>
            <p:nvSpPr>
              <p:cNvPr id="145" name=""/>
              <p:cNvSpPr/>
              <p:nvPr/>
            </p:nvSpPr>
            <p:spPr>
              <a:xfrm>
                <a:off x="6039000" y="611280"/>
                <a:ext cx="3638520" cy="3551040"/>
              </a:xfrm>
              <a:prstGeom prst="vertic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35294"/>
                    </a:srgbClr>
                  </a:gs>
                </a:gsLst>
                <a:path path="rect">
                  <a:fillToRect l="50000" t="50000" r="50000" b="50000"/>
                </a:path>
              </a:gradFill>
              <a:ln cap="sq"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marL="216000" indent="-189000">
                  <a:lnSpc>
                    <a:spcPct val="118000"/>
                  </a:lnSpc>
                  <a:tabLst>
                    <a:tab algn="l" pos="0"/>
                    <a:tab algn="l" pos="216000"/>
                    <a:tab algn="l" pos="663480"/>
                    <a:tab algn="l" pos="1112760"/>
                    <a:tab algn="l" pos="1562040"/>
                    <a:tab algn="l" pos="2011320"/>
                    <a:tab algn="l" pos="2460600"/>
                    <a:tab algn="l" pos="2909880"/>
                    <a:tab algn="l" pos="3359160"/>
                    <a:tab algn="l" pos="3808440"/>
                    <a:tab algn="l" pos="4257720"/>
                    <a:tab algn="l" pos="4707000"/>
                    <a:tab algn="l" pos="5156280"/>
                    <a:tab algn="l" pos="5605560"/>
                    <a:tab algn="l" pos="6054840"/>
                    <a:tab algn="l" pos="6504120"/>
                    <a:tab algn="l" pos="6953400"/>
                    <a:tab algn="l" pos="7402680"/>
                    <a:tab algn="l" pos="7851600"/>
                    <a:tab algn="l" pos="8300880"/>
                    <a:tab algn="l" pos="8750160"/>
                    <a:tab algn="l" pos="91994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16000" indent="-189000">
                  <a:lnSpc>
                    <a:spcPct val="93000"/>
                  </a:lnSpc>
                  <a:tabLst>
                    <a:tab algn="l" pos="0"/>
                    <a:tab algn="l" pos="216000"/>
                    <a:tab algn="l" pos="663480"/>
                    <a:tab algn="l" pos="1112760"/>
                    <a:tab algn="l" pos="1562040"/>
                    <a:tab algn="l" pos="2011320"/>
                    <a:tab algn="l" pos="2460600"/>
                    <a:tab algn="l" pos="2909880"/>
                    <a:tab algn="l" pos="3359160"/>
                    <a:tab algn="l" pos="3808440"/>
                    <a:tab algn="l" pos="4257720"/>
                    <a:tab algn="l" pos="4707000"/>
                    <a:tab algn="l" pos="5156280"/>
                    <a:tab algn="l" pos="5605560"/>
                    <a:tab algn="l" pos="6054840"/>
                    <a:tab algn="l" pos="6504120"/>
                    <a:tab algn="l" pos="6953400"/>
                    <a:tab algn="l" pos="7402680"/>
                    <a:tab algn="l" pos="7851600"/>
                    <a:tab algn="l" pos="8300880"/>
                    <a:tab algn="l" pos="8750160"/>
                    <a:tab algn="l" pos="91994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16000" indent="-189000">
                  <a:lnSpc>
                    <a:spcPct val="93000"/>
                  </a:lnSpc>
                  <a:tabLst>
                    <a:tab algn="l" pos="0"/>
                    <a:tab algn="l" pos="216000"/>
                    <a:tab algn="l" pos="663480"/>
                    <a:tab algn="l" pos="1112760"/>
                    <a:tab algn="l" pos="1562040"/>
                    <a:tab algn="l" pos="2011320"/>
                    <a:tab algn="l" pos="2460600"/>
                    <a:tab algn="l" pos="2909880"/>
                    <a:tab algn="l" pos="3359160"/>
                    <a:tab algn="l" pos="3808440"/>
                    <a:tab algn="l" pos="4257720"/>
                    <a:tab algn="l" pos="4707000"/>
                    <a:tab algn="l" pos="5156280"/>
                    <a:tab algn="l" pos="5605560"/>
                    <a:tab algn="l" pos="6054840"/>
                    <a:tab algn="l" pos="6504120"/>
                    <a:tab algn="l" pos="6953400"/>
                    <a:tab algn="l" pos="7402680"/>
                    <a:tab algn="l" pos="7851600"/>
                    <a:tab algn="l" pos="8300880"/>
                    <a:tab algn="l" pos="8750160"/>
                    <a:tab algn="l" pos="91994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16000" indent="-189000">
                  <a:lnSpc>
                    <a:spcPct val="93000"/>
                  </a:lnSpc>
                  <a:tabLst>
                    <a:tab algn="l" pos="0"/>
                    <a:tab algn="l" pos="216000"/>
                    <a:tab algn="l" pos="663480"/>
                    <a:tab algn="l" pos="1112760"/>
                    <a:tab algn="l" pos="1562040"/>
                    <a:tab algn="l" pos="2011320"/>
                    <a:tab algn="l" pos="2460600"/>
                    <a:tab algn="l" pos="2909880"/>
                    <a:tab algn="l" pos="3359160"/>
                    <a:tab algn="l" pos="3808440"/>
                    <a:tab algn="l" pos="4257720"/>
                    <a:tab algn="l" pos="4707000"/>
                    <a:tab algn="l" pos="5156280"/>
                    <a:tab algn="l" pos="5605560"/>
                    <a:tab algn="l" pos="6054840"/>
                    <a:tab algn="l" pos="6504120"/>
                    <a:tab algn="l" pos="6953400"/>
                    <a:tab algn="l" pos="7402680"/>
                    <a:tab algn="l" pos="7851600"/>
                    <a:tab algn="l" pos="8300880"/>
                    <a:tab algn="l" pos="8750160"/>
                    <a:tab algn="l" pos="91994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16000" indent="-189000">
                  <a:lnSpc>
                    <a:spcPct val="93000"/>
                  </a:lnSpc>
                  <a:tabLst>
                    <a:tab algn="l" pos="0"/>
                    <a:tab algn="l" pos="216000"/>
                    <a:tab algn="l" pos="663480"/>
                    <a:tab algn="l" pos="1112760"/>
                    <a:tab algn="l" pos="1562040"/>
                    <a:tab algn="l" pos="2011320"/>
                    <a:tab algn="l" pos="2460600"/>
                    <a:tab algn="l" pos="2909880"/>
                    <a:tab algn="l" pos="3359160"/>
                    <a:tab algn="l" pos="3808440"/>
                    <a:tab algn="l" pos="4257720"/>
                    <a:tab algn="l" pos="4707000"/>
                    <a:tab algn="l" pos="5156280"/>
                    <a:tab algn="l" pos="5605560"/>
                    <a:tab algn="l" pos="6054840"/>
                    <a:tab algn="l" pos="6504120"/>
                    <a:tab algn="l" pos="6953400"/>
                    <a:tab algn="l" pos="7402680"/>
                    <a:tab algn="l" pos="7851600"/>
                    <a:tab algn="l" pos="8300880"/>
                    <a:tab algn="l" pos="8750160"/>
                    <a:tab algn="l" pos="91994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16000" indent="-189000">
                  <a:lnSpc>
                    <a:spcPct val="93000"/>
                  </a:lnSpc>
                  <a:tabLst>
                    <a:tab algn="l" pos="0"/>
                    <a:tab algn="l" pos="216000"/>
                    <a:tab algn="l" pos="663480"/>
                    <a:tab algn="l" pos="1112760"/>
                    <a:tab algn="l" pos="1562040"/>
                    <a:tab algn="l" pos="2011320"/>
                    <a:tab algn="l" pos="2460600"/>
                    <a:tab algn="l" pos="2909880"/>
                    <a:tab algn="l" pos="3359160"/>
                    <a:tab algn="l" pos="3808440"/>
                    <a:tab algn="l" pos="4257720"/>
                    <a:tab algn="l" pos="4707000"/>
                    <a:tab algn="l" pos="5156280"/>
                    <a:tab algn="l" pos="5605560"/>
                    <a:tab algn="l" pos="6054840"/>
                    <a:tab algn="l" pos="6504120"/>
                    <a:tab algn="l" pos="6953400"/>
                    <a:tab algn="l" pos="7402680"/>
                    <a:tab algn="l" pos="7851600"/>
                    <a:tab algn="l" pos="8300880"/>
                    <a:tab algn="l" pos="8750160"/>
                    <a:tab algn="l" pos="91994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16000" indent="-189000">
                  <a:lnSpc>
                    <a:spcPct val="93000"/>
                  </a:lnSpc>
                  <a:tabLst>
                    <a:tab algn="l" pos="0"/>
                    <a:tab algn="l" pos="216000"/>
                    <a:tab algn="l" pos="663480"/>
                    <a:tab algn="l" pos="1112760"/>
                    <a:tab algn="l" pos="1562040"/>
                    <a:tab algn="l" pos="2011320"/>
                    <a:tab algn="l" pos="2460600"/>
                    <a:tab algn="l" pos="2909880"/>
                    <a:tab algn="l" pos="3359160"/>
                    <a:tab algn="l" pos="3808440"/>
                    <a:tab algn="l" pos="4257720"/>
                    <a:tab algn="l" pos="4707000"/>
                    <a:tab algn="l" pos="5156280"/>
                    <a:tab algn="l" pos="5605560"/>
                    <a:tab algn="l" pos="6054840"/>
                    <a:tab algn="l" pos="6504120"/>
                    <a:tab algn="l" pos="6953400"/>
                    <a:tab algn="l" pos="7402680"/>
                    <a:tab algn="l" pos="7851600"/>
                    <a:tab algn="l" pos="8300880"/>
                    <a:tab algn="l" pos="8750160"/>
                    <a:tab algn="l" pos="91994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16000" indent="-189000">
                  <a:lnSpc>
                    <a:spcPct val="93000"/>
                  </a:lnSpc>
                  <a:tabLst>
                    <a:tab algn="l" pos="0"/>
                    <a:tab algn="l" pos="216000"/>
                    <a:tab algn="l" pos="663480"/>
                    <a:tab algn="l" pos="1112760"/>
                    <a:tab algn="l" pos="1562040"/>
                    <a:tab algn="l" pos="2011320"/>
                    <a:tab algn="l" pos="2460600"/>
                    <a:tab algn="l" pos="2909880"/>
                    <a:tab algn="l" pos="3359160"/>
                    <a:tab algn="l" pos="3808440"/>
                    <a:tab algn="l" pos="4257720"/>
                    <a:tab algn="l" pos="4707000"/>
                    <a:tab algn="l" pos="5156280"/>
                    <a:tab algn="l" pos="5605560"/>
                    <a:tab algn="l" pos="6054840"/>
                    <a:tab algn="l" pos="6504120"/>
                    <a:tab algn="l" pos="6953400"/>
                    <a:tab algn="l" pos="7402680"/>
                    <a:tab algn="l" pos="7851600"/>
                    <a:tab algn="l" pos="8300880"/>
                    <a:tab algn="l" pos="8750160"/>
                    <a:tab algn="l" pos="91994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16000" indent="-189000">
                  <a:lnSpc>
                    <a:spcPct val="93000"/>
                  </a:lnSpc>
                  <a:tabLst>
                    <a:tab algn="l" pos="0"/>
                    <a:tab algn="l" pos="216000"/>
                    <a:tab algn="l" pos="663480"/>
                    <a:tab algn="l" pos="1112760"/>
                    <a:tab algn="l" pos="1562040"/>
                    <a:tab algn="l" pos="2011320"/>
                    <a:tab algn="l" pos="2460600"/>
                    <a:tab algn="l" pos="2909880"/>
                    <a:tab algn="l" pos="3359160"/>
                    <a:tab algn="l" pos="3808440"/>
                    <a:tab algn="l" pos="4257720"/>
                    <a:tab algn="l" pos="4707000"/>
                    <a:tab algn="l" pos="5156280"/>
                    <a:tab algn="l" pos="5605560"/>
                    <a:tab algn="l" pos="6054840"/>
                    <a:tab algn="l" pos="6504120"/>
                    <a:tab algn="l" pos="6953400"/>
                    <a:tab algn="l" pos="7402680"/>
                    <a:tab algn="l" pos="7851600"/>
                    <a:tab algn="l" pos="8300880"/>
                    <a:tab algn="l" pos="8750160"/>
                    <a:tab algn="l" pos="91994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910560" y="588960"/>
                <a:ext cx="227160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9040" bIns="45000" anchor="t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ru-RU" sz="2200" spc="-1" strike="noStrike">
                    <a:solidFill>
                      <a:srgbClr val="4700b8"/>
                    </a:solidFill>
                    <a:latin typeface="Georgia"/>
                  </a:rPr>
                  <a:t>ОБЩЕСТВО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6480000" y="1152360"/>
              <a:ext cx="3206880" cy="6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0" bIns="45000" anchor="t">
              <a:noAutofit/>
            </a:bodyPr>
            <a:p>
              <a:pPr marL="189000" indent="-189000">
                <a:lnSpc>
                  <a:spcPct val="95000"/>
                </a:lnSpc>
                <a:buSzPct val="100000"/>
                <a:buBlip>
                  <a:blip r:embed="rId1"/>
                </a:buBlip>
                <a:tabLst>
                  <a:tab algn="l" pos="189000"/>
                  <a:tab algn="l" pos="636480"/>
                  <a:tab algn="l" pos="1085760"/>
                  <a:tab algn="l" pos="1535040"/>
                  <a:tab algn="l" pos="1984320"/>
                  <a:tab algn="l" pos="2433600"/>
                  <a:tab algn="l" pos="2882880"/>
                  <a:tab algn="l" pos="3332160"/>
                  <a:tab algn="l" pos="3781440"/>
                  <a:tab algn="l" pos="4230720"/>
                  <a:tab algn="l" pos="4680000"/>
                  <a:tab algn="l" pos="5129280"/>
                  <a:tab algn="l" pos="5578560"/>
                  <a:tab algn="l" pos="6027840"/>
                  <a:tab algn="l" pos="6477120"/>
                  <a:tab algn="l" pos="6926400"/>
                  <a:tab algn="l" pos="7375680"/>
                  <a:tab algn="l" pos="7824960"/>
                  <a:tab algn="l" pos="8273880"/>
                  <a:tab algn="l" pos="8723160"/>
                  <a:tab algn="l" pos="91724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1714 —указ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189000" indent="-189000">
                <a:lnSpc>
                  <a:spcPct val="95000"/>
                </a:lnSpc>
                <a:tabLst>
                  <a:tab algn="l" pos="0"/>
                  <a:tab algn="l" pos="189000"/>
                  <a:tab algn="l" pos="636480"/>
                  <a:tab algn="l" pos="1085760"/>
                  <a:tab algn="l" pos="1535040"/>
                  <a:tab algn="l" pos="1984320"/>
                  <a:tab algn="l" pos="2433600"/>
                  <a:tab algn="l" pos="2882880"/>
                  <a:tab algn="l" pos="3332160"/>
                  <a:tab algn="l" pos="3781440"/>
                  <a:tab algn="l" pos="4230720"/>
                  <a:tab algn="l" pos="4680000"/>
                  <a:tab algn="l" pos="5129280"/>
                  <a:tab algn="l" pos="5578560"/>
                  <a:tab algn="l" pos="6027840"/>
                  <a:tab algn="l" pos="6477120"/>
                  <a:tab algn="l" pos="6926400"/>
                  <a:tab algn="l" pos="7375680"/>
                  <a:tab algn="l" pos="7824960"/>
                  <a:tab algn="l" pos="8273880"/>
                  <a:tab algn="l" pos="8723160"/>
                  <a:tab algn="l" pos="91724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     </a:t>
              </a: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о единонаследи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189000" indent="-189000">
                <a:lnSpc>
                  <a:spcPct val="95000"/>
                </a:lnSpc>
                <a:buSzPct val="100000"/>
                <a:buBlip>
                  <a:blip r:embed="rId2"/>
                </a:buBlip>
                <a:tabLst>
                  <a:tab algn="l" pos="189000"/>
                  <a:tab algn="l" pos="636480"/>
                  <a:tab algn="l" pos="1085760"/>
                  <a:tab algn="l" pos="1535040"/>
                  <a:tab algn="l" pos="1984320"/>
                  <a:tab algn="l" pos="2433600"/>
                  <a:tab algn="l" pos="2882880"/>
                  <a:tab algn="l" pos="3332160"/>
                  <a:tab algn="l" pos="3781440"/>
                  <a:tab algn="l" pos="4230720"/>
                  <a:tab algn="l" pos="4680000"/>
                  <a:tab algn="l" pos="5129280"/>
                  <a:tab algn="l" pos="5578560"/>
                  <a:tab algn="l" pos="6027840"/>
                  <a:tab algn="l" pos="6477120"/>
                  <a:tab algn="l" pos="6926400"/>
                  <a:tab algn="l" pos="7375680"/>
                  <a:tab algn="l" pos="7824960"/>
                  <a:tab algn="l" pos="8273880"/>
                  <a:tab algn="l" pos="8723160"/>
                  <a:tab algn="l" pos="91724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1722 - «Табель о рангах»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189000" indent="-189000">
                <a:lnSpc>
                  <a:spcPct val="95000"/>
                </a:lnSpc>
                <a:buSzPct val="100000"/>
                <a:buBlip>
                  <a:blip r:embed="rId3"/>
                </a:buBlip>
                <a:tabLst>
                  <a:tab algn="l" pos="189000"/>
                  <a:tab algn="l" pos="636480"/>
                  <a:tab algn="l" pos="1085760"/>
                  <a:tab algn="l" pos="1535040"/>
                  <a:tab algn="l" pos="1984320"/>
                  <a:tab algn="l" pos="2433600"/>
                  <a:tab algn="l" pos="2882880"/>
                  <a:tab algn="l" pos="3332160"/>
                  <a:tab algn="l" pos="3781440"/>
                  <a:tab algn="l" pos="4230720"/>
                  <a:tab algn="l" pos="4680000"/>
                  <a:tab algn="l" pos="5129280"/>
                  <a:tab algn="l" pos="5578560"/>
                  <a:tab algn="l" pos="6027840"/>
                  <a:tab algn="l" pos="6477120"/>
                  <a:tab algn="l" pos="6926400"/>
                  <a:tab algn="l" pos="7375680"/>
                  <a:tab algn="l" pos="7824960"/>
                  <a:tab algn="l" pos="8273880"/>
                  <a:tab algn="l" pos="8723160"/>
                  <a:tab algn="l" pos="91724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1722 – образование нового разряда крестьян – государственн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189000" indent="-189000">
                <a:lnSpc>
                  <a:spcPct val="95000"/>
                </a:lnSpc>
                <a:buSzPct val="100000"/>
                <a:buBlip>
                  <a:blip r:embed="rId4"/>
                </a:buBlip>
                <a:tabLst>
                  <a:tab algn="l" pos="189000"/>
                  <a:tab algn="l" pos="636480"/>
                  <a:tab algn="l" pos="1085760"/>
                  <a:tab algn="l" pos="1535040"/>
                  <a:tab algn="l" pos="1984320"/>
                  <a:tab algn="l" pos="2433600"/>
                  <a:tab algn="l" pos="2882880"/>
                  <a:tab algn="l" pos="3332160"/>
                  <a:tab algn="l" pos="3781440"/>
                  <a:tab algn="l" pos="4230720"/>
                  <a:tab algn="l" pos="4680000"/>
                  <a:tab algn="l" pos="5129280"/>
                  <a:tab algn="l" pos="5578560"/>
                  <a:tab algn="l" pos="6027840"/>
                  <a:tab algn="l" pos="6477120"/>
                  <a:tab algn="l" pos="6926400"/>
                  <a:tab algn="l" pos="7375680"/>
                  <a:tab algn="l" pos="7824960"/>
                  <a:tab algn="l" pos="8273880"/>
                  <a:tab algn="l" pos="8723160"/>
                  <a:tab algn="l" pos="91724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Деление городских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189000" indent="-189000">
                <a:lnSpc>
                  <a:spcPct val="95000"/>
                </a:lnSpc>
                <a:tabLst>
                  <a:tab algn="l" pos="0"/>
                  <a:tab algn="l" pos="189000"/>
                  <a:tab algn="l" pos="636480"/>
                  <a:tab algn="l" pos="1085760"/>
                  <a:tab algn="l" pos="1535040"/>
                  <a:tab algn="l" pos="1984320"/>
                  <a:tab algn="l" pos="2433600"/>
                  <a:tab algn="l" pos="2882880"/>
                  <a:tab algn="l" pos="3332160"/>
                  <a:tab algn="l" pos="3781440"/>
                  <a:tab algn="l" pos="4230720"/>
                  <a:tab algn="l" pos="4680000"/>
                  <a:tab algn="l" pos="5129280"/>
                  <a:tab algn="l" pos="5578560"/>
                  <a:tab algn="l" pos="6027840"/>
                  <a:tab algn="l" pos="6477120"/>
                  <a:tab algn="l" pos="6926400"/>
                  <a:tab algn="l" pos="7375680"/>
                  <a:tab algn="l" pos="7824960"/>
                  <a:tab algn="l" pos="8273880"/>
                  <a:tab algn="l" pos="8723160"/>
                  <a:tab algn="l" pos="91724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	</a:t>
              </a: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жителей на регулярных и нерегулярных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189000" indent="-189000">
                <a:lnSpc>
                  <a:spcPct val="95000"/>
                </a:lnSpc>
                <a:buSzPct val="100000"/>
                <a:buBlip>
                  <a:blip r:embed="rId5"/>
                </a:buBlip>
                <a:tabLst>
                  <a:tab algn="l" pos="189000"/>
                  <a:tab algn="l" pos="636480"/>
                  <a:tab algn="l" pos="1085760"/>
                  <a:tab algn="l" pos="1535040"/>
                  <a:tab algn="l" pos="1984320"/>
                  <a:tab algn="l" pos="2433600"/>
                  <a:tab algn="l" pos="2882880"/>
                  <a:tab algn="l" pos="3332160"/>
                  <a:tab algn="l" pos="3781440"/>
                  <a:tab algn="l" pos="4230720"/>
                  <a:tab algn="l" pos="4680000"/>
                  <a:tab algn="l" pos="5129280"/>
                  <a:tab algn="l" pos="5578560"/>
                  <a:tab algn="l" pos="6027840"/>
                  <a:tab algn="l" pos="6477120"/>
                  <a:tab algn="l" pos="6926400"/>
                  <a:tab algn="l" pos="7375680"/>
                  <a:tab algn="l" pos="7824960"/>
                  <a:tab algn="l" pos="8273880"/>
                  <a:tab algn="l" pos="8723160"/>
                  <a:tab algn="l" pos="91724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Деление купцов на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189000" indent="-189000">
                <a:lnSpc>
                  <a:spcPct val="95000"/>
                </a:lnSpc>
                <a:tabLst>
                  <a:tab algn="l" pos="0"/>
                  <a:tab algn="l" pos="189000"/>
                  <a:tab algn="l" pos="636480"/>
                  <a:tab algn="l" pos="1085760"/>
                  <a:tab algn="l" pos="1535040"/>
                  <a:tab algn="l" pos="1984320"/>
                  <a:tab algn="l" pos="2433600"/>
                  <a:tab algn="l" pos="2882880"/>
                  <a:tab algn="l" pos="3332160"/>
                  <a:tab algn="l" pos="3781440"/>
                  <a:tab algn="l" pos="4230720"/>
                  <a:tab algn="l" pos="4680000"/>
                  <a:tab algn="l" pos="5129280"/>
                  <a:tab algn="l" pos="5578560"/>
                  <a:tab algn="l" pos="6027840"/>
                  <a:tab algn="l" pos="6477120"/>
                  <a:tab algn="l" pos="6926400"/>
                  <a:tab algn="l" pos="7375680"/>
                  <a:tab algn="l" pos="7824960"/>
                  <a:tab algn="l" pos="8273880"/>
                  <a:tab algn="l" pos="8723160"/>
                  <a:tab algn="l" pos="91724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	</a:t>
              </a: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гильди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189000" indent="-189000">
                <a:lnSpc>
                  <a:spcPct val="95000"/>
                </a:lnSpc>
                <a:buSzPct val="100000"/>
                <a:buBlip>
                  <a:blip r:embed="rId6"/>
                </a:buBlip>
                <a:tabLst>
                  <a:tab algn="l" pos="189000"/>
                  <a:tab algn="l" pos="636480"/>
                  <a:tab algn="l" pos="1085760"/>
                  <a:tab algn="l" pos="1535040"/>
                  <a:tab algn="l" pos="1984320"/>
                  <a:tab algn="l" pos="2433600"/>
                  <a:tab algn="l" pos="2882880"/>
                  <a:tab algn="l" pos="3332160"/>
                  <a:tab algn="l" pos="3781440"/>
                  <a:tab algn="l" pos="4230720"/>
                  <a:tab algn="l" pos="4680000"/>
                  <a:tab algn="l" pos="5129280"/>
                  <a:tab algn="l" pos="5578560"/>
                  <a:tab algn="l" pos="6027840"/>
                  <a:tab algn="l" pos="6477120"/>
                  <a:tab algn="l" pos="6926400"/>
                  <a:tab algn="l" pos="7375680"/>
                  <a:tab algn="l" pos="7824960"/>
                  <a:tab algn="l" pos="8273880"/>
                  <a:tab algn="l" pos="8723160"/>
                  <a:tab algn="l" pos="91724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Превращение холопов в крепостных крестьян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189000" indent="-189000">
                <a:lnSpc>
                  <a:spcPct val="95000"/>
                </a:lnSpc>
                <a:buSzPct val="100000"/>
                <a:buBlip>
                  <a:blip r:embed="rId7"/>
                </a:buBlip>
                <a:tabLst>
                  <a:tab algn="l" pos="189000"/>
                  <a:tab algn="l" pos="636480"/>
                  <a:tab algn="l" pos="1085760"/>
                  <a:tab algn="l" pos="1535040"/>
                  <a:tab algn="l" pos="1984320"/>
                  <a:tab algn="l" pos="2433600"/>
                  <a:tab algn="l" pos="2882880"/>
                  <a:tab algn="l" pos="3332160"/>
                  <a:tab algn="l" pos="3781440"/>
                  <a:tab algn="l" pos="4230720"/>
                  <a:tab algn="l" pos="4680000"/>
                  <a:tab algn="l" pos="5129280"/>
                  <a:tab algn="l" pos="5578560"/>
                  <a:tab algn="l" pos="6027840"/>
                  <a:tab algn="l" pos="6477120"/>
                  <a:tab algn="l" pos="6926400"/>
                  <a:tab algn="l" pos="7375680"/>
                  <a:tab algn="l" pos="7824960"/>
                  <a:tab algn="l" pos="8273880"/>
                  <a:tab algn="l" pos="8723160"/>
                  <a:tab algn="l" pos="91724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1724 – установле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189000" indent="-189000">
                <a:lnSpc>
                  <a:spcPct val="95000"/>
                </a:lnSpc>
                <a:tabLst>
                  <a:tab algn="l" pos="0"/>
                  <a:tab algn="l" pos="189000"/>
                  <a:tab algn="l" pos="636480"/>
                  <a:tab algn="l" pos="1085760"/>
                  <a:tab algn="l" pos="1535040"/>
                  <a:tab algn="l" pos="1984320"/>
                  <a:tab algn="l" pos="2433600"/>
                  <a:tab algn="l" pos="2882880"/>
                  <a:tab algn="l" pos="3332160"/>
                  <a:tab algn="l" pos="3781440"/>
                  <a:tab algn="l" pos="4230720"/>
                  <a:tab algn="l" pos="4680000"/>
                  <a:tab algn="l" pos="5129280"/>
                  <a:tab algn="l" pos="5578560"/>
                  <a:tab algn="l" pos="6027840"/>
                  <a:tab algn="l" pos="6477120"/>
                  <a:tab algn="l" pos="6926400"/>
                  <a:tab algn="l" pos="7375680"/>
                  <a:tab algn="l" pos="7824960"/>
                  <a:tab algn="l" pos="8273880"/>
                  <a:tab algn="l" pos="8723160"/>
                  <a:tab algn="l" pos="91724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	</a:t>
              </a: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паспортного режим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189000" indent="-189000">
                <a:lnSpc>
                  <a:spcPct val="95000"/>
                </a:lnSpc>
                <a:tabLst>
                  <a:tab algn="l" pos="0"/>
                  <a:tab algn="l" pos="189000"/>
                  <a:tab algn="l" pos="636480"/>
                  <a:tab algn="l" pos="1085760"/>
                  <a:tab algn="l" pos="1535040"/>
                  <a:tab algn="l" pos="1984320"/>
                  <a:tab algn="l" pos="2433600"/>
                  <a:tab algn="l" pos="2882880"/>
                  <a:tab algn="l" pos="3332160"/>
                  <a:tab algn="l" pos="3781440"/>
                  <a:tab algn="l" pos="4230720"/>
                  <a:tab algn="l" pos="4680000"/>
                  <a:tab algn="l" pos="5129280"/>
                  <a:tab algn="l" pos="5578560"/>
                  <a:tab algn="l" pos="6027840"/>
                  <a:tab algn="l" pos="6477120"/>
                  <a:tab algn="l" pos="6926400"/>
                  <a:tab algn="l" pos="7375680"/>
                  <a:tab algn="l" pos="7824960"/>
                  <a:tab algn="l" pos="8273880"/>
                  <a:tab algn="l" pos="8723160"/>
                  <a:tab algn="l" pos="91724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189000" indent="-189000">
                <a:lnSpc>
                  <a:spcPct val="95000"/>
                </a:lnSpc>
                <a:tabLst>
                  <a:tab algn="l" pos="0"/>
                  <a:tab algn="l" pos="189000"/>
                  <a:tab algn="l" pos="636480"/>
                  <a:tab algn="l" pos="1085760"/>
                  <a:tab algn="l" pos="1535040"/>
                  <a:tab algn="l" pos="1984320"/>
                  <a:tab algn="l" pos="2433600"/>
                  <a:tab algn="l" pos="2882880"/>
                  <a:tab algn="l" pos="3332160"/>
                  <a:tab algn="l" pos="3781440"/>
                  <a:tab algn="l" pos="4230720"/>
                  <a:tab algn="l" pos="4680000"/>
                  <a:tab algn="l" pos="5129280"/>
                  <a:tab algn="l" pos="5578560"/>
                  <a:tab algn="l" pos="6027840"/>
                  <a:tab algn="l" pos="6477120"/>
                  <a:tab algn="l" pos="6926400"/>
                  <a:tab algn="l" pos="7375680"/>
                  <a:tab algn="l" pos="7824960"/>
                  <a:tab algn="l" pos="8273880"/>
                  <a:tab algn="l" pos="8723160"/>
                  <a:tab algn="l" pos="91724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189000" indent="-189000">
                <a:lnSpc>
                  <a:spcPct val="95000"/>
                </a:lnSpc>
                <a:tabLst>
                  <a:tab algn="l" pos="0"/>
                  <a:tab algn="l" pos="189000"/>
                  <a:tab algn="l" pos="636480"/>
                  <a:tab algn="l" pos="1085760"/>
                  <a:tab algn="l" pos="1535040"/>
                  <a:tab algn="l" pos="1984320"/>
                  <a:tab algn="l" pos="2433600"/>
                  <a:tab algn="l" pos="2882880"/>
                  <a:tab algn="l" pos="3332160"/>
                  <a:tab algn="l" pos="3781440"/>
                  <a:tab algn="l" pos="4230720"/>
                  <a:tab algn="l" pos="4680000"/>
                  <a:tab algn="l" pos="5129280"/>
                  <a:tab algn="l" pos="5578560"/>
                  <a:tab algn="l" pos="6027840"/>
                  <a:tab algn="l" pos="6477120"/>
                  <a:tab algn="l" pos="6926400"/>
                  <a:tab algn="l" pos="7375680"/>
                  <a:tab algn="l" pos="7824960"/>
                  <a:tab algn="l" pos="8273880"/>
                  <a:tab algn="l" pos="8723160"/>
                  <a:tab algn="l" pos="91724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946240" y="600120"/>
            <a:ext cx="3548160" cy="3479760"/>
            <a:chOff x="2946240" y="600120"/>
            <a:chExt cx="3548160" cy="3479760"/>
          </a:xfrm>
        </p:grpSpPr>
        <p:grpSp>
          <p:nvGrpSpPr>
            <p:cNvPr id="149" name=""/>
            <p:cNvGrpSpPr/>
            <p:nvPr/>
          </p:nvGrpSpPr>
          <p:grpSpPr>
            <a:xfrm>
              <a:off x="2946240" y="600120"/>
              <a:ext cx="3548160" cy="3479760"/>
              <a:chOff x="2946240" y="600120"/>
              <a:chExt cx="3548160" cy="3479760"/>
            </a:xfrm>
          </p:grpSpPr>
          <p:sp>
            <p:nvSpPr>
              <p:cNvPr id="150" name=""/>
              <p:cNvSpPr/>
              <p:nvPr/>
            </p:nvSpPr>
            <p:spPr>
              <a:xfrm>
                <a:off x="2946240" y="600120"/>
                <a:ext cx="3548160" cy="3479760"/>
              </a:xfrm>
              <a:prstGeom prst="verticalScroll">
                <a:avLst>
                  <a:gd name="adj" fmla="val 12500"/>
                </a:avLst>
              </a:prstGeom>
              <a:blipFill rotWithShape="0">
                <a:blip r:embed="rId8">
                  <a:alphaModFix amt="25000"/>
                </a:blip>
                <a:srcRect/>
                <a:tile tx="0" ty="0" sx="100000" sy="100000" algn="ctr"/>
              </a:blipFill>
              <a:ln cap="sq"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87640" y="623880"/>
                <a:ext cx="227196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9040" bIns="45000" anchor="t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ru-RU" sz="2200" spc="-1" strike="noStrike">
                    <a:solidFill>
                      <a:srgbClr val="4700b8"/>
                    </a:solidFill>
                    <a:latin typeface="Georgia"/>
                  </a:rPr>
                  <a:t>ПОЛИТИКА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3311640" y="973080"/>
              <a:ext cx="285588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buSzPct val="100000"/>
                <a:buBlip>
                  <a:blip r:embed="rId9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1700 — упраздн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патриарше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SzPct val="100000"/>
                <a:buBlip>
                  <a:blip r:embed="rId10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1703 — Основание нов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столицы — Санкт-Петербург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SzPct val="100000"/>
                <a:buBlip>
                  <a:blip r:embed="rId11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1708 — 1710 деление стра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на губер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SzPct val="100000"/>
                <a:buBlip>
                  <a:blip r:embed="rId12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1711 — учреждение Сена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SzPct val="100000"/>
                <a:buBlip>
                  <a:blip r:embed="rId13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1711 — создание института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фискал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SzPct val="100000"/>
                <a:buBlip>
                  <a:blip r:embed="rId14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1719 — деление страны 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провин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SzPct val="100000"/>
                <a:buBlip>
                  <a:blip r:embed="rId15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1721 — образова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Святейшего Сино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SzPct val="100000"/>
                <a:buBlip>
                  <a:blip r:embed="rId16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1722 — создание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прокуратуры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поли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SzPct val="100000"/>
                <a:buBlip>
                  <a:blip r:embed="rId17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1718 — 1722 — учрежд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коллегий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574560"/>
            <a:ext cx="3321000" cy="3586320"/>
            <a:chOff x="0" y="574560"/>
            <a:chExt cx="3321000" cy="3586320"/>
          </a:xfrm>
        </p:grpSpPr>
        <p:grpSp>
          <p:nvGrpSpPr>
            <p:cNvPr id="154" name=""/>
            <p:cNvGrpSpPr/>
            <p:nvPr/>
          </p:nvGrpSpPr>
          <p:grpSpPr>
            <a:xfrm>
              <a:off x="0" y="574560"/>
              <a:ext cx="3321000" cy="3544920"/>
              <a:chOff x="0" y="574560"/>
              <a:chExt cx="3321000" cy="354492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574560"/>
                <a:ext cx="3321000" cy="3544920"/>
              </a:xfrm>
              <a:prstGeom prst="vertic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50000">
                    <a:srgbClr val="ff0000"/>
                  </a:gs>
                  <a:gs pos="100000">
                    <a:srgbClr val="ffffff">
                      <a:alpha val="35294"/>
                    </a:srgbClr>
                  </a:gs>
                </a:gsLst>
                <a:lin ang="5400000"/>
              </a:gradFill>
              <a:ln cap="sq"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440" bIns="450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2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1480" y="574560"/>
                <a:ext cx="240840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9040" bIns="45000" anchor="t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ru-RU" sz="2200" spc="-1" strike="noStrike">
                    <a:solidFill>
                      <a:srgbClr val="4700b8"/>
                    </a:solidFill>
                    <a:latin typeface="Georgia"/>
                  </a:rPr>
                  <a:t>ЭКОНОМИКА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349200" y="982800"/>
              <a:ext cx="2862360" cy="31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buSzPct val="100000"/>
                <a:buBlip>
                  <a:blip r:embed="rId18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Развитие мануфактур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SzPct val="100000"/>
                <a:buBlip>
                  <a:blip r:embed="rId19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1718 — 1724 — введ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подушной подат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SzPct val="100000"/>
                <a:buBlip>
                  <a:blip r:embed="rId20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1721 — указы 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посессион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и приписных крестьянах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SzPct val="100000"/>
                <a:buBlip>
                  <a:blip r:embed="rId21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1722 — учрежд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цехов  и гильди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SzPct val="100000"/>
                <a:buBlip>
                  <a:blip r:embed="rId22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Проведение политик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меркантилизма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протекционизм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SzPct val="100000"/>
                <a:buBlip>
                  <a:blip r:embed="rId23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Развитие внутренней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внешней торговл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332000" y="3959280"/>
            <a:ext cx="6843600" cy="2495520"/>
            <a:chOff x="1332000" y="3959280"/>
            <a:chExt cx="6843600" cy="2495520"/>
          </a:xfrm>
        </p:grpSpPr>
        <p:grpSp>
          <p:nvGrpSpPr>
            <p:cNvPr id="159" name=""/>
            <p:cNvGrpSpPr/>
            <p:nvPr/>
          </p:nvGrpSpPr>
          <p:grpSpPr>
            <a:xfrm>
              <a:off x="1332000" y="3959280"/>
              <a:ext cx="6843600" cy="2495520"/>
              <a:chOff x="1332000" y="3959280"/>
              <a:chExt cx="6843600" cy="2495520"/>
            </a:xfrm>
          </p:grpSpPr>
          <p:sp>
            <p:nvSpPr>
              <p:cNvPr id="160" name=""/>
              <p:cNvSpPr/>
              <p:nvPr/>
            </p:nvSpPr>
            <p:spPr>
              <a:xfrm>
                <a:off x="1332000" y="3959280"/>
                <a:ext cx="6743520" cy="2495520"/>
              </a:xfrm>
              <a:prstGeom prst="horizont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e6ff00"/>
                  </a:gs>
                  <a:gs pos="100000">
                    <a:srgbClr val="ff3333">
                      <a:alpha val="40000"/>
                    </a:srgbClr>
                  </a:gs>
                </a:gsLst>
                <a:path path="rect">
                  <a:fillToRect l="50000" t="50000" r="50000" b="50000"/>
                </a:path>
              </a:gradFill>
              <a:ln cap="sq"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04000" y="4248000"/>
                <a:ext cx="2271600" cy="38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9040" bIns="45000" anchor="t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ru-RU" sz="2200" spc="-1" strike="noStrike">
                    <a:solidFill>
                      <a:srgbClr val="4700b8"/>
                    </a:solidFill>
                    <a:latin typeface="Georgia"/>
                  </a:rPr>
                  <a:t>КУЛЬТУРА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2016000" y="4206960"/>
              <a:ext cx="580896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buSzPct val="100000"/>
                <a:buBlip>
                  <a:blip r:embed="rId24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Внедрение западноевропейской культур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SzPct val="100000"/>
                <a:buBlip>
                  <a:blip r:embed="rId25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Создание системы светского образования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SzPct val="100000"/>
                <a:buBlip>
                  <a:blip r:embed="rId26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1700 — введение нового календаря (с 1 января)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SzPct val="100000"/>
                <a:buBlip>
                  <a:blip r:embed="rId27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1702 — выход первой печатной газеты «Ведомости»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SzPct val="100000"/>
                <a:buBlip>
                  <a:blip r:embed="rId28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1705 — открылась первая частная типография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SzPct val="100000"/>
                <a:buBlip>
                  <a:blip r:embed="rId29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1708 — новый гражданский шрифт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SzPct val="100000"/>
                <a:buBlip>
                  <a:blip r:embed="rId30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Издание первых учебников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SzPct val="100000"/>
                <a:buBlip>
                  <a:blip r:embed="rId31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Создание первого музея «Кунсткамера»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SzPct val="100000"/>
                <a:buBlip>
                  <a:blip r:embed="rId32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ru-RU" sz="1300" spc="-1" strike="noStrike">
                  <a:solidFill>
                    <a:srgbClr val="000000"/>
                  </a:solidFill>
                  <a:latin typeface="Georgia"/>
                </a:rPr>
                <a:t>1724 — учреждение Академии наук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dur="indefinite" fill="hold">
                      <p:stCondLst>
                        <p:cond delay="0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25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dur="indefinite" fill="hold">
                            <p:stCondLst>
                              <p:cond delay="18500"/>
                            </p:stCondLst>
                            <p:childTnLst>
                              <p:par>
                                <p:cTn id="26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10960" y="71280"/>
            <a:ext cx="921564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e6e6ff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ВНЕШНЯЯ ПОЛИТИКА </a:t>
            </a:r>
            <a:endParaRPr b="0" lang="en-US" sz="1800" spc="-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e6e6ff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6360" y="1763640"/>
            <a:ext cx="3000600" cy="1595520"/>
            <a:chOff x="36360" y="1763640"/>
            <a:chExt cx="3000600" cy="1595520"/>
          </a:xfrm>
        </p:grpSpPr>
        <p:sp>
          <p:nvSpPr>
            <p:cNvPr id="165" name=""/>
            <p:cNvSpPr/>
            <p:nvPr/>
          </p:nvSpPr>
          <p:spPr>
            <a:xfrm>
              <a:off x="36360" y="1800360"/>
              <a:ext cx="3000600" cy="15588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50000">
                  <a:srgbClr val="ff0000"/>
                </a:gs>
                <a:gs pos="100000">
                  <a:srgbClr val="ffffff">
                    <a:alpha val="45098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4360" y="1763640"/>
              <a:ext cx="2784600" cy="15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280099"/>
                  </a:solidFill>
                  <a:latin typeface="Georgia"/>
                </a:rPr>
                <a:t>1711 — 1713 гг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Georgia"/>
                </a:rPr>
                <a:t>русско-турецкая война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Georgia"/>
                </a:rPr>
                <a:t>Прутский поход Петра I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280099"/>
                  </a:solidFill>
                  <a:latin typeface="Georgia"/>
                </a:rPr>
                <a:t>1711 г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Georgia"/>
                </a:rPr>
                <a:t>Ясское перемирие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280099"/>
                  </a:solidFill>
                  <a:latin typeface="Georgia"/>
                </a:rPr>
                <a:t>1713 г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Georgia"/>
                </a:rPr>
                <a:t>Андрианопольский мир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24000" y="654120"/>
            <a:ext cx="208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орьба за выход в Черное мо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941480" y="720720"/>
            <a:ext cx="5308200" cy="1633680"/>
            <a:chOff x="1941480" y="720720"/>
            <a:chExt cx="5308200" cy="1633680"/>
          </a:xfrm>
        </p:grpSpPr>
        <p:sp>
          <p:nvSpPr>
            <p:cNvPr id="169" name=""/>
            <p:cNvSpPr/>
            <p:nvPr/>
          </p:nvSpPr>
          <p:spPr>
            <a:xfrm>
              <a:off x="6804000" y="1295280"/>
              <a:ext cx="445680" cy="554040"/>
            </a:xfrm>
            <a:prstGeom prst="line">
              <a:avLst/>
            </a:prstGeom>
            <a:ln w="72000">
              <a:solidFill>
                <a:srgbClr val="ff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03360" y="720720"/>
              <a:ext cx="4486320" cy="84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3600" spc="-1" strike="noStrike">
                  <a:solidFill>
                    <a:srgbClr val="ff0000"/>
                  </a:solidFill>
                  <a:latin typeface="Arial Black"/>
                </a:rPr>
                <a:t>РОСС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1295280"/>
              <a:ext cx="568080" cy="482760"/>
            </a:xfrm>
            <a:prstGeom prst="line">
              <a:avLst/>
            </a:prstGeom>
            <a:ln w="72000">
              <a:solidFill>
                <a:srgbClr val="ff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63920" y="1584360"/>
              <a:ext cx="482040" cy="770040"/>
            </a:xfrm>
            <a:prstGeom prst="downArrow">
              <a:avLst>
                <a:gd name="adj1" fmla="val 50000"/>
                <a:gd name="adj2" fmla="val 3993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30196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799320" y="646200"/>
            <a:ext cx="23749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прочение позиций России на Каспии и в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048360" y="1800360"/>
            <a:ext cx="3000240" cy="1199880"/>
            <a:chOff x="6048360" y="1800360"/>
            <a:chExt cx="3000240" cy="1199880"/>
          </a:xfrm>
        </p:grpSpPr>
        <p:sp>
          <p:nvSpPr>
            <p:cNvPr id="175" name=""/>
            <p:cNvSpPr/>
            <p:nvPr/>
          </p:nvSpPr>
          <p:spPr>
            <a:xfrm>
              <a:off x="6156360" y="1835280"/>
              <a:ext cx="2784600" cy="10206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50000">
                  <a:srgbClr val="ff0000"/>
                </a:gs>
                <a:gs pos="100000">
                  <a:srgbClr val="ffffff">
                    <a:alpha val="45098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48360" y="1800360"/>
              <a:ext cx="3000240" cy="11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280099"/>
                  </a:solidFill>
                  <a:latin typeface="Georgia"/>
                </a:rPr>
                <a:t>1722 — 1723 гг.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</a:rPr>
                <a:t> Каспийский поход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280099"/>
                  </a:solidFill>
                  <a:latin typeface="Georgia"/>
                </a:rPr>
                <a:t>1723 г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Georgia"/>
                </a:rPr>
                <a:t>Договор с Персией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881440" y="2376360"/>
            <a:ext cx="3419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80"/>
                </a:solidFill>
                <a:latin typeface="Georgia"/>
              </a:rPr>
              <a:t>1700 — 1721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80"/>
                </a:solidFill>
                <a:latin typeface="Georgia"/>
              </a:rPr>
              <a:t>СЕВЕРНАЯ ВОЙНА</a:t>
            </a:r>
            <a:r>
              <a:rPr b="1" lang="ru-RU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60720" y="3270240"/>
            <a:ext cx="3995640" cy="29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63920" y="2735280"/>
            <a:ext cx="366408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0" y="3384720"/>
            <a:ext cx="3036960" cy="2292120"/>
            <a:chOff x="0" y="3384720"/>
            <a:chExt cx="3036960" cy="2292120"/>
          </a:xfrm>
        </p:grpSpPr>
        <p:sp>
          <p:nvSpPr>
            <p:cNvPr id="181" name=""/>
            <p:cNvSpPr/>
            <p:nvPr/>
          </p:nvSpPr>
          <p:spPr>
            <a:xfrm>
              <a:off x="119160" y="3384720"/>
              <a:ext cx="2917800" cy="2292120"/>
            </a:xfrm>
            <a:prstGeom prst="flowChartPunchedTape">
              <a:avLst/>
            </a:prstGeom>
            <a:solidFill>
              <a:srgbClr val="cfe7f5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3808440"/>
              <a:ext cx="299880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280099"/>
                  </a:solidFill>
                  <a:latin typeface="Georgia"/>
                </a:rPr>
                <a:t>1700 — 1706 гг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Поражение русских под  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Нарвой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Взятие крепостей Орешек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(1702), Нарва (1704)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Тарту (1704)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487600" y="3809880"/>
            <a:ext cx="3000240" cy="2141640"/>
            <a:chOff x="2487600" y="3809880"/>
            <a:chExt cx="3000240" cy="2141640"/>
          </a:xfrm>
        </p:grpSpPr>
        <p:sp>
          <p:nvSpPr>
            <p:cNvPr id="184" name=""/>
            <p:cNvSpPr/>
            <p:nvPr/>
          </p:nvSpPr>
          <p:spPr>
            <a:xfrm>
              <a:off x="2529000" y="3809880"/>
              <a:ext cx="2958840" cy="2141640"/>
            </a:xfrm>
            <a:prstGeom prst="flowChartPunchedTape">
              <a:avLst/>
            </a:prstGeom>
            <a:solidFill>
              <a:srgbClr val="cfe7f5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87600" y="4159080"/>
              <a:ext cx="2798640" cy="13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280099"/>
                  </a:solidFill>
                  <a:latin typeface="Georgia"/>
                </a:rPr>
                <a:t>1707 — 1709 гг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Победа России у деревни   Лесная (1708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Победа под Полтавой 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(1709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932360" y="2735280"/>
            <a:ext cx="2711520" cy="2989080"/>
            <a:chOff x="4932360" y="2735280"/>
            <a:chExt cx="2711520" cy="2989080"/>
          </a:xfrm>
        </p:grpSpPr>
        <p:sp>
          <p:nvSpPr>
            <p:cNvPr id="187" name=""/>
            <p:cNvSpPr/>
            <p:nvPr/>
          </p:nvSpPr>
          <p:spPr>
            <a:xfrm>
              <a:off x="4932360" y="2735280"/>
              <a:ext cx="2711520" cy="2968560"/>
            </a:xfrm>
            <a:prstGeom prst="flowChartPunchedTape">
              <a:avLst/>
            </a:prstGeom>
            <a:solidFill>
              <a:srgbClr val="cfe7f5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00760" y="3247920"/>
              <a:ext cx="2138400" cy="24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280099"/>
                  </a:solidFill>
                  <a:latin typeface="Georgia"/>
                </a:rPr>
                <a:t>1710 — 1718 гг.</a:t>
              </a:r>
              <a:r>
                <a:rPr b="0" lang="ru-RU" sz="13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Военные действия в 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Прибалтике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Захват Риги, Выборга,    Ревеля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Победа русского флота   у   мыса  Гангу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(1714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912000" y="3419640"/>
            <a:ext cx="2711520" cy="2627280"/>
            <a:chOff x="6912000" y="3419640"/>
            <a:chExt cx="2711520" cy="2627280"/>
          </a:xfrm>
        </p:grpSpPr>
        <p:sp>
          <p:nvSpPr>
            <p:cNvPr id="190" name=""/>
            <p:cNvSpPr/>
            <p:nvPr/>
          </p:nvSpPr>
          <p:spPr>
            <a:xfrm>
              <a:off x="6912000" y="3419640"/>
              <a:ext cx="2711520" cy="2481120"/>
            </a:xfrm>
            <a:prstGeom prst="flowChartPunchedTape">
              <a:avLst/>
            </a:prstGeom>
            <a:solidFill>
              <a:srgbClr val="cfe7f5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59600" y="3986280"/>
              <a:ext cx="2563920" cy="20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280099"/>
                  </a:solidFill>
                  <a:latin typeface="Georgia"/>
                </a:rPr>
                <a:t>1719 — 1721 гг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Победа русских у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острова  Гренгам (1720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ru-RU" sz="2000" spc="-1" strike="noStrike">
                  <a:solidFill>
                    <a:srgbClr val="280099"/>
                  </a:solidFill>
                  <a:latin typeface="Georgia"/>
                </a:rPr>
                <a:t>Подписание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280099"/>
                  </a:solidFill>
                  <a:latin typeface="Georgia"/>
                </a:rPr>
                <a:t>  </a:t>
              </a:r>
              <a:r>
                <a:rPr b="1" lang="ru-RU" sz="2000" spc="-1" strike="noStrike">
                  <a:solidFill>
                    <a:srgbClr val="280099"/>
                  </a:solidFill>
                  <a:latin typeface="Georgia"/>
                </a:rPr>
                <a:t>Ништадтского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280099"/>
                  </a:solidFill>
                  <a:latin typeface="Georgia"/>
                </a:rPr>
                <a:t>  </a:t>
              </a:r>
              <a:r>
                <a:rPr b="1" lang="ru-RU" sz="2000" spc="-1" strike="noStrike">
                  <a:solidFill>
                    <a:srgbClr val="280099"/>
                  </a:solidFill>
                  <a:latin typeface="Georgia"/>
                </a:rPr>
                <a:t>ми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024360" y="1800360"/>
            <a:ext cx="3240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ход к Балтийскому мор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1920" y="5678640"/>
            <a:ext cx="9669600" cy="93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Россия провозглашена империей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 spd="med">
    <p:strips dir="l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dur="indefinite" fill="hold">
                      <p:stCondLst>
                        <p:cond delay="0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2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dur="indefinite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8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dur="indefinite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dur="indefinite" fill="hold">
                            <p:stCondLst>
                              <p:cond delay="21500"/>
                            </p:stCondLst>
                            <p:childTnLst>
                              <p:par>
                                <p:cTn id="297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dur="indefinite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0" fill="hold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dur="indefinite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0" fill="hold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dur="indefinite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0" fill="hold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dur="indefinite" fill="hold">
                            <p:stCondLst>
                              <p:cond delay="41500"/>
                            </p:stCondLst>
                            <p:childTnLst>
                              <p:par>
                                <p:cTn id="31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dur="indefinite" fill="hold">
                            <p:stCondLst>
                              <p:cond delay="46500"/>
                            </p:stCondLst>
                            <p:childTnLst>
                              <p:par>
                                <p:cTn id="31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0" fill="hold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5:40:05Z</dcterms:created>
  <dc:creator/>
  <dc:description/>
  <dc:language>en-US</dc:language>
  <cp:lastModifiedBy>Венера</cp:lastModifiedBy>
  <dcterms:modified xsi:type="dcterms:W3CDTF">2013-04-01T16:20:18Z</dcterms:modified>
  <cp:revision>43</cp:revision>
  <dc:subject/>
  <dc:title>Слайд 1</dc:title>
</cp:coreProperties>
</file>