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0A4-F565-4D58-AC78-E31B6A6E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3440" y="39520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EBE-1464-4EDF-AF2F-BE5B9572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06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8BE-7854-4293-9D40-998F8326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980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16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344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980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16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0CF-D3EF-418E-B2CA-BE3BD1C1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599760"/>
            <a:ext cx="827748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03B-A7F2-46A4-A39F-048E44E4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06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93440" y="39520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06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980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616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9344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980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616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510-E74E-43B5-B118-10A635F2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A4B-3841-453C-8A43-4E2CAF31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C2C-9C7F-4BA7-8B69-266383A6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3880" y="599760"/>
            <a:ext cx="827748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E81-5547-48C4-B626-D93737D6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911-EF44-496A-B55F-66DF7B13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06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5FD-27B0-493B-8562-81306940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2AF-1209-4E67-8255-473D430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2352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235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3640"/>
            <a:ext cx="2239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574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39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1FFF7-32C7-4F32-B50B-D5881FB441E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5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539640"/>
            <a:ext cx="496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Эпоха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Дворцовых переворотов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725 — 176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11640" y="357120"/>
            <a:ext cx="39592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4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4476b"/>
                </a:solidFill>
                <a:latin typeface="Andalus"/>
              </a:rPr>
              <a:t>У</a:t>
            </a:r>
            <a:r>
              <a:rPr b="1" i="1" lang="ru-RU" sz="1400" spc="-1" strike="noStrike">
                <a:solidFill>
                  <a:srgbClr val="94476b"/>
                </a:solidFill>
                <a:latin typeface="Andalus"/>
              </a:rPr>
              <a:t>каз Петра I  о престолонаследии изменил традиционную систему избрания монарха. Смерть Петра I положила начало Дворцовым переворо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4896000"/>
            <a:ext cx="20160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Segoe Print"/>
              </a:rPr>
              <a:t>Вторая жена Петра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Segoe Print"/>
              </a:rPr>
              <a:t>Создан Верхо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Segoe Print"/>
              </a:rPr>
              <a:t>Тайный 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09760" y="4896000"/>
            <a:ext cx="2303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80099"/>
                </a:solidFill>
                <a:latin typeface="Segoe Print"/>
              </a:rPr>
              <a:t>Внук Петра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80099"/>
                </a:solidFill>
                <a:latin typeface="Segoe Print"/>
              </a:rPr>
              <a:t>(по  первому брак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80099"/>
                </a:solidFill>
                <a:latin typeface="Segoe Print"/>
              </a:rPr>
              <a:t>Регентство Верхов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80099"/>
                </a:solidFill>
                <a:latin typeface="Segoe Print"/>
              </a:rPr>
              <a:t>Тайн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64000" y="4896000"/>
            <a:ext cx="2303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Segoe Print"/>
              </a:rPr>
              <a:t>Племянница Петра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Segoe Print"/>
              </a:rPr>
              <a:t>Опиралась на кабинет минист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Segoe Print"/>
              </a:rPr>
              <a:t>«Бироновщи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5640" y="4913280"/>
            <a:ext cx="23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80099"/>
                </a:solidFill>
                <a:latin typeface="Segoe Print"/>
              </a:rPr>
              <a:t>Сын дочери сестры Анны Иоаннов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80099"/>
                </a:solidFill>
                <a:latin typeface="Segoe Print"/>
              </a:rPr>
              <a:t>Регент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80099"/>
                </a:solidFill>
                <a:latin typeface="Segoe Print"/>
              </a:rPr>
              <a:t> </a:t>
            </a:r>
            <a:r>
              <a:rPr b="1" i="1" lang="ru-RU" sz="1400" spc="-1" strike="noStrike">
                <a:solidFill>
                  <a:srgbClr val="280099"/>
                </a:solidFill>
                <a:latin typeface="Segoe Print"/>
              </a:rPr>
              <a:t>Анна Леопольд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80099"/>
                </a:solidFill>
                <a:latin typeface="Segoe Print"/>
              </a:rPr>
              <a:t>Бир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4000" y="2016000"/>
            <a:ext cx="2070000" cy="2897280"/>
            <a:chOff x="324000" y="2016000"/>
            <a:chExt cx="2070000" cy="28972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50720" y="2592360"/>
              <a:ext cx="1729080" cy="23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24000" y="2016000"/>
              <a:ext cx="2070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700" spc="-1" strike="noStrike">
                  <a:solidFill>
                    <a:srgbClr val="ff0000"/>
                  </a:solidFill>
                  <a:latin typeface="Segoe Print"/>
                </a:rPr>
                <a:t>Екатерина 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700" spc="-1" strike="noStrike">
                  <a:solidFill>
                    <a:srgbClr val="ff0000"/>
                  </a:solidFill>
                  <a:latin typeface="Segoe Print"/>
                </a:rPr>
                <a:t>(1725 — 1727)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411280" y="2016000"/>
            <a:ext cx="2070360" cy="2826000"/>
            <a:chOff x="2411280" y="2016000"/>
            <a:chExt cx="2070360" cy="282600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2627280" y="2616120"/>
              <a:ext cx="17463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411280" y="2016000"/>
              <a:ext cx="207036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700" spc="-1" strike="noStrike">
                  <a:solidFill>
                    <a:srgbClr val="280099"/>
                  </a:solidFill>
                  <a:latin typeface="Segoe Print"/>
                </a:rPr>
                <a:t>Пётр I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700" spc="-1" strike="noStrike">
                  <a:solidFill>
                    <a:srgbClr val="280099"/>
                  </a:solidFill>
                  <a:latin typeface="Segoe Print"/>
                </a:rPr>
                <a:t>(1727 — 1730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64000" y="2016000"/>
            <a:ext cx="2143080" cy="2826000"/>
            <a:chOff x="4464000" y="2016000"/>
            <a:chExt cx="2143080" cy="282600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4751280" y="2627280"/>
              <a:ext cx="1675080" cy="22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464000" y="2016000"/>
              <a:ext cx="214308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700" spc="-1" strike="noStrike">
                  <a:solidFill>
                    <a:srgbClr val="ff0000"/>
                  </a:solidFill>
                  <a:latin typeface="Segoe Print"/>
                </a:rPr>
                <a:t>Анна Иоанновн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700" spc="-1" strike="noStrike">
                  <a:solidFill>
                    <a:srgbClr val="ff0000"/>
                  </a:solidFill>
                  <a:latin typeface="Segoe Print"/>
                </a:rPr>
                <a:t>(1730 — 1740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624720" y="2027160"/>
            <a:ext cx="2430360" cy="2814840"/>
            <a:chOff x="6624720" y="2027160"/>
            <a:chExt cx="2430360" cy="281484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6948360" y="2637000"/>
              <a:ext cx="178272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624720" y="2027160"/>
              <a:ext cx="243036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700" spc="-1" strike="noStrike">
                  <a:solidFill>
                    <a:srgbClr val="280099"/>
                  </a:solidFill>
                  <a:latin typeface="Segoe Print"/>
                </a:rPr>
                <a:t>Иван VI Антонович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700" spc="-1" strike="noStrike">
                  <a:solidFill>
                    <a:srgbClr val="280099"/>
                  </a:solidFill>
                  <a:latin typeface="Segoe Print"/>
                </a:rPr>
                <a:t>(1740 — 1741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75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75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31000"/>
                            </p:stCondLst>
                            <p:childTnLst>
                              <p:par>
                                <p:cTn id="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75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34000"/>
                            </p:stCondLst>
                            <p:childTnLst>
                              <p:par>
                                <p:cTn id="4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75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42000"/>
                            </p:stCondLst>
                            <p:childTnLst>
                              <p:par>
                                <p:cTn id="5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dur="indefinite" fill="hold">
                            <p:stCondLst>
                              <p:cond delay="45000"/>
                            </p:stCondLst>
                            <p:childTnLst>
                              <p:par>
                                <p:cTn id="5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48000"/>
                            </p:stCondLst>
                            <p:childTnLst>
                              <p:par>
                                <p:cTn id="6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51000"/>
                            </p:stCondLst>
                            <p:childTnLst>
                              <p:par>
                                <p:cTn id="65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56500"/>
                            </p:stCondLst>
                            <p:childTnLst>
                              <p:par>
                                <p:cTn id="6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75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59500"/>
                            </p:stCondLst>
                            <p:childTnLst>
                              <p:par>
                                <p:cTn id="7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7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62500"/>
                            </p:stCondLst>
                            <p:childTnLst>
                              <p:par>
                                <p:cTn id="7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7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65500"/>
                            </p:stCondLst>
                            <p:childTnLst>
                              <p:par>
                                <p:cTn id="8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7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31640" y="474840"/>
            <a:ext cx="604836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Елизаветы Петровны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дочь Петра I по второму браку)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741 — 176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3280" y="4896000"/>
            <a:ext cx="835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5000b"/>
                </a:solidFill>
                <a:latin typeface="Segoe Script"/>
              </a:rPr>
              <a:t> </a:t>
            </a:r>
            <a:r>
              <a:rPr b="1" i="1" lang="ru-RU" sz="2000" spc="-1" strike="noStrike">
                <a:solidFill>
                  <a:srgbClr val="280099"/>
                </a:solidFill>
                <a:latin typeface="Segoe Script"/>
              </a:rPr>
              <a:t>Период властвования Елизаветы ознаменовался укреплением власти государства, стабильностью в политике и расцветом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95280" y="2016000"/>
            <a:ext cx="2800440" cy="2986200"/>
            <a:chOff x="395280" y="2016000"/>
            <a:chExt cx="2800440" cy="29862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9640" y="2016000"/>
              <a:ext cx="215280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95280" y="4608360"/>
              <a:ext cx="2800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Georgia"/>
                </a:rPr>
                <a:t>И. И. Шувал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600360" y="2009880"/>
            <a:ext cx="2944800" cy="2992320"/>
            <a:chOff x="3600360" y="2009880"/>
            <a:chExt cx="2944800" cy="299232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3887640" y="2009880"/>
              <a:ext cx="222408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600360" y="4608360"/>
              <a:ext cx="294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Georgia"/>
                </a:rPr>
                <a:t>А. Г. Разумовск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443640" y="108000"/>
            <a:ext cx="320364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2280" y="142920"/>
            <a:ext cx="562140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ТОГИ  ПРАВЛЕНИ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51640" y="71280"/>
            <a:ext cx="3095640" cy="3637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936720"/>
            <a:ext cx="608328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Восстановление петровских трад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Развитие мануфактур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Учреждение конференции                                вместо кабинета минис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Рост барщинных и оброчных пови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Расширение привилегий дворя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1754 — отмена внутренних таможенных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пошл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1755 — учреждение Москов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Университ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1757 — учреждение Академии худож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56000" y="3887640"/>
            <a:ext cx="2719440" cy="1800360"/>
            <a:chOff x="3456000" y="3887640"/>
            <a:chExt cx="2719440" cy="1800360"/>
          </a:xfrm>
        </p:grpSpPr>
        <p:sp>
          <p:nvSpPr>
            <p:cNvPr id="111" name=""/>
            <p:cNvSpPr/>
            <p:nvPr/>
          </p:nvSpPr>
          <p:spPr>
            <a:xfrm>
              <a:off x="3589200" y="3943440"/>
              <a:ext cx="2519640" cy="1744560"/>
            </a:xfrm>
            <a:prstGeom prst="downArrowCallout">
              <a:avLst>
                <a:gd name="adj1" fmla="val 36110"/>
                <a:gd name="adj2" fmla="val 36107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>
                    <a:alpha val="35294"/>
                  </a:srgbClr>
                </a:gs>
              </a:gsLst>
              <a:lin ang="27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56000" y="3887640"/>
              <a:ext cx="271944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spcBef>
                  <a:spcPts val="575"/>
                </a:spcBef>
                <a:spcAft>
                  <a:spcPts val="57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Georgia"/>
                </a:rPr>
                <a:t>1756 — 1763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575"/>
                </a:spcBef>
                <a:spcAft>
                  <a:spcPts val="57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280099"/>
                  </a:solidFill>
                  <a:latin typeface="Georgia"/>
                </a:rPr>
                <a:t>    </a:t>
              </a:r>
              <a:r>
                <a:rPr b="1" i="1" lang="ru-RU" sz="1600" spc="-1" strike="noStrike">
                  <a:solidFill>
                    <a:srgbClr val="280099"/>
                  </a:solidFill>
                  <a:latin typeface="Georgia"/>
                </a:rPr>
                <a:t>УЧАСТИЕ РОССИИ В   </a:t>
              </a:r>
              <a:r>
                <a:rPr b="1" i="1" lang="ru-RU" sz="1600" spc="-1" strike="noStrike">
                  <a:solidFill>
                    <a:srgbClr val="280099"/>
                  </a:solidFill>
                  <a:latin typeface="Georgia"/>
                </a:rPr>
                <a:t>	</a:t>
              </a:r>
              <a:r>
                <a:rPr b="1" i="1" lang="ru-RU" sz="1600" spc="-1" strike="noStrike">
                  <a:solidFill>
                    <a:srgbClr val="280099"/>
                  </a:solidFill>
                  <a:latin typeface="Georgia"/>
                </a:rPr>
                <a:t>СЕМИЛЕТНЕЙ        ВОЙ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08000" y="3851280"/>
            <a:ext cx="3548160" cy="2324160"/>
            <a:chOff x="108000" y="3851280"/>
            <a:chExt cx="3548160" cy="2324160"/>
          </a:xfrm>
        </p:grpSpPr>
        <p:pic>
          <p:nvPicPr>
            <p:cNvPr id="114" name="" descr=""/>
            <p:cNvPicPr/>
            <p:nvPr/>
          </p:nvPicPr>
          <p:blipFill>
            <a:blip r:embed="rId10"/>
            <a:stretch/>
          </p:blipFill>
          <p:spPr>
            <a:xfrm>
              <a:off x="108000" y="3851280"/>
              <a:ext cx="192888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944720" y="3959280"/>
              <a:ext cx="1711440" cy="21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99284c"/>
                  </a:solidFill>
                  <a:latin typeface="Segoe Print"/>
                </a:rPr>
                <a:t>С. Ф. Апракс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99284c"/>
                  </a:solidFill>
                  <a:latin typeface="Segoe Print"/>
                </a:rPr>
                <a:t>В 1757 г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99284c"/>
                  </a:solidFill>
                  <a:latin typeface="Segoe Print"/>
                </a:rPr>
                <a:t>нанёс поражение прусской арм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12000" y="3835440"/>
            <a:ext cx="3619440" cy="2360520"/>
            <a:chOff x="6012000" y="3835440"/>
            <a:chExt cx="3619440" cy="2360520"/>
          </a:xfrm>
        </p:grpSpPr>
        <p:pic>
          <p:nvPicPr>
            <p:cNvPr id="117" name="" descr=""/>
            <p:cNvPicPr/>
            <p:nvPr/>
          </p:nvPicPr>
          <p:blipFill>
            <a:blip r:embed="rId11"/>
            <a:stretch/>
          </p:blipFill>
          <p:spPr>
            <a:xfrm>
              <a:off x="7632720" y="3835440"/>
              <a:ext cx="199872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012000" y="3906720"/>
              <a:ext cx="1711080" cy="21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99284c"/>
                  </a:solidFill>
                  <a:latin typeface="Segoe Print"/>
                </a:rPr>
                <a:t>П. С. Салты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99284c"/>
                  </a:solidFill>
                  <a:latin typeface="Segoe Print"/>
                </a:rPr>
                <a:t>В 1759 г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99284c"/>
                  </a:solidFill>
                  <a:latin typeface="Segoe Print"/>
                </a:rPr>
                <a:t>Дважды одержал победу над  прусской арми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833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33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33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33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833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833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33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33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33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833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833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33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3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33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833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833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33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33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33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833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833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33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33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33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833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dur="indefinite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dur="indefinite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dur="indefinite" fill="hold">
                            <p:stCondLst>
                              <p:cond delay="39000"/>
                            </p:stCondLst>
                            <p:childTnLst>
                              <p:par>
                                <p:cTn id="18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dur="indefinite" fill="hold">
                            <p:stCondLst>
                              <p:cond delay="46000"/>
                            </p:stCondLst>
                            <p:childTnLst>
                              <p:par>
                                <p:cTn id="2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dur="indefinite" fill="hold">
                            <p:stCondLst>
                              <p:cond delay="51000"/>
                            </p:stCondLst>
                            <p:childTnLst>
                              <p:par>
                                <p:cTn id="20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dur="indefinite" fill="hold">
                            <p:stCondLst>
                              <p:cond delay="56000"/>
                            </p:stCondLst>
                            <p:childTnLst>
                              <p:par>
                                <p:cTn id="20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71280" y="517680"/>
            <a:ext cx="727236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равление Петра III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племянник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Елизаветы Петровны)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761 — 176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51520" y="108000"/>
            <a:ext cx="3695760" cy="3816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6000" y="3924360"/>
            <a:ext cx="5254560" cy="1800000"/>
          </a:xfrm>
          <a:custGeom>
            <a:avLst/>
            <a:gdLst>
              <a:gd name="textAreaLeft" fmla="*/ 0 w 5254560"/>
              <a:gd name="textAreaRight" fmla="*/ 5254920 w 52545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280099"/>
                </a:solidFill>
                <a:uFillTx/>
                <a:latin typeface="Segoe Print"/>
              </a:rPr>
              <a:t>18 февраля 17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Манифест «О во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дворян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Освобождал дворян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обяз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государ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и военной служ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67280" y="3887640"/>
            <a:ext cx="4751280" cy="183672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1836720"/>
              <a:gd name="textAreaBottom" fmla="*/ 1837080 h 18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Ликвидация Тай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канцеля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Секуляр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церковных зем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Прекращение пре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1900"/>
                </a:solidFill>
                <a:latin typeface="Segoe Print"/>
              </a:rPr>
              <a:t>Старообряд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6000" y="2087640"/>
            <a:ext cx="5241960" cy="1641240"/>
            <a:chOff x="216000" y="2087640"/>
            <a:chExt cx="5241960" cy="1641240"/>
          </a:xfrm>
        </p:grpSpPr>
        <p:sp>
          <p:nvSpPr>
            <p:cNvPr id="124" name=""/>
            <p:cNvSpPr/>
            <p:nvPr/>
          </p:nvSpPr>
          <p:spPr>
            <a:xfrm>
              <a:off x="216000" y="2087640"/>
              <a:ext cx="5241960" cy="1641240"/>
            </a:xfrm>
            <a:custGeom>
              <a:avLst/>
              <a:gdLst>
                <a:gd name="textAreaLeft" fmla="*/ 0 w 5241960"/>
                <a:gd name="textAreaRight" fmla="*/ 5242320 w 5241960"/>
                <a:gd name="textAreaTop" fmla="*/ 0 h 1641240"/>
                <a:gd name="textAreaBottom" fmla="*/ 1641600 h 16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45098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97000" y="2232000"/>
              <a:ext cx="304956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4c1900"/>
                  </a:solidFill>
                  <a:latin typeface="Segoe Print"/>
                </a:rPr>
                <a:t>Выход из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4c1900"/>
                  </a:solidFill>
                  <a:latin typeface="Segoe Print"/>
                </a:rPr>
                <a:t>семилетней войны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4c1900"/>
                  </a:solidFill>
                  <a:latin typeface="Segoe Print"/>
                </a:rPr>
                <a:t>возвра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4c1900"/>
                  </a:solidFill>
                  <a:latin typeface="Segoe Print"/>
                </a:rPr>
                <a:t>завоеванных территорий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4c1900"/>
                  </a:solidFill>
                  <a:latin typeface="Segoe Print"/>
                </a:rPr>
                <a:t>Союз с Пруссие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-36360" y="5904000"/>
            <a:ext cx="9742320" cy="534960"/>
            <a:chOff x="-36360" y="5904000"/>
            <a:chExt cx="9742320" cy="534960"/>
          </a:xfrm>
        </p:grpSpPr>
        <p:sp>
          <p:nvSpPr>
            <p:cNvPr id="127" name=""/>
            <p:cNvSpPr/>
            <p:nvPr/>
          </p:nvSpPr>
          <p:spPr>
            <a:xfrm>
              <a:off x="176040" y="5904000"/>
              <a:ext cx="9317160" cy="534960"/>
            </a:xfrm>
            <a:prstGeom prst="roundRect">
              <a:avLst>
                <a:gd name="adj" fmla="val 287"/>
              </a:avLst>
            </a:prstGeom>
            <a:gradFill rotWithShape="0">
              <a:gsLst>
                <a:gs pos="0">
                  <a:srgbClr val="b3b3b3"/>
                </a:gs>
                <a:gs pos="100000">
                  <a:srgbClr val="e6e6ff">
                    <a:alpha val="35294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36360" y="5904000"/>
              <a:ext cx="9742320" cy="415800"/>
            </a:xfrm>
            <a:prstGeom prst="rect">
              <a:avLst/>
            </a:prstGeom>
            <a:gradFill rotWithShape="0">
              <a:gsLst>
                <a:gs pos="0">
                  <a:srgbClr val="b3b3b3"/>
                </a:gs>
                <a:gs pos="100000">
                  <a:srgbClr val="e6e6ff">
                    <a:alpha val="3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280099"/>
                  </a:solidFill>
                  <a:latin typeface="Georgia"/>
                </a:rPr>
                <a:t>1762 — свергнут в результате дворцового перевор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0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1280" y="324000"/>
            <a:ext cx="49323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Екатерины II Великой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762 — 179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67640" y="73080"/>
            <a:ext cx="2879640" cy="32400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324000" y="1835280"/>
            <a:ext cx="1822320" cy="2489040"/>
            <a:chOff x="324000" y="1835280"/>
            <a:chExt cx="1822320" cy="248904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528480" y="1835280"/>
              <a:ext cx="1497240" cy="20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4000" y="4037040"/>
              <a:ext cx="1822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Segoe Print"/>
                </a:rPr>
                <a:t>Салтыков С.В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885080" y="3586320"/>
            <a:ext cx="1930320" cy="2519280"/>
            <a:chOff x="7885080" y="3586320"/>
            <a:chExt cx="1930320" cy="251928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8028000" y="3960720"/>
              <a:ext cx="1641600" cy="21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885080" y="3586320"/>
              <a:ext cx="193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Segoe Print"/>
                </a:rPr>
                <a:t>Потёмкин Г.А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737320" y="3311640"/>
            <a:ext cx="3009960" cy="2468520"/>
            <a:chOff x="5737320" y="3311640"/>
            <a:chExt cx="3009960" cy="2468520"/>
          </a:xfrm>
        </p:grpSpPr>
        <p:pic>
          <p:nvPicPr>
            <p:cNvPr id="138" name="" descr=""/>
            <p:cNvPicPr/>
            <p:nvPr/>
          </p:nvPicPr>
          <p:blipFill>
            <a:blip r:embed="rId4"/>
            <a:stretch/>
          </p:blipFill>
          <p:spPr>
            <a:xfrm>
              <a:off x="6119640" y="3708360"/>
              <a:ext cx="16416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37320" y="3311640"/>
              <a:ext cx="3009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Segoe Print"/>
                </a:rPr>
                <a:t>Остерман-Толстой А.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116240" y="1878120"/>
            <a:ext cx="1714680" cy="2441520"/>
            <a:chOff x="4116240" y="1878120"/>
            <a:chExt cx="1714680" cy="244152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4116240" y="1878120"/>
              <a:ext cx="169236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187880" y="4032360"/>
              <a:ext cx="1643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Segoe Print"/>
                </a:rPr>
                <a:t>Орлов Г.Г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197080" y="2016000"/>
            <a:ext cx="1641600" cy="2433600"/>
            <a:chOff x="2197080" y="2016000"/>
            <a:chExt cx="1641600" cy="2433600"/>
          </a:xfrm>
        </p:grpSpPr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2305080" y="2016000"/>
              <a:ext cx="1496880" cy="21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197080" y="4162320"/>
              <a:ext cx="1641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Segoe Print"/>
                </a:rPr>
                <a:t>Зубов П.А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03280" y="1476360"/>
            <a:ext cx="6089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80099"/>
                </a:solidFill>
                <a:latin typeface="Segoe Print"/>
              </a:rPr>
              <a:t>Обязана окружению, которое возвело   ее на прест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Segoe Prin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1640" y="4427640"/>
            <a:ext cx="5688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80099"/>
                </a:solidFill>
                <a:latin typeface="Segoe Print"/>
              </a:rPr>
              <a:t>Отличительной чертой эры правления Екатерины II стал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Segoe Print"/>
              </a:rPr>
              <a:t>фаворитизм </a:t>
            </a:r>
            <a:r>
              <a:rPr b="1" i="1" lang="ru-RU" sz="1800" spc="-1" strike="noStrike">
                <a:solidFill>
                  <a:srgbClr val="280099"/>
                </a:solidFill>
                <a:latin typeface="Segoe Print"/>
              </a:rPr>
              <a:t>— режим, при котором соправителями императрицы, оказывающими влияние на политику государства, периодически становились ее фавор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0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.9999976158142"/>
                                  </p:iterate>
                                  <p:childTnLst>
                                    <p:set>
                                      <p:cBhvr>
                                        <p:cTn id="252" dur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dur="indefinite" fill="hold">
                            <p:stCondLst>
                              <p:cond delay="1008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.9999976158142"/>
                                  </p:iterate>
                                  <p:childTnLst>
                                    <p:set>
                                      <p:cBhvr>
                                        <p:cTn id="258" dur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3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3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3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dur="indefinite" fill="hold">
                            <p:stCondLst>
                              <p:cond delay="1308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.9999976158142"/>
                                  </p:iterate>
                                  <p:childTnLst>
                                    <p:set>
                                      <p:cBhvr>
                                        <p:cTn id="264" dur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dur="indefinite" fill="hold">
                            <p:stCondLst>
                              <p:cond delay="23880"/>
                            </p:stCondLst>
                            <p:childTnLst>
                              <p:par>
                                <p:cTn id="26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fill="hold">
                            <p:stCondLst>
                              <p:cond delay="26880"/>
                            </p:stCondLst>
                            <p:childTnLst>
                              <p:par>
                                <p:cTn id="27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29880"/>
                            </p:stCondLst>
                            <p:childTnLst>
                              <p:par>
                                <p:cTn id="27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dur="indefinite" fill="hold">
                            <p:stCondLst>
                              <p:cond delay="32880"/>
                            </p:stCondLst>
                            <p:childTnLst>
                              <p:par>
                                <p:cTn id="28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06280" y="71280"/>
            <a:ext cx="562140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ТОГИ  ПРАВЛЕНИ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983280" y="82440"/>
            <a:ext cx="2664000" cy="3086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0760" y="5673600"/>
            <a:ext cx="966960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Эпоха Просвещённого абсолютизм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55640" y="576360"/>
            <a:ext cx="2793960" cy="2508120"/>
            <a:chOff x="755640" y="576360"/>
            <a:chExt cx="2793960" cy="2508120"/>
          </a:xfrm>
        </p:grpSpPr>
        <p:sp>
          <p:nvSpPr>
            <p:cNvPr id="152" name=""/>
            <p:cNvSpPr/>
            <p:nvPr/>
          </p:nvSpPr>
          <p:spPr>
            <a:xfrm>
              <a:off x="755640" y="611280"/>
              <a:ext cx="2793960" cy="2361960"/>
            </a:xfrm>
            <a:custGeom>
              <a:avLst/>
              <a:gdLst>
                <a:gd name="textAreaLeft" fmla="*/ 278280 w 2793960"/>
                <a:gd name="textAreaRight" fmla="*/ 2515680 w 2793960"/>
                <a:gd name="textAreaTop" fmla="*/ 278280 h 2361960"/>
                <a:gd name="textAreaBottom" fmla="*/ 2083680 h 2361960"/>
              </a:gdLst>
              <a:ahLst/>
              <a:rect l="textAreaLeft" t="textAreaTop" r="textAreaRight" b="textAreaBottom"/>
              <a:pathLst>
                <a:path w="2555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1950" y="21600"/>
                  </a:lnTo>
                  <a:arcTo wR="3600" hR="3600" stAng="10800000" swAng="5400000"/>
                  <a:lnTo>
                    <a:pt x="2555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25098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6920" y="576360"/>
              <a:ext cx="2573640" cy="25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Georgia"/>
                </a:rPr>
                <a:t>176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Сенат был разделен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на 6 департаментов по секторам пробле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Georgia"/>
                </a:rPr>
                <a:t>17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создано Вольное экономическое общество для дворян и купц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Georgia"/>
                </a:rPr>
                <a:t>17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Свобода предприниматель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20720" y="3274920"/>
            <a:ext cx="2828880" cy="2649600"/>
            <a:chOff x="720720" y="3274920"/>
            <a:chExt cx="2828880" cy="2649600"/>
          </a:xfrm>
        </p:grpSpPr>
        <p:sp>
          <p:nvSpPr>
            <p:cNvPr id="155" name=""/>
            <p:cNvSpPr/>
            <p:nvPr/>
          </p:nvSpPr>
          <p:spPr>
            <a:xfrm>
              <a:off x="720720" y="3311640"/>
              <a:ext cx="2828880" cy="2361960"/>
            </a:xfrm>
            <a:custGeom>
              <a:avLst/>
              <a:gdLst>
                <a:gd name="textAreaLeft" fmla="*/ 278280 w 2828880"/>
                <a:gd name="textAreaRight" fmla="*/ 2550600 w 2828880"/>
                <a:gd name="textAreaTop" fmla="*/ 278280 h 2361960"/>
                <a:gd name="textAreaBottom" fmla="*/ 2083680 h 2361960"/>
              </a:gdLst>
              <a:ahLst/>
              <a:rect l="textAreaLeft" t="textAreaTop" r="textAreaRight" b="textAreaBottom"/>
              <a:pathLst>
                <a:path w="2586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2269" y="21600"/>
                  </a:lnTo>
                  <a:arcTo wR="3600" hR="3600" stAng="10800000" swAng="5400000"/>
                  <a:lnTo>
                    <a:pt x="25869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25098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3640" y="3274920"/>
              <a:ext cx="2577960" cy="26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17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Запрет жалоб крестьян на хозяин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17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Ссылка в Сибирь крестья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1773 — 177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народное восстание под руководством Емельяна Пугаче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178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на Украине введен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крепостное пра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56000" y="576360"/>
            <a:ext cx="3513240" cy="2452680"/>
            <a:chOff x="3456000" y="576360"/>
            <a:chExt cx="3513240" cy="2452680"/>
          </a:xfrm>
        </p:grpSpPr>
        <p:sp>
          <p:nvSpPr>
            <p:cNvPr id="158" name=""/>
            <p:cNvSpPr/>
            <p:nvPr/>
          </p:nvSpPr>
          <p:spPr>
            <a:xfrm>
              <a:off x="3887640" y="647640"/>
              <a:ext cx="2721240" cy="2325600"/>
            </a:xfrm>
            <a:custGeom>
              <a:avLst/>
              <a:gdLst>
                <a:gd name="textAreaLeft" fmla="*/ 273960 w 2721240"/>
                <a:gd name="textAreaRight" fmla="*/ 2447280 w 2721240"/>
                <a:gd name="textAreaTop" fmla="*/ 273960 h 2325600"/>
                <a:gd name="textAreaBottom" fmla="*/ 2051640 h 2325600"/>
              </a:gdLst>
              <a:ahLst/>
              <a:rect l="textAreaLeft" t="textAreaTop" r="textAreaRight" b="textAreaBottom"/>
              <a:pathLst>
                <a:path w="2527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1674" y="21600"/>
                  </a:lnTo>
                  <a:arcTo wR="3600" hR="3600" stAng="10800000" swAng="5400000"/>
                  <a:lnTo>
                    <a:pt x="25274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25098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56000" y="576360"/>
              <a:ext cx="3513240" cy="24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1767 — 176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Уложенная комисс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«Наказ» Екатерины 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177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губернская реформ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Россию разделили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50 губерний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Во глав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генерал – губернатор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178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Жалованная грамот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дворянству и гор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875640" y="3297240"/>
            <a:ext cx="2663640" cy="2340000"/>
          </a:xfrm>
          <a:custGeom>
            <a:avLst/>
            <a:gdLst>
              <a:gd name="textAreaLeft" fmla="*/ 275760 w 2663640"/>
              <a:gd name="textAreaRight" fmla="*/ 2387880 w 2663640"/>
              <a:gd name="textAreaTop" fmla="*/ 275760 h 2340000"/>
              <a:gd name="textAreaBottom" fmla="*/ 2064240 h 2340000"/>
            </a:gdLst>
            <a:ahLst/>
            <a:rect l="textAreaLeft" t="textAreaTop" r="textAreaRight" b="textAreaBottom"/>
            <a:pathLst>
              <a:path w="2458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87" y="21600"/>
                </a:lnTo>
                <a:arcTo wR="3600" hR="3600" stAng="10800000" swAng="5400000"/>
                <a:lnTo>
                  <a:pt x="2458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2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768 — 17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788 — 179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Русско-турецкие вой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(выход к берегам Черного мор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Георгиевский тракт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772, 1793, 179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Разделы Польш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(Воссоединение украински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Белорусских 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с Россией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" y="2995560"/>
            <a:ext cx="7224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Print"/>
              </a:rPr>
              <a:t>Проводила политику на основе идей французских просвети</a:t>
            </a:r>
            <a:r>
              <a:rPr b="1" lang="ru-RU" sz="1600" spc="-1" strike="noStrike">
                <a:solidFill>
                  <a:srgbClr val="ff0000"/>
                </a:solidFill>
                <a:latin typeface="Segoe Print"/>
              </a:rPr>
              <a:t>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87640" y="3236760"/>
            <a:ext cx="2721240" cy="2467080"/>
            <a:chOff x="3887640" y="3236760"/>
            <a:chExt cx="2721240" cy="2467080"/>
          </a:xfrm>
        </p:grpSpPr>
        <p:sp>
          <p:nvSpPr>
            <p:cNvPr id="163" name=""/>
            <p:cNvSpPr/>
            <p:nvPr/>
          </p:nvSpPr>
          <p:spPr>
            <a:xfrm>
              <a:off x="3887640" y="3311640"/>
              <a:ext cx="2721240" cy="2361960"/>
            </a:xfrm>
            <a:custGeom>
              <a:avLst/>
              <a:gdLst>
                <a:gd name="textAreaLeft" fmla="*/ 278280 w 2721240"/>
                <a:gd name="textAreaRight" fmla="*/ 2442960 w 2721240"/>
                <a:gd name="textAreaTop" fmla="*/ 278280 h 2361960"/>
                <a:gd name="textAreaBottom" fmla="*/ 2083680 h 2361960"/>
              </a:gdLst>
              <a:ahLst/>
              <a:rect l="textAreaLeft" t="textAreaTop" r="textAreaRight" b="textAreaBottom"/>
              <a:pathLst>
                <a:path w="24885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1285" y="21600"/>
                  </a:lnTo>
                  <a:arcTo wR="3600" hR="3600" stAng="10800000" swAng="5400000"/>
                  <a:lnTo>
                    <a:pt x="24885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25098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7640" y="3236760"/>
              <a:ext cx="2721240" cy="24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176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Смольный институт благородных девиц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178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«Устав народных училищ»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4-классные и 2-класс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177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Горное училище в Петербург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178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Российская Академия нау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1779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Появл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Georgia"/>
                </a:rPr>
                <a:t>частного театр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dur="indefinite" fill="hold">
                      <p:stCondLst>
                        <p:cond delay="0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dur="indefinite" fill="hold">
                            <p:stCondLst>
                              <p:cond delay="7359"/>
                            </p:stCondLst>
                            <p:childTnLst>
                              <p:par>
                                <p:cTn id="30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dur="indefinite" fill="hold">
                            <p:stCondLst>
                              <p:cond delay="10360"/>
                            </p:stCondLst>
                            <p:childTnLst>
                              <p:par>
                                <p:cTn id="31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fill="hold">
                            <p:stCondLst>
                              <p:cond delay="13360"/>
                            </p:stCondLst>
                            <p:childTnLst>
                              <p:par>
                                <p:cTn id="31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dur="indefinite" fill="hold">
                            <p:stCondLst>
                              <p:cond delay="16360"/>
                            </p:stCondLst>
                            <p:childTnLst>
                              <p:par>
                                <p:cTn id="32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fill="hold">
                            <p:stCondLst>
                              <p:cond delay="19360"/>
                            </p:stCondLst>
                            <p:childTnLst>
                              <p:par>
                                <p:cTn id="32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833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dur="indefinite" fill="hold">
                            <p:stCondLst>
                              <p:cond delay="20192"/>
                            </p:stCondLst>
                            <p:childTnLst>
                              <p:par>
                                <p:cTn id="32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1280" y="395280"/>
            <a:ext cx="49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авла I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796 — 180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96000" y="96840"/>
            <a:ext cx="2952720" cy="4583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47640" y="1655640"/>
            <a:ext cx="216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6360" y="1946160"/>
            <a:ext cx="611964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i="1" lang="ru-RU" sz="1800" spc="-1" strike="noStrike">
                <a:solidFill>
                  <a:srgbClr val="804c19"/>
                </a:solidFill>
                <a:latin typeface="Segoe Print"/>
              </a:rPr>
              <a:t>	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Для политики Павла I была характерна неприязнь по отношению к матер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её окружению и её поли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000" y="3321000"/>
            <a:ext cx="55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80099"/>
                </a:solidFill>
                <a:latin typeface="Segoe Script"/>
              </a:rPr>
              <a:t>1797 — УКАЗ О ПРЕСТОЛОНАСЛЕДИИ «УЧРЕЖДЕНИЕ ОБ ИМПЕРАТОРСКОЙ ФАМИЛ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1640" y="4643280"/>
            <a:ext cx="89996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1800" indent="-33624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b80047"/>
                </a:solidFill>
                <a:latin typeface="Segoe Print"/>
              </a:rPr>
              <a:t>Отказ от политики просвещенного абсолютизма в отношении к дворян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3624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b80047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b80047"/>
                </a:solidFill>
                <a:latin typeface="Segoe Print"/>
              </a:rPr>
              <a:t>Переход к палочной дисциплине и мелочной регламентации в армии и государственных учрежд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3624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b80047"/>
                </a:solidFill>
                <a:latin typeface="Segoe Print"/>
              </a:rPr>
              <a:t>   </a:t>
            </a:r>
            <a:r>
              <a:rPr b="1" i="1" lang="ru-RU" sz="1800" spc="-1" strike="noStrike">
                <a:solidFill>
                  <a:srgbClr val="b80047"/>
                </a:solidFill>
                <a:latin typeface="Segoe Print"/>
              </a:rPr>
              <a:t>Начало проведения мер по ограничению крепостн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dur="indefinite" fill="hold">
                      <p:stCondLst>
                        <p:cond delay="0"/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5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3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355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3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1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9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3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7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01600" y="71280"/>
            <a:ext cx="562140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ТОГИ  ПРАВЛЕНИ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60360" y="390600"/>
            <a:ext cx="655164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I. Ограничение привилегий дворян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Ссылка Екатерининских фавори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1798 — указ о предписании губернаторам присутств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на выборах предводителей дворян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1799 — указ об отмене губернских собраний и выб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2 января 1797 — были  введены телесные наказания 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дворя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4 мая 1797 года император запретил дворянам подава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ллективные про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II. Решение крестьянского воп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1796 — указ о прикреплении крестьян к земле в Ново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1797 — указ о трехдневной барщ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1798 — запрет на продажу украинских крестьян с моло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6624720" y="65160"/>
            <a:ext cx="3051000" cy="3749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435640" y="3240000"/>
            <a:ext cx="4535280" cy="28083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50000">
                <a:srgbClr val="ff0000"/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1 на 12 ма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ел I уби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ском двор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080" y="5664240"/>
            <a:ext cx="966960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Arial Black"/>
              </a:rPr>
              <a:t>Последний дворцовый переворо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0360" y="3492360"/>
            <a:ext cx="2004840" cy="2243160"/>
            <a:chOff x="360360" y="3492360"/>
            <a:chExt cx="2004840" cy="2243160"/>
          </a:xfrm>
        </p:grpSpPr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503280" y="3492360"/>
              <a:ext cx="1573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0360" y="5472000"/>
              <a:ext cx="2004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300" spc="-1" strike="noStrike">
                  <a:solidFill>
                    <a:srgbClr val="000000"/>
                  </a:solidFill>
                  <a:latin typeface="Segoe Print"/>
                </a:rPr>
                <a:t>Генерал П.А. Пале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124000" y="3635280"/>
            <a:ext cx="2005200" cy="2098800"/>
            <a:chOff x="2124000" y="3635280"/>
            <a:chExt cx="2005200" cy="2098800"/>
          </a:xfrm>
        </p:grpSpPr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>
              <a:off x="2232000" y="3635280"/>
              <a:ext cx="14446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124000" y="5470560"/>
              <a:ext cx="2005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300" spc="-1" strike="noStrike">
                  <a:solidFill>
                    <a:srgbClr val="000000"/>
                  </a:solidFill>
                  <a:latin typeface="Segoe Print"/>
                </a:rPr>
                <a:t>Граф П.А. Зуб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72000" y="3527280"/>
            <a:ext cx="2727360" cy="1432080"/>
            <a:chOff x="3672000" y="3527280"/>
            <a:chExt cx="2727360" cy="1432080"/>
          </a:xfrm>
        </p:grpSpPr>
        <p:sp>
          <p:nvSpPr>
            <p:cNvPr id="183" name=""/>
            <p:cNvSpPr/>
            <p:nvPr/>
          </p:nvSpPr>
          <p:spPr>
            <a:xfrm>
              <a:off x="3672000" y="3527280"/>
              <a:ext cx="2727360" cy="1432080"/>
            </a:xfrm>
            <a:custGeom>
              <a:avLst/>
              <a:gdLst>
                <a:gd name="textAreaLeft" fmla="*/ 0 w 2727360"/>
                <a:gd name="textAreaRight" fmla="*/ 2727720 w 2727360"/>
                <a:gd name="textAreaTop" fmla="*/ 0 h 1432080"/>
                <a:gd name="textAreaBottom" fmla="*/ 1432440 h 14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2524" y="10788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051440" y="3713040"/>
              <a:ext cx="1963440" cy="65412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096649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ЗАГОВОР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46080" y="5668920"/>
            <a:ext cx="966960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Arial Black"/>
              </a:rPr>
              <a:t>Последний дворцовый переворо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</p:spTree>
  </p:cSld>
  <p:transition spd="med">
    <p:strips dir="l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dur="indefinite" fill="hold">
                      <p:stCondLst>
                        <p:cond delay="0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42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0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3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8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6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3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3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3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dur="indefinite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0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3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dur="indefinite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8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3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dur="indefinite" fill="hold">
                            <p:stCondLst>
                              <p:cond delay="33000"/>
                            </p:stCondLst>
                            <p:childTnLst>
                              <p:par>
                                <p:cTn id="486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3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dur="indefinite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3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dur="indefinite" fill="hold">
                            <p:stCondLst>
                              <p:cond delay="39000"/>
                            </p:stCondLst>
                            <p:childTnLst>
                              <p:par>
                                <p:cTn id="50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3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dur="indefinite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2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dur="indefinite" fill="hold">
                            <p:stCondLst>
                              <p:cond delay="45000"/>
                            </p:stCondLst>
                            <p:childTnLst>
                              <p:par>
                                <p:cTn id="514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dur="indefinite" fill="hold">
                            <p:stCondLst>
                              <p:cond delay="47000"/>
                            </p:stCondLst>
                            <p:childTnLst>
                              <p:par>
                                <p:cTn id="518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2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7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7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7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dur="indefinite" fill="hold">
                            <p:stCondLst>
                              <p:cond delay="49250"/>
                            </p:stCondLst>
                            <p:childTnLst>
                              <p:par>
                                <p:cTn id="5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dur="indefinite" fill="hold">
                            <p:stCondLst>
                              <p:cond delay="54250"/>
                            </p:stCondLst>
                            <p:childTnLst>
                              <p:par>
                                <p:cTn id="532" dur="indefinite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5:40:05Z</dcterms:created>
  <dc:creator/>
  <dc:description/>
  <dc:language>en-US</dc:language>
  <cp:lastModifiedBy>Венера</cp:lastModifiedBy>
  <dcterms:modified xsi:type="dcterms:W3CDTF">2013-04-01T16:20:18Z</dcterms:modified>
  <cp:revision>43</cp:revision>
  <dc:subject/>
  <dc:title>Слайд 1</dc:title>
</cp:coreProperties>
</file>