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408-7C78-4C64-B9F4-1C2B863F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3440" y="39520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CF1-CD91-44C1-BBBA-5E5D12EB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06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92E-1028-4C68-912F-D855E325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980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16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344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980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16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3E4-A013-44B1-BD10-228E2EA0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599760"/>
            <a:ext cx="827748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53D-D27B-4AC5-B4C7-6EFB0579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06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3440" y="39520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06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980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6160" y="18316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344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980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6160" y="3952080"/>
            <a:ext cx="260568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BDD-F9B9-4E7B-85CA-D10068FE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CC0-8568-47B4-9463-B1B06A98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CBE-B2A5-480D-8FF5-056647E2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3880" y="599760"/>
            <a:ext cx="827748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683-29CC-42E3-BBD6-64EC01A0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261-AB77-4D92-B79E-43442D9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0640" y="39520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C77-BA36-4A9D-81B1-AFC1B29F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34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0640" y="1831680"/>
            <a:ext cx="394920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3440" y="3952080"/>
            <a:ext cx="8093160" cy="193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164-0FCF-4EB8-9E3D-41E09D2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2352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235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3640"/>
            <a:ext cx="2239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574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39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25BC7-7B27-4D5F-A087-16D2B05E02A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77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5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3440" y="1831680"/>
            <a:ext cx="809316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rono.ru/biograf/bio_a/alexey_mih.php" TargetMode="External"/><Relationship Id="rId2" Type="http://schemas.openxmlformats.org/officeDocument/2006/relationships/hyperlink" Target="http://www.zapolni-probel.ru/hystoryrus/russia1819/107-ekaterina-ii-kratko.html" TargetMode="External"/><Relationship Id="rId3" Type="http://schemas.openxmlformats.org/officeDocument/2006/relationships/hyperlink" Target="http://www.histerl.ru/otechestvennaia_istoria/kratko/vnutrennia_politika_ekaterini_2.htm" TargetMode="External"/><Relationship Id="rId4" Type="http://schemas.openxmlformats.org/officeDocument/2006/relationships/hyperlink" Target="http://historynotes.ru/imperator-nikolay-2/" TargetMode="External"/><Relationship Id="rId5" Type="http://schemas.openxmlformats.org/officeDocument/2006/relationships/hyperlink" Target="http://russkie-tsari.ru/index.php/nikolaj-ii-aleksandrovich-1894-1917" TargetMode="External"/><Relationship Id="rId6" Type="http://schemas.openxmlformats.org/officeDocument/2006/relationships/hyperlink" Target="http://istoriyadrevnegomira.ru/pravlenie-nikolaya-ii-fevralskaya-revolyuciya.html" TargetMode="External"/><Relationship Id="rId7" Type="http://schemas.openxmlformats.org/officeDocument/2006/relationships/hyperlink" Target="http://csso-dsmpto.livejournal.com/165145.html" TargetMode="External"/><Relationship Id="rId8" Type="http://schemas.openxmlformats.org/officeDocument/2006/relationships/hyperlink" Target="http://www.online812.ru/2013/02/05/004/" TargetMode="External"/><Relationship Id="rId9" Type="http://schemas.openxmlformats.org/officeDocument/2006/relationships/hyperlink" Target="http://smi2.ru/Gehirn/c291502/" TargetMode="External"/><Relationship Id="rId10" Type="http://schemas.openxmlformats.org/officeDocument/2006/relationships/hyperlink" Target="http://upload.wikimedia.org/wikipedia/commons/5/58/Michael_titularnik.jpg" TargetMode="External"/><Relationship Id="rId11" Type="http://schemas.openxmlformats.org/officeDocument/2006/relationships/hyperlink" Target="http://nesterovich1.livejournal.com/" TargetMode="External"/><Relationship Id="rId12" Type="http://schemas.openxmlformats.org/officeDocument/2006/relationships/hyperlink" Target="http://fullimg.ucrazy.ru/1361190111/1361187259_4-petr-i.jpg" TargetMode="External"/><Relationship Id="rId13" Type="http://schemas.openxmlformats.org/officeDocument/2006/relationships/hyperlink" Target="http://fullimg.ucrazy.ru/1361190111/1361187259_5-ekaterina-i.jpg" TargetMode="External"/><Relationship Id="rId14" Type="http://schemas.openxmlformats.org/officeDocument/2006/relationships/hyperlink" Target="http://fullimg.ucrazy.ru/1361190111/1361187292_8-ioann-vi-antonovich.jpg" TargetMode="External"/><Relationship Id="rId15" Type="http://schemas.openxmlformats.org/officeDocument/2006/relationships/hyperlink" Target="http://ucrazy.ru/interesting/1361190111-imperatory-rossiyskoy-imperii.html" TargetMode="External"/><Relationship Id="rId16" Type="http://schemas.openxmlformats.org/officeDocument/2006/relationships/hyperlink" Target="http://aminpro.narod.ru/kreml_G_0023.html" TargetMode="External"/><Relationship Id="rId17" Type="http://schemas.openxmlformats.org/officeDocument/2006/relationships/hyperlink" Target="http://www.newparadigma.ru/engines/npforum/read.aspx?m=259030" TargetMode="External"/><Relationship Id="rId18" Type="http://schemas.openxmlformats.org/officeDocument/2006/relationships/hyperlink" Target="http://upload.wikimedia.org/wikipedia/commons/4/43/Ivan_V_kremlin.jpg" TargetMode="External"/><Relationship Id="rId19" Type="http://schemas.openxmlformats.org/officeDocument/2006/relationships/hyperlink" Target="http://ru.wikipedia.org/wiki/&#1060;&#1072;&#1081;&#1083;:Feodor_III_by_Ivan_Saltanov.jpg" TargetMode="External"/><Relationship Id="rId20" Type="http://schemas.openxmlformats.org/officeDocument/2006/relationships/hyperlink" Target="http://pro100-mica.livejournal.com/75871.html?thread=1741407" TargetMode="External"/><Relationship Id="rId21" Type="http://schemas.openxmlformats.org/officeDocument/2006/relationships/hyperlink" Target="http://t3.gstatic.com/images?q=tbn:ANd9GcSKFrKOetoN3BFP_RvWhEHRpgQK5P0T8ebPtA9r_a6p6vhLCJVQ&amp;t=1" TargetMode="External"/><Relationship Id="rId22" Type="http://schemas.openxmlformats.org/officeDocument/2006/relationships/hyperlink" Target="http://aminpro.narod.ru/strana_0042.html" TargetMode="External"/><Relationship Id="rId23" Type="http://schemas.openxmlformats.org/officeDocument/2006/relationships/hyperlink" Target="http://www.glavagosudarstva.ru/index.php?option=com_content&amp;view=article&amp;id=61&amp;Itemid=77" TargetMode="External"/><Relationship Id="rId24" Type="http://schemas.openxmlformats.org/officeDocument/2006/relationships/hyperlink" Target="http://www.calend.ru/person/5455/" TargetMode="External"/><Relationship Id="rId25" Type="http://schemas.openxmlformats.org/officeDocument/2006/relationships/hyperlink" Target="http://dokonline.com/dokumentalnie-filmi/11933-ekaterina-velikaya-bbc-catherine-the-great-2005.html" TargetMode="External"/><Relationship Id="rId26" Type="http://schemas.openxmlformats.org/officeDocument/2006/relationships/hyperlink" Target="http://emperfavour.narod.ru/ekaterina2.html" TargetMode="External"/><Relationship Id="rId27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lden-ship.ru/publ/cari_gosudarstva_rossijskogo/elisaveta_petrovna/15" TargetMode="External"/><Relationship Id="rId2" Type="http://schemas.openxmlformats.org/officeDocument/2006/relationships/hyperlink" Target="http://letopis.msu.ru/peoples/275" TargetMode="External"/><Relationship Id="rId3" Type="http://schemas.openxmlformats.org/officeDocument/2006/relationships/hyperlink" Target="http://srn.rusidea.org/?a=10014" TargetMode="External"/><Relationship Id="rId4" Type="http://schemas.openxmlformats.org/officeDocument/2006/relationships/hyperlink" Target="http://upload.wikimedia.org/wikipedia/commons/7/74/Alexander_II_of_Russia_%28Nikolay_Lavrov_01%29.jpg" TargetMode="External"/><Relationship Id="rId5" Type="http://schemas.openxmlformats.org/officeDocument/2006/relationships/hyperlink" Target="http://www.art.ioso.ru/wiki/images/&#1040;&#1083;&#1077;&#1082;&#1089;&#1072;&#1085;&#1076;&#1088;_1.jpg" TargetMode="External"/><Relationship Id="rId6" Type="http://schemas.openxmlformats.org/officeDocument/2006/relationships/hyperlink" Target="http://tamara-she.narod.ru/people19/imp_N1.html" TargetMode="External"/><Relationship Id="rId7" Type="http://schemas.openxmlformats.org/officeDocument/2006/relationships/hyperlink" Target="http://www.nemiga.info/peterburg/peterburg/nikolai-1.htm" TargetMode="External"/><Relationship Id="rId8" Type="http://schemas.openxmlformats.org/officeDocument/2006/relationships/hyperlink" Target="http://www.ic-xc-nika.ru/ikons/saint/tzar_nikolai_ii/009.html" TargetMode="External"/><Relationship Id="rId9" Type="http://schemas.openxmlformats.org/officeDocument/2006/relationships/hyperlink" Target="http://www.hrono.ru/biograf/bio_n/nikolai2a.php" TargetMode="External"/><Relationship Id="rId10" Type="http://schemas.openxmlformats.org/officeDocument/2006/relationships/hyperlink" Target="http://commons.wikimedia.org/wiki/File:Liberation_of_peasants_by_B.Kustodiev_(1907).jpg?uselang=ru" TargetMode="External"/><Relationship Id="rId11" Type="http://schemas.openxmlformats.org/officeDocument/2006/relationships/hyperlink" Target="http://upload.wikimedia.org/wikipedia/commons/9/9e/Palen_P_A.jpg?uselang=ru" TargetMode="External"/><Relationship Id="rId12" Type="http://schemas.openxmlformats.org/officeDocument/2006/relationships/hyperlink" Target="http://upload.wikimedia.org/wikipedia/commons/3/3d/Platon_Zubov2.jpg?uselang=ru" TargetMode="External"/><Relationship Id="rId13" Type="http://schemas.openxmlformats.org/officeDocument/2006/relationships/hyperlink" Target="http://upload.wikimedia.org/wikipedia/commons/6/60/Stroganov_P_A.jpg" TargetMode="External"/><Relationship Id="rId14" Type="http://schemas.openxmlformats.org/officeDocument/2006/relationships/hyperlink" Target="http://commons.wikimedia.org/wiki/File:Kochubey_Viktor_Pavlovich.jpg?uselang=ru" TargetMode="External"/><Relationship Id="rId15" Type="http://schemas.openxmlformats.org/officeDocument/2006/relationships/hyperlink" Target="http://commons.wikimedia.org/wiki/File:Nikolay_Nikolayevich_Novosiltsev.jpg?uselang=ru" TargetMode="External"/><Relationship Id="rId16" Type="http://schemas.openxmlformats.org/officeDocument/2006/relationships/hyperlink" Target="http://senat.org/Germany/Portrait-2.html" TargetMode="External"/><Relationship Id="rId17" Type="http://schemas.openxmlformats.org/officeDocument/2006/relationships/hyperlink" Target="http://www.google.ru/imgres?imgurl=http://rusliberal.ru/images/golovnin.jpg&amp;imgrefurl=http://rusliberal.ru/golovnin.php&amp;usg=__-2amfIs2C65zDoqQESQSZN7krKE=&amp;h=913&amp;w=800&amp;sz=173&amp;hl=ru&amp;start=1&amp;zoom=1&amp;tbnid=F4KOnmYzd-uJxM:&amp;tbnh=147&amp;tbnw=129&amp;ei=3fdeUe3lBoiitAbl-4CQAg&amp;itbs=1&amp;sa=X&amp;ved=0CCwQrQMwAA" TargetMode="External"/><Relationship Id="rId18" Type="http://schemas.openxmlformats.org/officeDocument/2006/relationships/hyperlink" Target="http://upload.wikimedia.org/wikipedia/commons/1/16/Milutin_Dmitry_Alexeevich.jpg?uselang=ru" TargetMode="External"/><Relationship Id="rId19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1280" y="395280"/>
            <a:ext cx="49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Александра I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801 — 182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59640" y="71280"/>
            <a:ext cx="3017880" cy="3816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4560" y="1763640"/>
            <a:ext cx="597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	</a:t>
            </a:r>
            <a:r>
              <a:rPr b="1" i="1" lang="ru-RU" sz="1800" spc="-1" strike="noStrike">
                <a:solidFill>
                  <a:srgbClr val="b80047"/>
                </a:solidFill>
                <a:latin typeface="Segoe Print"/>
              </a:rPr>
              <a:t>Начало правления характеризуется  возвращением к преобразовательной деятельности Екатерины Вели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03640" y="5075280"/>
            <a:ext cx="3095280" cy="1008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НЕГЛАСНЫЙ 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Неофици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овещательны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08000" y="4032360"/>
            <a:ext cx="1933560" cy="2220840"/>
            <a:chOff x="108000" y="4032360"/>
            <a:chExt cx="1933560" cy="222084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44360" y="4319640"/>
              <a:ext cx="16448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08000" y="4032360"/>
              <a:ext cx="19335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Segoe Print"/>
                </a:rPr>
                <a:t>А. Чарторый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975280" y="4032360"/>
            <a:ext cx="1644840" cy="2220840"/>
            <a:chOff x="5975280" y="4032360"/>
            <a:chExt cx="1644840" cy="222084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975280" y="4319640"/>
              <a:ext cx="15717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048360" y="4032360"/>
              <a:ext cx="15717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Segoe Print"/>
                </a:rPr>
                <a:t>В.П. Кочуб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995640" y="2619360"/>
            <a:ext cx="1933560" cy="2228760"/>
            <a:chOff x="3995640" y="2619360"/>
            <a:chExt cx="1933560" cy="222876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4103640" y="2879640"/>
              <a:ext cx="164484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995640" y="2619360"/>
              <a:ext cx="1933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Segoe Print"/>
                </a:rPr>
                <a:t>Н.Н. Новосильце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871640" y="2619360"/>
            <a:ext cx="1933560" cy="2301840"/>
            <a:chOff x="1871640" y="2619360"/>
            <a:chExt cx="1933560" cy="2301840"/>
          </a:xfrm>
        </p:grpSpPr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2016000" y="2916360"/>
              <a:ext cx="157320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871640" y="2619360"/>
              <a:ext cx="1933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Segoe Print"/>
                </a:rPr>
                <a:t>П. А. Строган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1280" y="395280"/>
            <a:ext cx="49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Николая II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894 — 191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264360" y="96840"/>
            <a:ext cx="3484440" cy="4330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44720" y="1547640"/>
            <a:ext cx="4535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Последний российский импер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4427640"/>
            <a:ext cx="2952720" cy="1295280"/>
          </a:xfrm>
          <a:prstGeom prst="flowChartPunchedTap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ас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волюционного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6360" y="1871640"/>
            <a:ext cx="2879640" cy="1295280"/>
          </a:xfrm>
          <a:prstGeom prst="flowChartPunchedTap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32000" y="3060720"/>
            <a:ext cx="2879640" cy="1295280"/>
          </a:xfrm>
          <a:prstGeom prst="flowChartPunchedTap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рсоци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63440" y="4535640"/>
            <a:ext cx="2789280" cy="1800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443640" y="4486320"/>
            <a:ext cx="318312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dur="indefinite" fill="hold">
                      <p:stCondLst>
                        <p:cond delay="0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5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30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9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6000" y="71280"/>
            <a:ext cx="9072360" cy="360360"/>
          </a:xfrm>
          <a:prstGeom prst="flowChartTerminator">
            <a:avLst/>
          </a:prstGeom>
          <a:gradFill rotWithShape="0">
            <a:gsLst>
              <a:gs pos="0">
                <a:srgbClr val="ffffff"/>
              </a:gs>
              <a:gs pos="100000">
                <a:srgbClr val="ff0000">
                  <a:alpha val="7529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egoe Print"/>
              </a:rPr>
              <a:t>Особенности 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16720" y="487440"/>
            <a:ext cx="3600360" cy="563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1896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Заключение русско-китайского договора об оборонительном союзе против Японии и строительстве КВЖ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1898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Заключение русско-китайской конвенции об аренде Лаодунского полуострова с крепостью Порт-Арту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1899г и 19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аагские конферен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1904-19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усско-японская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1904-19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формление Тройственного согласия (Антанта) — военно-политического союза Великобритании, Франции и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4 апреля 19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нятие Урянхайского края (Тувы) под протекторат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1 августа 19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ъявление Германией войны России. Начало Первой мировой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6 августа 19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ъявление Австро-Венгрией войны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468360"/>
            <a:ext cx="5184720" cy="5732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895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Изобретение А.С. Поповым радиотелеграф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89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Всероссийская переписи насе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Принятие закона о нормировании рабочего врем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89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енежная реформа Витте С.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Введение новой монетной единицы — золотого руб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900-19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Экономический криз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9 января 19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Кровавое воскресенье. Начало первой русской револю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7 октября 1905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Манифест «Об усовершенствовании государственного порядка». Создание Государственной Ду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906-19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Столыпинская аграрная рефор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9 августа 19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Утверждение Николаем II закона о военно-полевых су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8 августа 19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Переименование Санкт-Петербурга в Петрогр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1907-19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Русские сезоны в Париже и Лонд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27 февраля 19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Февральская революция. Свержение самодержавия в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0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2" dur="5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454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03280" y="431640"/>
            <a:ext cx="835164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80099"/>
                </a:solidFill>
                <a:latin typeface="Segoe Print"/>
              </a:rPr>
              <a:t>9  марта 19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80099"/>
                </a:solidFill>
                <a:latin typeface="Segoe Print"/>
              </a:rPr>
              <a:t>Временное правительство арестовало всю семью Романовых и отравила в Царское с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80099"/>
                </a:solidFill>
                <a:latin typeface="Segoe Print"/>
              </a:rPr>
              <a:t>В августе их перевозят в Тобольск, а в апреле 1918 г. в последнее место назначения – Екатерин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80099"/>
                </a:solidFill>
                <a:latin typeface="Segoe Print"/>
              </a:rPr>
              <a:t>В ночь с 16 на 17 июля Романовых отвели в подвальное помещение, зачитали смертный приговор и произвели расстр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8000" y="2448000"/>
            <a:ext cx="2771640" cy="3824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384720" y="4248000"/>
            <a:ext cx="4284360" cy="2019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286760" y="224316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95640" y="2879640"/>
            <a:ext cx="3887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egoe Print"/>
              </a:rPr>
              <a:t>Династия Романовых правила страной 30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dur="indefinite" fill="hold">
                      <p:stCondLst>
                        <p:cond delay="0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6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3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47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3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5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03280" y="590400"/>
            <a:ext cx="84232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спользуемая литература и интернет-ресурсы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ко М.И. История без шпаргалки. Учебное пособие по истории России. - М.: Материк-Альфа, 2005.с.3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hrono.ru/biograf/bio_a/alexey_mih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zapolni-probel.ru/hystoryrus/russia1819/107-ekaterina-ii-kratk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histerl.ru/otechestvennaia_istoria/kratko/vnutrennia_politika_ekaterini_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historynotes.ru/imperator-nikolay-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russkie-tsari.ru/index.php/nikolaj-ii-aleksandrovich-1894-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6"/>
              </a:rPr>
              <a:t>http://istoriyadrevnegomira.ru/pravlenie-nikolaya-ii-fevralskaya-revolyuciy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7"/>
              </a:rPr>
              <a:t>http://csso-dsmpto.livejournal.com/16514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8"/>
              </a:rPr>
              <a:t>http://www.online812.ru/2013/02/05/00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9"/>
              </a:rPr>
              <a:t>http://smi2.ru/Gehirn/c29150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0"/>
              </a:rPr>
              <a:t>http://upload.wikimedia.org/wikipedia/commons/5/58/Michael_titularnik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1"/>
              </a:rPr>
              <a:t>http://nesterovich1.livejournal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2"/>
              </a:rPr>
              <a:t>http://fullimg.ucrazy.ru/1361190111/1361187259_4-petr-i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3"/>
              </a:rPr>
              <a:t>http://fullimg.ucrazy.ru/1361190111/1361187259_5-ekaterina-i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4"/>
              </a:rPr>
              <a:t>http://fullimg.ucrazy.ru/1361190111/1361187292_8-ioann-vi-antonovich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5"/>
              </a:rPr>
              <a:t>http://ucrazy.ru/interesting/1361190111-imperatory-rossiyskoy-imperi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6"/>
              </a:rPr>
              <a:t>http://aminpro.narod.ru/kreml_G_002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7"/>
              </a:rPr>
              <a:t>http://www.newparadigma.ru/engines/npforum/read.aspx?m=259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8"/>
              </a:rPr>
              <a:t>http://upload.wikimedia.org/wikipedia/commons/4/43/Ivan_V_kremli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9"/>
              </a:rPr>
              <a:t>http://ru.wikipedia.org/wiki/%D0%A4%D0%B0%D0%B9%D0%BB:Feodor_III_by_Ivan_Saltanov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20"/>
              </a:rPr>
              <a:t>http://pro100-mica.livejournal.com/75871.html?thread=17414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21"/>
              </a:rPr>
              <a:t>http://t3.gstatic.com/images?q=tbn:ANd9GcSKFrKOetoN3BFP_RvWhEHRpgQK5P0T8ebPtA9r_a6p6vhLCJVQ&amp;t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22"/>
              </a:rPr>
              <a:t>http://aminpro.narod.ru/strana_004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23"/>
              </a:rPr>
              <a:t>http://www.glavagosudarstva.ru/index.php?option=com_content&amp;view=article&amp;id=61&amp;Itemid=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24"/>
              </a:rPr>
              <a:t>http://www.calend.ru/person/545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25"/>
              </a:rPr>
              <a:t>http://dokonline.com/dokumentalnie-filmi/11933-ekaterina-velikaya-bbc-catherine-the-great-20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26"/>
              </a:rPr>
              <a:t>http://emperfavour.narod.ru/ekaterina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03280" y="590400"/>
            <a:ext cx="84232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спользуемая литература и интернет-ресурс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"/>
              </a:rPr>
              <a:t>http://www.golden-ship.ru/publ/cari_gosudarstva_rossijskogo/elisaveta_petrovna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2"/>
              </a:rPr>
              <a:t>http://letopis.msu.ru/peoples/2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3"/>
              </a:rPr>
              <a:t>http://srn.rusidea.org/?a=10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upload.wikimedia.org/wikipedia/commons/7/74/Alexander_II_of_Russia_%28Nikolay_Lavrov_01%2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art.ioso.ru/wiki/images/%D0%90%D0%BB%D0%B5%D0%BA%D1%81%D0%B0%D0%BD%D0%B4%D1%80_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tamara-she.narod.ru/people19/imp_N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www.nemiga.info/peterburg/peterburg/nikolai-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8"/>
              </a:rPr>
              <a:t>http://www.ic-xc-nika.ru/ikons/saint/tzar_nikolai_ii/00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9"/>
              </a:rPr>
              <a:t>http://www.hrono.ru/biograf/bio_n/nikolai2a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0"/>
              </a:rPr>
              <a:t>http://commons.wikimedia.org/wiki/File:Liberation_of_peasants_by_B.Kustodiev_(1907).jpg?uselang=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1"/>
              </a:rPr>
              <a:t>http://upload.wikimedia.org/wikipedia/commons/9/9e/Palen_P_A.jpg?uselang=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2"/>
              </a:rPr>
              <a:t>http://upload.wikimedia.org/wikipedia/commons/3/3d/Platon_Zubov2.jpg?uselang=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3"/>
              </a:rPr>
              <a:t>http://upload.wikimedia.org/wikipedia/commons/6/60/Stroganov_P_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4"/>
              </a:rPr>
              <a:t>http://commons.wikimedia.org/wiki/File:Kochubey_Viktor_Pavlovich.jpg?uselang=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5"/>
              </a:rPr>
              <a:t>http://commons.wikimedia.org/wiki/File:Nikolay_Nikolayevich_Novosiltsev.jpg?uselang=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6"/>
              </a:rPr>
              <a:t>http://senat.org/Germany/Portrait-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7"/>
              </a:rPr>
              <a:t>http://www.google.ru/imgres?imgurl=http://rusliberal.ru/images/golovnin.jpg&amp;imgrefurl=http://rusliberal.ru/golovnin.php&amp;usg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8"/>
              </a:rPr>
              <a:t>http://upload.wikimedia.org/wikipedia/commons/1/16/Milutin_Dmitry_Alexeevich.jpg?uselang=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01600" y="71280"/>
            <a:ext cx="562140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ТОГИ  ПРАВЛЕНИ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80000" y="536400"/>
            <a:ext cx="1952640" cy="23432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1400" y="503280"/>
            <a:ext cx="3373200" cy="5389560"/>
            <a:chOff x="41400" y="503280"/>
            <a:chExt cx="3373200" cy="5389560"/>
          </a:xfrm>
        </p:grpSpPr>
        <p:sp>
          <p:nvSpPr>
            <p:cNvPr id="99" name=""/>
            <p:cNvSpPr/>
            <p:nvPr/>
          </p:nvSpPr>
          <p:spPr>
            <a:xfrm>
              <a:off x="41400" y="503280"/>
              <a:ext cx="3373200" cy="5389560"/>
            </a:xfrm>
            <a:prstGeom prst="downArrowCallout">
              <a:avLst>
                <a:gd name="adj1" fmla="val 25002"/>
                <a:gd name="adj2" fmla="val 25000"/>
                <a:gd name="adj3" fmla="val 26629"/>
                <a:gd name="adj4" fmla="val 6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680" y="611280"/>
              <a:ext cx="3300480" cy="34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02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Учреждение министерст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0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Указ о «вольных хлебопашцах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Цензурный уста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Университетский уста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Создание Государственного совет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5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Конституция царства Польског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6 — 1819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Отмена крепостного права для прибалтийских крестья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940360" y="468360"/>
            <a:ext cx="3481560" cy="5532480"/>
            <a:chOff x="5940360" y="468360"/>
            <a:chExt cx="3481560" cy="5532480"/>
          </a:xfrm>
        </p:grpSpPr>
        <p:sp>
          <p:nvSpPr>
            <p:cNvPr id="102" name=""/>
            <p:cNvSpPr/>
            <p:nvPr/>
          </p:nvSpPr>
          <p:spPr>
            <a:xfrm>
              <a:off x="6012000" y="468360"/>
              <a:ext cx="3348000" cy="5532480"/>
            </a:xfrm>
            <a:prstGeom prst="downArrowCallout">
              <a:avLst>
                <a:gd name="adj1" fmla="val 25002"/>
                <a:gd name="adj2" fmla="val 25000"/>
                <a:gd name="adj3" fmla="val 27541"/>
                <a:gd name="adj4" fmla="val 6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0360" y="503280"/>
              <a:ext cx="3481560" cy="36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5 — 1825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Georgia"/>
                </a:rPr>
                <a:t>Аракчеевщи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6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создание военных посе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8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роект отмены крепостного пра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(А. А. Аракчее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роект Н.Н. Новосильцева 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Конституции для Росс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Создание военной полиции, усиление цензуры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2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Запрещение в России тайных обществ и масонских ло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 txBox="1"/>
          <p:nvPr/>
        </p:nvSpPr>
        <p:spPr>
          <a:xfrm>
            <a:off x="41400" y="5519880"/>
            <a:ext cx="966924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6e6ff"/>
                    </a:gs>
                  </a:gsLst>
                  <a:lin ang="2700000"/>
                </a:gradFill>
                <a:latin typeface="Arial Black"/>
              </a:rPr>
              <a:t>Россия отстояла независимост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e6e6ff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08000" y="2916000"/>
            <a:ext cx="7969320" cy="1741680"/>
            <a:chOff x="1008000" y="2916000"/>
            <a:chExt cx="7969320" cy="1741680"/>
          </a:xfrm>
        </p:grpSpPr>
        <p:sp>
          <p:nvSpPr>
            <p:cNvPr id="106" name=""/>
            <p:cNvSpPr/>
            <p:nvPr/>
          </p:nvSpPr>
          <p:spPr>
            <a:xfrm flipV="1">
              <a:off x="3492360" y="2915640"/>
              <a:ext cx="2508480" cy="99684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85" y="69"/>
                  </a:moveTo>
                  <a:cubicBezTo>
                    <a:pt x="85" y="55"/>
                    <a:pt x="97" y="44"/>
                    <a:pt x="111" y="44"/>
                  </a:cubicBezTo>
                  <a:cubicBezTo>
                    <a:pt x="111" y="61"/>
                    <a:pt x="111" y="61"/>
                    <a:pt x="111" y="61"/>
                  </a:cubicBezTo>
                  <a:cubicBezTo>
                    <a:pt x="144" y="30"/>
                    <a:pt x="144" y="30"/>
                    <a:pt x="144" y="30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95" y="17"/>
                    <a:pt x="81" y="24"/>
                    <a:pt x="71" y="35"/>
                  </a:cubicBezTo>
                  <a:cubicBezTo>
                    <a:pt x="62" y="25"/>
                    <a:pt x="48" y="18"/>
                    <a:pt x="32" y="18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44"/>
                    <a:pt x="32" y="44"/>
                    <a:pt x="32" y="44"/>
                  </a:cubicBezTo>
                  <a:cubicBezTo>
                    <a:pt x="46" y="44"/>
                    <a:pt x="58" y="55"/>
                    <a:pt x="58" y="69"/>
                  </a:cubicBezTo>
                  <a:cubicBezTo>
                    <a:pt x="58" y="122"/>
                    <a:pt x="58" y="122"/>
                    <a:pt x="58" y="122"/>
                  </a:cubicBezTo>
                  <a:cubicBezTo>
                    <a:pt x="58" y="122"/>
                    <a:pt x="58" y="122"/>
                    <a:pt x="58" y="122"/>
                  </a:cubicBezTo>
                  <a:cubicBezTo>
                    <a:pt x="85" y="122"/>
                    <a:pt x="85" y="122"/>
                    <a:pt x="85" y="122"/>
                  </a:cubicBezTo>
                  <a:cubicBezTo>
                    <a:pt x="85" y="122"/>
                    <a:pt x="85" y="122"/>
                    <a:pt x="85" y="122"/>
                  </a:cubicBezTo>
                  <a:lnTo>
                    <a:pt x="85" y="69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08000" y="4068720"/>
              <a:ext cx="1789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000080"/>
                  </a:solidFill>
                  <a:latin typeface="Segoe Print"/>
                </a:rPr>
                <a:t>Либеральные рефор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6000" y="4043520"/>
              <a:ext cx="2281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80"/>
                  </a:solidFill>
                  <a:latin typeface="Segoe Print"/>
                </a:rPr>
                <a:t>Консерватив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80"/>
                  </a:solidFill>
                  <a:latin typeface="Segoe Print"/>
                </a:rPr>
                <a:t>рефор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24360" y="3608280"/>
            <a:ext cx="345564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1812 г.</a:t>
            </a: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Победа России в войне с Наполе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1813 — 18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Заграничные походы русской ар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14 декабря 18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Восстание декабристов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833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833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27000"/>
                            </p:stCondLst>
                            <p:childTnLst>
                              <p:par>
                                <p:cTn id="8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30000"/>
                            </p:stCondLst>
                            <p:childTnLst>
                              <p:par>
                                <p:cTn id="9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9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01600" y="71280"/>
            <a:ext cx="562140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ТОГИ  ПРАВЛЕНИ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80000" y="536400"/>
            <a:ext cx="1952640" cy="23432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1400" y="503280"/>
            <a:ext cx="3373200" cy="5389560"/>
            <a:chOff x="41400" y="503280"/>
            <a:chExt cx="3373200" cy="5389560"/>
          </a:xfrm>
        </p:grpSpPr>
        <p:sp>
          <p:nvSpPr>
            <p:cNvPr id="113" name=""/>
            <p:cNvSpPr/>
            <p:nvPr/>
          </p:nvSpPr>
          <p:spPr>
            <a:xfrm>
              <a:off x="41400" y="503280"/>
              <a:ext cx="3373200" cy="5389560"/>
            </a:xfrm>
            <a:prstGeom prst="downArrowCallout">
              <a:avLst>
                <a:gd name="adj1" fmla="val 25002"/>
                <a:gd name="adj2" fmla="val 25000"/>
                <a:gd name="adj3" fmla="val 26629"/>
                <a:gd name="adj4" fmla="val 6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2680" y="611280"/>
              <a:ext cx="3300480" cy="34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02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Учреждение министерст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0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Указ о «вольных хлебопашцах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Цензурный уста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Университетский уста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Создание Государственного совет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5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Конституция царства Польског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6 — 1819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Отмена крепостного права для прибалтийских крестья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40360" y="468360"/>
            <a:ext cx="3481560" cy="5532480"/>
            <a:chOff x="5940360" y="468360"/>
            <a:chExt cx="3481560" cy="5532480"/>
          </a:xfrm>
        </p:grpSpPr>
        <p:sp>
          <p:nvSpPr>
            <p:cNvPr id="116" name=""/>
            <p:cNvSpPr/>
            <p:nvPr/>
          </p:nvSpPr>
          <p:spPr>
            <a:xfrm>
              <a:off x="6012000" y="468360"/>
              <a:ext cx="3348000" cy="5532480"/>
            </a:xfrm>
            <a:prstGeom prst="downArrowCallout">
              <a:avLst>
                <a:gd name="adj1" fmla="val 25002"/>
                <a:gd name="adj2" fmla="val 25000"/>
                <a:gd name="adj3" fmla="val 27541"/>
                <a:gd name="adj4" fmla="val 6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0360" y="503280"/>
              <a:ext cx="3481560" cy="36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5 — 1825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Georgia"/>
                </a:rPr>
                <a:t>Аракчеевщи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6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создание военных посе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8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роект отмены крепостного пра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(А. А. Аракчее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1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Проект Н.Н. Новосильцева 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Конституции для Росс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Создание военной полиции, усиление цензуры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Georgia"/>
                </a:rPr>
                <a:t>182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Georgia"/>
                </a:rPr>
                <a:t>Запрещение в России тайных обществ и масонских ло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41400" y="5519880"/>
            <a:ext cx="966924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6e6ff"/>
                    </a:gs>
                  </a:gsLst>
                  <a:lin ang="2700000"/>
                </a:gradFill>
                <a:latin typeface="Arial Black"/>
              </a:rPr>
              <a:t>Россия отстояла независимост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e6e6ff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08000" y="2916000"/>
            <a:ext cx="7969320" cy="1741680"/>
            <a:chOff x="1008000" y="2916000"/>
            <a:chExt cx="7969320" cy="1741680"/>
          </a:xfrm>
        </p:grpSpPr>
        <p:sp>
          <p:nvSpPr>
            <p:cNvPr id="120" name=""/>
            <p:cNvSpPr/>
            <p:nvPr/>
          </p:nvSpPr>
          <p:spPr>
            <a:xfrm flipV="1">
              <a:off x="3492360" y="2915640"/>
              <a:ext cx="2508480" cy="99684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85" y="69"/>
                  </a:moveTo>
                  <a:cubicBezTo>
                    <a:pt x="85" y="55"/>
                    <a:pt x="97" y="44"/>
                    <a:pt x="111" y="44"/>
                  </a:cubicBezTo>
                  <a:cubicBezTo>
                    <a:pt x="111" y="61"/>
                    <a:pt x="111" y="61"/>
                    <a:pt x="111" y="61"/>
                  </a:cubicBezTo>
                  <a:cubicBezTo>
                    <a:pt x="144" y="30"/>
                    <a:pt x="144" y="30"/>
                    <a:pt x="144" y="30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95" y="17"/>
                    <a:pt x="81" y="24"/>
                    <a:pt x="71" y="35"/>
                  </a:cubicBezTo>
                  <a:cubicBezTo>
                    <a:pt x="62" y="25"/>
                    <a:pt x="48" y="18"/>
                    <a:pt x="32" y="18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44"/>
                    <a:pt x="32" y="44"/>
                    <a:pt x="32" y="44"/>
                  </a:cubicBezTo>
                  <a:cubicBezTo>
                    <a:pt x="46" y="44"/>
                    <a:pt x="58" y="55"/>
                    <a:pt x="58" y="69"/>
                  </a:cubicBezTo>
                  <a:cubicBezTo>
                    <a:pt x="58" y="122"/>
                    <a:pt x="58" y="122"/>
                    <a:pt x="58" y="122"/>
                  </a:cubicBezTo>
                  <a:cubicBezTo>
                    <a:pt x="58" y="122"/>
                    <a:pt x="58" y="122"/>
                    <a:pt x="58" y="122"/>
                  </a:cubicBezTo>
                  <a:cubicBezTo>
                    <a:pt x="85" y="122"/>
                    <a:pt x="85" y="122"/>
                    <a:pt x="85" y="122"/>
                  </a:cubicBezTo>
                  <a:cubicBezTo>
                    <a:pt x="85" y="122"/>
                    <a:pt x="85" y="122"/>
                    <a:pt x="85" y="122"/>
                  </a:cubicBezTo>
                  <a:lnTo>
                    <a:pt x="85" y="69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08000" y="4068720"/>
              <a:ext cx="1789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000080"/>
                  </a:solidFill>
                  <a:latin typeface="Segoe Print"/>
                </a:rPr>
                <a:t>Либеральные рефор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96000" y="4043520"/>
              <a:ext cx="2281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80"/>
                  </a:solidFill>
                  <a:latin typeface="Segoe Print"/>
                </a:rPr>
                <a:t>Консерватив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80"/>
                  </a:solidFill>
                  <a:latin typeface="Segoe Print"/>
                </a:rPr>
                <a:t>рефор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24360" y="3608280"/>
            <a:ext cx="345564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1812 г.</a:t>
            </a: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Победа России в войне с Наполе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1813 — 18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Заграничные походы русской ар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14 декабря 18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Segoe Print"/>
              </a:rPr>
              <a:t>Восстание декабристов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0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833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833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dur="indefinite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x+(cos(-2*pi*(1-$))*-#ppt_#ppt_#ppt_#ppt_#ppt_#ppt_x-sin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x+(cos(-2*pi*(1-$))*-#ppt_#ppt_#ppt_#ppt_#ppt_#ppt_x-sin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y+(sin(-2*pi*(1-$))*-#ppt_#ppt_#ppt_#ppt_#ppt_#ppt_x+cos(-2*pi*(1-$))*(1-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y+(sin(-2*pi*(1-$))*-#ppt_#ppt_#ppt_#ppt_#ppt_#ppt_x+cos(-2*pi*(1-$))*(1-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6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280" y="395280"/>
            <a:ext cx="49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Николая I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825 — 185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80000" y="79200"/>
            <a:ext cx="3168720" cy="427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20720" y="1619280"/>
            <a:ext cx="53276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1" i="1" lang="ru-RU" sz="1800" spc="-1" strike="noStrike">
                <a:solidFill>
                  <a:srgbClr val="99284c"/>
                </a:solidFill>
                <a:latin typeface="Segoe Print"/>
              </a:rPr>
              <a:t>Огромное влияние на политику оказало восстание декабристов  в разгар которого Николай I вступил на Российский пре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7280" y="2735280"/>
            <a:ext cx="2257560" cy="2365200"/>
            <a:chOff x="287280" y="2735280"/>
            <a:chExt cx="2257560" cy="2365200"/>
          </a:xfrm>
        </p:grpSpPr>
        <p:sp>
          <p:nvSpPr>
            <p:cNvPr id="128" name=""/>
            <p:cNvSpPr/>
            <p:nvPr/>
          </p:nvSpPr>
          <p:spPr>
            <a:xfrm>
              <a:off x="287280" y="2735280"/>
              <a:ext cx="2076480" cy="2365200"/>
            </a:xfrm>
            <a:prstGeom prst="flowChartMultidocumen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ffffff">
                    <a:alpha val="30196"/>
                  </a:srgbClr>
                </a:gs>
              </a:gsLst>
              <a:lin ang="27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0360" y="3191040"/>
              <a:ext cx="21844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Бюрократизация всей системы управ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Процессы над декабристам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735280" y="3132000"/>
            <a:ext cx="2508120" cy="1968480"/>
            <a:chOff x="2735280" y="3132000"/>
            <a:chExt cx="2508120" cy="1968480"/>
          </a:xfrm>
        </p:grpSpPr>
        <p:sp>
          <p:nvSpPr>
            <p:cNvPr id="131" name=""/>
            <p:cNvSpPr/>
            <p:nvPr/>
          </p:nvSpPr>
          <p:spPr>
            <a:xfrm>
              <a:off x="2735280" y="3132000"/>
              <a:ext cx="2003400" cy="1968480"/>
            </a:xfrm>
            <a:prstGeom prst="flowChartMultidocumen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ffffff">
                    <a:alpha val="30196"/>
                  </a:srgbClr>
                </a:gs>
              </a:gsLst>
              <a:lin ang="27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1640" y="3419640"/>
              <a:ext cx="247176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Сосредото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Всех нитей управления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Рук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императ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307280" y="4319640"/>
            <a:ext cx="2004840" cy="2004840"/>
            <a:chOff x="7307280" y="4319640"/>
            <a:chExt cx="2004840" cy="2004840"/>
          </a:xfrm>
        </p:grpSpPr>
        <p:sp>
          <p:nvSpPr>
            <p:cNvPr id="134" name=""/>
            <p:cNvSpPr/>
            <p:nvPr/>
          </p:nvSpPr>
          <p:spPr>
            <a:xfrm>
              <a:off x="7307280" y="4319640"/>
              <a:ext cx="2004840" cy="2004840"/>
            </a:xfrm>
            <a:prstGeom prst="flowChartMultidocumen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ffffff">
                    <a:alpha val="30196"/>
                  </a:srgbClr>
                </a:gs>
              </a:gsLst>
              <a:lin ang="27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15280" y="4896000"/>
              <a:ext cx="189684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Организация государства по военно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образц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967280" y="3816360"/>
            <a:ext cx="2473200" cy="1968480"/>
            <a:chOff x="4967280" y="3816360"/>
            <a:chExt cx="2473200" cy="1968480"/>
          </a:xfrm>
        </p:grpSpPr>
        <p:sp>
          <p:nvSpPr>
            <p:cNvPr id="137" name=""/>
            <p:cNvSpPr/>
            <p:nvPr/>
          </p:nvSpPr>
          <p:spPr>
            <a:xfrm>
              <a:off x="4967280" y="3816360"/>
              <a:ext cx="2005200" cy="1968480"/>
            </a:xfrm>
            <a:prstGeom prst="flowChartMultidocumen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ffffff">
                    <a:alpha val="30196"/>
                  </a:srgbClr>
                </a:gs>
              </a:gsLst>
              <a:lin ang="27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67280" y="4427640"/>
              <a:ext cx="24732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Мелочная регламентация всех сторо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Georgia"/>
                </a:rPr>
                <a:t>жиз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87280" y="5184720"/>
            <a:ext cx="504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НЕДОПУСТИТЬ 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Segoe Print"/>
              </a:rPr>
              <a:t>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0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833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dur="indefinite" fill="hold">
                            <p:stCondLst>
                              <p:cond delay="2220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fill="hold">
                            <p:stCondLst>
                              <p:cond delay="242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588000" y="119160"/>
            <a:ext cx="3063960" cy="416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96920" y="69840"/>
            <a:ext cx="562140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ТОГИ  ПРАВЛЕНИ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647640"/>
            <a:ext cx="5688000" cy="576360"/>
          </a:xfrm>
          <a:prstGeom prst="roundRect">
            <a:avLst>
              <a:gd name="adj" fmla="val 27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 Black"/>
              </a:rPr>
              <a:t>ВНУТРЕННЯЯ ПОЛИ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456000"/>
            <a:ext cx="5724360" cy="576360"/>
          </a:xfrm>
          <a:prstGeom prst="roundRect">
            <a:avLst>
              <a:gd name="adj" fmla="val 27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 Black"/>
              </a:rPr>
              <a:t>ВНЕШНЯЯ ПОЛИ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2720" y="1224000"/>
            <a:ext cx="1655640" cy="2232000"/>
          </a:xfrm>
          <a:prstGeom prst="flowChartOffpageConnector">
            <a:avLst/>
          </a:prstGeom>
          <a:solidFill>
            <a:srgbClr val="c0c0c0">
              <a:alpha val="35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837 — 184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рефор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Государств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крестья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(П. Д. Киселё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8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Указ об обяз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крестья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82920" y="1220760"/>
            <a:ext cx="1900080" cy="2298600"/>
            <a:chOff x="2482920" y="1220760"/>
            <a:chExt cx="1900080" cy="2298600"/>
          </a:xfrm>
        </p:grpSpPr>
        <p:sp>
          <p:nvSpPr>
            <p:cNvPr id="146" name=""/>
            <p:cNvSpPr/>
            <p:nvPr/>
          </p:nvSpPr>
          <p:spPr>
            <a:xfrm>
              <a:off x="2592360" y="1224000"/>
              <a:ext cx="1644840" cy="2220840"/>
            </a:xfrm>
            <a:prstGeom prst="flowChartOffpageConnector">
              <a:avLst/>
            </a:prstGeom>
            <a:solidFill>
              <a:srgbClr val="c0c0c0">
                <a:alpha val="35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82920" y="1220760"/>
              <a:ext cx="1900080" cy="22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Georgia"/>
                </a:rPr>
                <a:t>182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Создание II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Отделения Канцеляр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(А. Х. Бенкендорф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Georgia"/>
                </a:rPr>
                <a:t>18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Введение «Чугунного устав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643280" y="1224000"/>
            <a:ext cx="1721160" cy="2220840"/>
            <a:chOff x="4643280" y="1224000"/>
            <a:chExt cx="1721160" cy="2220840"/>
          </a:xfrm>
        </p:grpSpPr>
        <p:sp>
          <p:nvSpPr>
            <p:cNvPr id="149" name=""/>
            <p:cNvSpPr/>
            <p:nvPr/>
          </p:nvSpPr>
          <p:spPr>
            <a:xfrm>
              <a:off x="4643280" y="1224000"/>
              <a:ext cx="1644840" cy="2220840"/>
            </a:xfrm>
            <a:prstGeom prst="flowChartOffpageConnector">
              <a:avLst/>
            </a:prstGeom>
            <a:solidFill>
              <a:srgbClr val="c0c0c0">
                <a:alpha val="35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3280" y="1224000"/>
              <a:ext cx="172116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Georgia"/>
                </a:rPr>
                <a:t>18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Полное собрание и свод законов Российской импер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Georgia"/>
                </a:rPr>
                <a:t>1839 — 184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Денежная ре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Georgia"/>
                </a:rPr>
                <a:t>(Е. Ф.Канкри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4360" y="4032360"/>
            <a:ext cx="5724360" cy="360360"/>
          </a:xfrm>
          <a:prstGeom prst="roundRect">
            <a:avLst>
              <a:gd name="adj" fmla="val 440"/>
            </a:avLst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андарм Евро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4392720"/>
            <a:ext cx="1547640" cy="1511280"/>
          </a:xfrm>
          <a:prstGeom prst="flowChartOffpageConnector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830 — 183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Поль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восст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8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Венгер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восст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96000" y="4392720"/>
            <a:ext cx="1511280" cy="1511280"/>
          </a:xfrm>
          <a:prstGeom prst="flowChartOffpageConnector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853 — 1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рым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во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35280" y="4392720"/>
            <a:ext cx="1511280" cy="1511280"/>
          </a:xfrm>
          <a:prstGeom prst="flowChartOffpageConnector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828 — 182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Русско-турец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вой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1826 — 18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Русско-иран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вой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5543640"/>
            <a:ext cx="966960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Arial Black"/>
              </a:rPr>
              <a:t>Необходимость реформ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</p:spTree>
  </p:cSld>
  <p:transition spd="med">
    <p:strips dir="l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0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5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dur="indefinite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dur="indefinite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fill="hold">
                            <p:stCondLst>
                              <p:cond delay="35000"/>
                            </p:stCondLst>
                            <p:childTnLst>
                              <p:par>
                                <p:cTn id="27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30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76680" y="1008000"/>
            <a:ext cx="3990960" cy="2232000"/>
          </a:xfrm>
          <a:prstGeom prst="wedgeEllipseCallout">
            <a:avLst>
              <a:gd name="adj1" fmla="val 80611"/>
              <a:gd name="adj2" fmla="val 6115"/>
            </a:avLst>
          </a:prstGeom>
          <a:gradFill rotWithShape="0">
            <a:gsLst>
              <a:gs pos="0">
                <a:srgbClr val="b3b3b3"/>
              </a:gs>
              <a:gs pos="100000">
                <a:srgbClr val="e6e6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eorgia"/>
              </a:rPr>
              <a:t>«Лучше начать уничтожение крепостного права сверху, нежели ждать, когда оно начнет уничтожаться снизу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Из речи, произнесенной во время коронации в 1856 г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" y="395280"/>
            <a:ext cx="352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Александра II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855 — 188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624720" y="133200"/>
            <a:ext cx="2968560" cy="3538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360" y="1908000"/>
            <a:ext cx="2087640" cy="3095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45080" y="3600360"/>
            <a:ext cx="4464000" cy="2519280"/>
          </a:xfrm>
          <a:prstGeom prst="ellipse">
            <a:avLst/>
          </a:prstGeom>
          <a:gradFill rotWithShape="0">
            <a:gsLst>
              <a:gs pos="0">
                <a:srgbClr val="b3b3b3"/>
              </a:gs>
              <a:gs pos="100000">
                <a:srgbClr val="e6e6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80099"/>
                </a:solidFill>
                <a:latin typeface="Segoe Print"/>
              </a:rPr>
              <a:t>19 ФЕВРАЛЯ 1861 г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80099"/>
                </a:solidFill>
                <a:latin typeface="Segoe Print"/>
              </a:rPr>
              <a:t> </a:t>
            </a:r>
            <a:r>
              <a:rPr b="1" i="1" lang="ru-RU" sz="2200" spc="-1" strike="noStrike">
                <a:solidFill>
                  <a:srgbClr val="280099"/>
                </a:solidFill>
                <a:latin typeface="Segoe Print"/>
              </a:rPr>
              <a:t>манифес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80099"/>
                </a:solidFill>
                <a:latin typeface="Segoe Print"/>
              </a:rPr>
              <a:t>об освобождении крестья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80099"/>
                </a:solidFill>
                <a:latin typeface="Segoe Print"/>
              </a:rPr>
              <a:t>от крепо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80099"/>
                </a:solidFill>
                <a:latin typeface="Segoe Print"/>
              </a:rPr>
              <a:t>Зависим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368440" y="3816360"/>
            <a:ext cx="2886120" cy="2117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0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2360" y="504720"/>
            <a:ext cx="6407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80"/>
              </a:gs>
              <a:gs pos="100000">
                <a:srgbClr val="ffffff">
                  <a:alpha val="40000"/>
                </a:srgbClr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egoe Print"/>
              </a:rPr>
              <a:t>РЕФОРМЫ АЛЕКСАНДРА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1640" y="1368360"/>
            <a:ext cx="1872000" cy="10080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Земская  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Гор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1864, 187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54764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уд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22560" y="151272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о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18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" y="4967280"/>
            <a:ext cx="2016000" cy="11523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нар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1863 - 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2411280"/>
            <a:ext cx="2449800" cy="2129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ведение земского и городского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Решались вопросы образования, дорог, здравоохранения, хозяйственные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36720" y="2576520"/>
            <a:ext cx="2556000" cy="23511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Принятие н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военного уста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 января 1874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всеобщая воинская пови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мужчины с 20 л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Срок служб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6 л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в сухопутных войск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7 лет во фл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7080" y="2665440"/>
            <a:ext cx="2880000" cy="2467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Равенство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граждан перед зако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Несменяемость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судей и их 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независимость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Гласность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судопроизво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Состязательность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стор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Адвокатура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присяжных заседателей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Создана система быстрых и бесплатных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мировых судов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5329080"/>
            <a:ext cx="6840720" cy="69876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«Положение о начальных народных училищах» -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«Устав гимназий и прогимназий» - СРЕДНЯ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«Университетский устав» - ВЫСШАЯ ШКО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9640" y="71280"/>
            <a:ext cx="2087640" cy="2594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48720" y="2376360"/>
            <a:ext cx="1800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Segoe Print"/>
              </a:rPr>
              <a:t>Милютин Д. 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0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1280" y="547200"/>
            <a:ext cx="83012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СОБЕННОСТИ </a:t>
            </a: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НЕШНЕЙ ПОЛИТИК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03640" y="1116000"/>
            <a:ext cx="7056360" cy="2700360"/>
          </a:xfrm>
          <a:prstGeom prst="rightArrow">
            <a:avLst>
              <a:gd name="adj1" fmla="val 50000"/>
              <a:gd name="adj2" fmla="val 65328"/>
            </a:avLst>
          </a:prstGeom>
          <a:gradFill rotWithShape="0">
            <a:gsLst>
              <a:gs pos="0">
                <a:srgbClr val="ffff00"/>
              </a:gs>
              <a:gs pos="100000">
                <a:srgbClr val="800080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крепление международного автор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мена ограничений Парижского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1873 – 187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    Союз трех императоров» Россия, Германия, Австро-Венг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03640" y="3240000"/>
            <a:ext cx="5975280" cy="2664000"/>
          </a:xfrm>
          <a:prstGeom prst="rightArrow">
            <a:avLst>
              <a:gd name="adj1" fmla="val 50000"/>
              <a:gd name="adj2" fmla="val 56074"/>
            </a:avLst>
          </a:prstGeom>
          <a:gradFill rotWithShape="0">
            <a:gsLst>
              <a:gs pos="0">
                <a:srgbClr val="ffff00"/>
              </a:gs>
              <a:gs pos="100000">
                <a:srgbClr val="800080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77 — 187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-турец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Средней Азии к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а Аляски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1920" y="1677960"/>
            <a:ext cx="2239920" cy="3710160"/>
            <a:chOff x="61920" y="1677960"/>
            <a:chExt cx="2239920" cy="371016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61920" y="1677960"/>
              <a:ext cx="216216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19040" y="4668840"/>
              <a:ext cx="18828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Segoe Print"/>
                </a:rPr>
                <a:t>Горчаков А. М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Segoe Print"/>
                </a:rPr>
                <a:t>Министр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Segoe Print"/>
                </a:rPr>
                <a:t>иностранных де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0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1280" y="358920"/>
            <a:ext cx="49323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Правление 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Александра III</a:t>
            </a:r>
            <a:br>
              <a:rPr sz="2500"/>
            </a:br>
            <a:r>
              <a:rPr b="1" i="1" lang="ru-RU" sz="2500" spc="-1" strike="noStrike">
                <a:solidFill>
                  <a:srgbClr val="99284c"/>
                </a:solidFill>
                <a:latin typeface="DejaVu Sans"/>
                <a:ea typeface="Lucida Sans Unicode"/>
              </a:rPr>
              <a:t>(1881 — 189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48360" y="74520"/>
            <a:ext cx="3625920" cy="4316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-4680" y="5904000"/>
            <a:ext cx="96692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Arial Black"/>
              </a:rPr>
              <a:t>МОДЕРНИЗАЦИЯ ПРОМЫШЛЕННОСТ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216000" y="1554120"/>
            <a:ext cx="575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egoe Print"/>
              </a:rPr>
              <a:t>Вступил на престол после убийства своего отца 1 марта 1881 года. Отличительная черта — политика КОНТРРЕ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484360"/>
            <a:ext cx="5759640" cy="1656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Усиление политического ре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Ужесточение ценз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«Манифест о незыблемости самодержавия»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(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«Циркуляр о кухаркиных детях»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(18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84360" y="4356000"/>
            <a:ext cx="5759640" cy="1403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Царь — миротвор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кладывание военно-политических бл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оиск союз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dur="indefinite" fill="hold">
                      <p:stCondLst>
                        <p:cond delay="0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5:40:05Z</dcterms:created>
  <dc:creator/>
  <dc:description/>
  <dc:language>en-US</dc:language>
  <cp:lastModifiedBy>Венера</cp:lastModifiedBy>
  <dcterms:modified xsi:type="dcterms:W3CDTF">2013-04-01T16:20:18Z</dcterms:modified>
  <cp:revision>43</cp:revision>
  <dc:subject/>
  <dc:title>Слайд 1</dc:title>
</cp:coreProperties>
</file>