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B26-DCC3-4CC1-9151-5BE9879E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C60-B692-49CD-809B-BA1D277D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DCF-F690-474F-8F38-6BA7E4EF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B2E-3E55-4371-8DC8-64310429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EBC8-BB4D-4B76-8A73-C86069CC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25B6-1672-4C6E-ABA3-9D665405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30A6-A421-4DAA-9FB9-0C5D0AA5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3D1A-D277-405E-9430-CD6BDD18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6E22-D480-4AAC-BBDA-F4029E3F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4361-AE03-4472-B6B8-C18C88B3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B4BB-C44C-4B69-AABB-E92E5B95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032-B3C4-4F2C-9500-4987961C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9619-E3E8-46CD-B328-F01E9E6E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C74C-342C-4C4B-A386-80472A25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58B5-2CDE-4A80-BAFD-A5B58A32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5309-41F6-42CE-95C3-85DD0A06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FA27-BC8D-472C-A00B-AFB9480F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EAF-C3EA-4C9F-B6B6-869879B4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C48-19DC-41CD-95B2-94FD6B6E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55C-9A1A-4D95-95FF-51988F0C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296-AB6D-4AE4-A936-EDB296A7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6DA-35BA-48DD-8583-91016456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454-4C61-4A91-9CFD-863C6E58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260-5D67-4B81-BA68-69241DF6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316F-D4F6-4955-ADC0-EFCD85C440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42E8-28A3-49E1-8F31-C46DA65417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845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менение свойства монотонности функций в решении уравнений и неравенств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ая час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бывающая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ая час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6   показательная, возрастает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(2&gt;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=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кольк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решим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4х+4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х=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етод, основанный на перечисленных утверждениях, состоит в следующем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ить фун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ить их моното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обрать корень урав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сновать на приведенное утверждение, что других корней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сать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ловия монотонност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онотонность функции связана с тем, каков знак ее производной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’(x)&gt;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ждой точк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зрастает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’(x)&lt;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ждой точк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бывает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Monotype Corsiva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+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Monotype Corsiva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√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1-3x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f(x)=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Monotype Corsiva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+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Monotype Corsiva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√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1-3x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(f)=(-∞;1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этом промежутке функци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епрерывно и внутри него имеет производ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’(x)=5x4+3x2+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3/2(√1-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’(x)&gt;0? =&gt; f(x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зрастает на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∞;1/3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овательно, она принимает каждое свое значение только в одной точ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ит, уравнение 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Monotype Corsiva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+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Monotype Corsiva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√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1-3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не более одного кор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х=-1 , получим -1-1-2+4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х =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Пример №2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log</a:t>
            </a:r>
            <a:r>
              <a:rPr b="0" i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-(2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+3)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+6=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и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Приходим к квадратному относительн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равн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t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(2х+3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6=0. его к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((2х+3)±(2х-3)/2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2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2, х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3/х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3/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х&gt;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ункция у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зрастающ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ункция у = 3/х- убываю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этому, если существует корень уравнени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= 3/х, то он единственный. Подбором находим корень х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3;9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использовании нестандартных методов, решение занимает меньше времени, а также оно более интерес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987280" y="3886200"/>
            <a:ext cx="5761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ю подгото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Monotype Corsiva"/>
              </a:rPr>
              <a:t>Башарова Ю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решении уравнений школьники часто сталкиваются с заданиями творческого характера. Часть из них можно решить, используя свойство моното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монотонно возрастает на промежутк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функция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монотонно возрастает, 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+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монотонно возрастает на этом промежут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ссмотрим уравнение: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монотонно возрастает на промежутк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то она может принимать значе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е более чем в одной точке, т.е. данное уравнение имеет не более одного кор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х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вая часть данного уравнения монотонно возрастает. Значит уравнение  имеет не более одного корня.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х=1, получим 1+1+2*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=1 единственный корень урав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х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ссмотрим уравнение:     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монотонно возрастает на некотором промежут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монотонно убывает, то кривы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на плоскости могут пересечься не более чем в одной точке, значит данное уравнение имеет не более одного кор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х+16=(1/15)</a:t>
            </a:r>
            <a:r>
              <a:rPr b="0" lang="en-US" sz="3000" spc="-1" strike="noStrike" baseline="42000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Левая часть данного уравнения, функция возрастающая, как линейная с положительным угловым коэффици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Правая часть данного уравнении, функция убывающая, как показательная с основанием меньше едини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ит, уравнение имеет не больше одного кор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х = -1 имеем -1+16=(1/1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 = -1 единственный корень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х=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мер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=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=2t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6:23:50Z</dcterms:created>
  <dc:creator>Admin</dc:creator>
  <dc:description/>
  <dc:language>en-US</dc:language>
  <cp:lastModifiedBy>Admin</cp:lastModifiedBy>
  <dcterms:modified xsi:type="dcterms:W3CDTF">2011-04-21T14:34:57Z</dcterms:modified>
  <cp:revision>19</cp:revision>
  <dc:subject/>
  <dc:title>Использование свойств монотонности функций </dc:title>
</cp:coreProperties>
</file>