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7.png" ContentType="image/png"/>
  <Override PartName="/ppt/media/image34.jpeg" ContentType="image/jpeg"/>
  <Override PartName="/ppt/media/image14.jpeg" ContentType="image/jpeg"/>
  <Override PartName="/ppt/media/image11.jpeg" ContentType="image/jpeg"/>
  <Override PartName="/ppt/media/image2.jpeg" ContentType="image/jpeg"/>
  <Override PartName="/ppt/media/image18.wmf" ContentType="image/x-wmf"/>
  <Override PartName="/ppt/media/image36.jpeg" ContentType="image/jpeg"/>
  <Override PartName="/ppt/media/image13.png" ContentType="image/png"/>
  <Override PartName="/ppt/media/image12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.png" ContentType="image/png"/>
  <Override PartName="/ppt/media/image39.jpeg" ContentType="image/jpeg"/>
  <Override PartName="/ppt/media/image9.png" ContentType="image/png"/>
  <Override PartName="/ppt/media/image38.jpeg" ContentType="image/jpeg"/>
  <Override PartName="/ppt/media/image33.jpeg" ContentType="image/jpeg"/>
  <Override PartName="/ppt/media/image27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41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662A-F53D-4AF6-A9C8-EB96A8CC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379C-8FA3-4BB5-9555-3CDD0C90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ECDA-F5F0-4FC1-BB94-4A4246BE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61E3-CA75-424C-8A83-920E9DDB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7832-6739-4A78-B04D-35821A9B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A606-D418-4B68-802B-F70B5923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AB90-BAF8-49FE-BE68-78027A78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78BA-5346-4088-A860-6002D2D6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2250-4DA7-400A-9A60-432BD594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230-23AD-4CC4-A45E-99CD2DA7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6F3B-7063-4EDD-9B11-CBCAC51E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397D-D6C1-4BEC-AF6E-555BBB8A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f0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6094-07F9-4D5D-B1FB-DD90782376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image" Target="../media/image34.jpeg"/><Relationship Id="rId13" Type="http://schemas.openxmlformats.org/officeDocument/2006/relationships/image" Target="../media/image35.jpeg"/><Relationship Id="rId14" Type="http://schemas.openxmlformats.org/officeDocument/2006/relationships/image" Target="../media/image36.jpeg"/><Relationship Id="rId15" Type="http://schemas.openxmlformats.org/officeDocument/2006/relationships/image" Target="../media/image37.jpeg"/><Relationship Id="rId16" Type="http://schemas.openxmlformats.org/officeDocument/2006/relationships/image" Target="../media/image38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611280" y="3716280"/>
            <a:ext cx="792324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38160">
                  <a:solidFill>
                    <a:srgbClr val="2a7443"/>
                  </a:solidFill>
                  <a:miter/>
                </a:ln>
                <a:solidFill>
                  <a:srgbClr val="a50021"/>
                </a:solidFill>
                <a:latin typeface="Times New Roman"/>
              </a:rPr>
              <a:t>Герб </a:t>
            </a:r>
            <a:endParaRPr b="1" lang="en-US" sz="5400" spc="1" strike="noStrike">
              <a:ln w="38160">
                <a:solidFill>
                  <a:srgbClr val="2a7443"/>
                </a:solidFill>
                <a:miter/>
              </a:ln>
              <a:solidFill>
                <a:srgbClr val="a50021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38160">
                  <a:solidFill>
                    <a:srgbClr val="2a7443"/>
                  </a:solidFill>
                  <a:miter/>
                </a:ln>
                <a:solidFill>
                  <a:srgbClr val="a50021"/>
                </a:solidFill>
                <a:latin typeface="Times New Roman"/>
              </a:rPr>
              <a:t>нашего города</a:t>
            </a:r>
            <a:endParaRPr b="1" lang="en-US" sz="5400" spc="1" strike="noStrike">
              <a:ln w="38160">
                <a:solidFill>
                  <a:srgbClr val="2a7443"/>
                </a:solidFill>
                <a:miter/>
              </a:ln>
              <a:solidFill>
                <a:srgbClr val="a50021"/>
              </a:solidFill>
              <a:latin typeface="Times New Roman"/>
              <a:ea typeface="Times New Roman"/>
            </a:endParaRPr>
          </a:p>
        </p:txBody>
      </p:sp>
      <p:pic>
        <p:nvPicPr>
          <p:cNvPr id="42" name="Picture 6" descr="на природе 1 апреля 038"/>
          <p:cNvPicPr/>
          <p:nvPr/>
        </p:nvPicPr>
        <p:blipFill>
          <a:blip r:embed="rId1"/>
          <a:stretch/>
        </p:blipFill>
        <p:spPr>
          <a:xfrm>
            <a:off x="250920" y="260280"/>
            <a:ext cx="4321080" cy="3243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на природе 1 апреля 036"/>
          <p:cNvPicPr/>
          <p:nvPr/>
        </p:nvPicPr>
        <p:blipFill>
          <a:blip r:embed="rId2"/>
          <a:stretch/>
        </p:blipFill>
        <p:spPr>
          <a:xfrm>
            <a:off x="4572000" y="260280"/>
            <a:ext cx="4321080" cy="3241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рб Российской Феде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6" descr="g1"/>
          <p:cNvPicPr/>
          <p:nvPr/>
        </p:nvPicPr>
        <p:blipFill>
          <a:blip r:embed="rId1"/>
          <a:stretch/>
        </p:blipFill>
        <p:spPr>
          <a:xfrm>
            <a:off x="2268360" y="1413000"/>
            <a:ext cx="395136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рб Екатеринбур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Герб города Екатеринбург"/>
          <p:cNvPicPr/>
          <p:nvPr/>
        </p:nvPicPr>
        <p:blipFill>
          <a:blip r:embed="rId1"/>
          <a:stretch/>
        </p:blipFill>
        <p:spPr>
          <a:xfrm>
            <a:off x="250920" y="1268280"/>
            <a:ext cx="4167000" cy="32068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4859280" y="1164960"/>
            <a:ext cx="396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олнистая лазуревая полоса в нижней части - это река Исеть, соединяющая историю и современность, Европу и Азию. Медведь - европейский символ, соболь - азиатский. Более того, соболь еще при Демидовых был маркой уральского металла. Животные стоят за пределами щита, высунув языки и оскалив зубы, - такое проявление агрессивности вполне объяснимо, ведь они охраняют город. Золотая лента в самом низу Герба является признаком столичности Екатеринбур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539640" y="4478400"/>
            <a:ext cx="36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еленом и золотом поле вверху - серебряные рудокопная шахта  и плавильная печь с червленым (красным) огнем внут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рб нашего го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polevoj1"/>
          <p:cNvPicPr/>
          <p:nvPr/>
        </p:nvPicPr>
        <p:blipFill>
          <a:blip r:embed="rId1"/>
          <a:stretch/>
        </p:blipFill>
        <p:spPr>
          <a:xfrm>
            <a:off x="539640" y="1413000"/>
            <a:ext cx="2936880" cy="36716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3708360" y="1750320"/>
            <a:ext cx="511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щерка ассоциируется с легендарной хозяйкой Медной горы, цветок на гербе - знаменитый Каменный Цветок, который мечтал создать Данила-мастер. Восьмиконечная звезда - название завода - "северный"), а знак Венеры (алхимический символ меди) - клеймо Полевского медеплавильного завода. Оба клейма появились в XVIII веке, их создание приписывается клеймо Северского железоделательного за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2124000" y="40464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38160">
                  <a:solidFill>
                    <a:srgbClr val="2a7443"/>
                  </a:solidFill>
                  <a:miter/>
                </a:ln>
                <a:solidFill>
                  <a:srgbClr val="a50021"/>
                </a:solidFill>
                <a:latin typeface="Times New Roman"/>
              </a:rPr>
              <a:t>Задание:</a:t>
            </a:r>
            <a:endParaRPr b="1" lang="en-US" sz="5400" spc="1" strike="noStrike">
              <a:ln w="38160">
                <a:solidFill>
                  <a:srgbClr val="2a7443"/>
                </a:solidFill>
                <a:miter/>
              </a:ln>
              <a:solidFill>
                <a:srgbClr val="a50021"/>
              </a:solidFill>
              <a:latin typeface="Times New Roman"/>
              <a:ea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042920" y="206064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оздать герб вашей семь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2627280" y="333360"/>
            <a:ext cx="309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38160">
                  <a:solidFill>
                    <a:srgbClr val="2a7443"/>
                  </a:solidFill>
                  <a:miter/>
                </a:ln>
                <a:solidFill>
                  <a:srgbClr val="a50021"/>
                </a:solidFill>
                <a:latin typeface="Times New Roman"/>
              </a:rPr>
              <a:t>Цель:</a:t>
            </a:r>
            <a:endParaRPr b="1" lang="en-US" sz="5400" spc="1" strike="noStrike">
              <a:ln w="38160">
                <a:solidFill>
                  <a:srgbClr val="2a7443"/>
                </a:solidFill>
                <a:miter/>
              </a:ln>
              <a:solidFill>
                <a:srgbClr val="a50021"/>
              </a:solidFill>
              <a:latin typeface="Times New Roman"/>
              <a:ea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191628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Изучение символики гербов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2484360" y="260280"/>
            <a:ext cx="3529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38160">
                  <a:solidFill>
                    <a:srgbClr val="2a7443"/>
                  </a:solidFill>
                  <a:miter/>
                </a:ln>
                <a:solidFill>
                  <a:srgbClr val="a50021"/>
                </a:solidFill>
                <a:latin typeface="Times New Roman"/>
              </a:rPr>
              <a:t>Задачи:</a:t>
            </a:r>
            <a:endParaRPr b="1" lang="en-US" sz="5400" spc="1" strike="noStrike">
              <a:ln w="38160">
                <a:solidFill>
                  <a:srgbClr val="2a7443"/>
                </a:solidFill>
                <a:miter/>
              </a:ln>
              <a:solidFill>
                <a:srgbClr val="a50021"/>
              </a:solidFill>
              <a:latin typeface="Times New Roman"/>
              <a:ea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95280" y="1557360"/>
            <a:ext cx="845964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ть над созданием и защитой мини-проекта «Герб нашего города»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вивать образное мышление  и творческие способнос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спитывать чувство уважения к родному кра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611280" y="260280"/>
            <a:ext cx="8028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38160">
                  <a:solidFill>
                    <a:srgbClr val="2a7443"/>
                  </a:solidFill>
                  <a:miter/>
                </a:ln>
                <a:solidFill>
                  <a:srgbClr val="a50021"/>
                </a:solidFill>
                <a:latin typeface="Times New Roman"/>
              </a:rPr>
              <a:t>Экскурсия в историю:</a:t>
            </a:r>
            <a:endParaRPr b="1" lang="en-US" sz="5400" spc="1" strike="noStrike">
              <a:ln w="38160">
                <a:solidFill>
                  <a:srgbClr val="2a7443"/>
                </a:solidFill>
                <a:miter/>
              </a:ln>
              <a:solidFill>
                <a:srgbClr val="a50021"/>
              </a:solidFill>
              <a:latin typeface="Times New Roman"/>
              <a:ea typeface="Times New Roman"/>
            </a:endParaRPr>
          </a:p>
        </p:txBody>
      </p:sp>
      <p:pic>
        <p:nvPicPr>
          <p:cNvPr id="49" name="Picture 5" descr="Рыцарское вооружение, щиты, мечи, доспехи"/>
          <p:cNvPicPr/>
          <p:nvPr/>
        </p:nvPicPr>
        <p:blipFill>
          <a:blip r:embed="rId1"/>
          <a:stretch/>
        </p:blipFill>
        <p:spPr>
          <a:xfrm>
            <a:off x="3492360" y="4005360"/>
            <a:ext cx="2171880" cy="2592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Рыцарское вооружение, щиты, мечи, доспехи"/>
          <p:cNvPicPr/>
          <p:nvPr/>
        </p:nvPicPr>
        <p:blipFill>
          <a:blip r:embed="rId2"/>
          <a:stretch/>
        </p:blipFill>
        <p:spPr>
          <a:xfrm>
            <a:off x="684360" y="1557360"/>
            <a:ext cx="2238120" cy="4897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Рыцарское вооружение, щиты, мечи, доспехи"/>
          <p:cNvPicPr/>
          <p:nvPr/>
        </p:nvPicPr>
        <p:blipFill>
          <a:blip r:embed="rId3"/>
          <a:stretch/>
        </p:blipFill>
        <p:spPr>
          <a:xfrm>
            <a:off x="6012000" y="1773360"/>
            <a:ext cx="2771640" cy="417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Рыцарское вооружение, щиты, мечи, доспехи"/>
          <p:cNvPicPr/>
          <p:nvPr/>
        </p:nvPicPr>
        <p:blipFill>
          <a:blip r:embed="rId4"/>
          <a:stretch/>
        </p:blipFill>
        <p:spPr>
          <a:xfrm>
            <a:off x="3344760" y="1484280"/>
            <a:ext cx="236700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http://festival.1september.ru/2006_2007/articles/412756/Image2636.gif"/>
          <p:cNvPicPr/>
          <p:nvPr/>
        </p:nvPicPr>
        <p:blipFill>
          <a:blip r:embed="rId1"/>
          <a:stretch/>
        </p:blipFill>
        <p:spPr>
          <a:xfrm>
            <a:off x="539640" y="1197000"/>
            <a:ext cx="1087560" cy="1368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1573560" y="1483200"/>
            <a:ext cx="43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яжский (норманн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7"/>
          <p:cNvSpPr txBox="1"/>
          <p:nvPr/>
        </p:nvSpPr>
        <p:spPr>
          <a:xfrm>
            <a:off x="611280" y="260280"/>
            <a:ext cx="8028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38160">
                  <a:solidFill>
                    <a:srgbClr val="2a7443"/>
                  </a:solidFill>
                  <a:miter/>
                </a:ln>
                <a:solidFill>
                  <a:srgbClr val="a50021"/>
                </a:solidFill>
                <a:latin typeface="Times New Roman"/>
              </a:rPr>
              <a:t>Формы гербов:</a:t>
            </a:r>
            <a:endParaRPr b="1" lang="en-US" sz="5400" spc="1" strike="noStrike">
              <a:ln w="38160">
                <a:solidFill>
                  <a:srgbClr val="2a7443"/>
                </a:solidFill>
                <a:miter/>
              </a:ln>
              <a:solidFill>
                <a:srgbClr val="a50021"/>
              </a:solidFill>
              <a:latin typeface="Times New Roman"/>
              <a:ea typeface="Times New Roman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0" y="312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http://festival.1september.ru/2006_2007/articles/412756/Image2637.gif"/>
          <p:cNvPicPr/>
          <p:nvPr/>
        </p:nvPicPr>
        <p:blipFill>
          <a:blip r:embed="rId2"/>
          <a:stretch/>
        </p:blipFill>
        <p:spPr>
          <a:xfrm>
            <a:off x="4067280" y="2421000"/>
            <a:ext cx="1158840" cy="1224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0"/>
          <p:cNvSpPr/>
          <p:nvPr/>
        </p:nvSpPr>
        <p:spPr>
          <a:xfrm>
            <a:off x="5525640" y="27802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анский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http://festival.1september.ru/2006_2007/articles/412756/Image2638.gif"/>
          <p:cNvPicPr/>
          <p:nvPr/>
        </p:nvPicPr>
        <p:blipFill>
          <a:blip r:embed="rId3"/>
          <a:stretch/>
        </p:blipFill>
        <p:spPr>
          <a:xfrm>
            <a:off x="468360" y="3357720"/>
            <a:ext cx="1171440" cy="1295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3"/>
          <p:cNvSpPr/>
          <p:nvPr/>
        </p:nvSpPr>
        <p:spPr>
          <a:xfrm>
            <a:off x="1784520" y="4004280"/>
            <a:ext cx="19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мецкий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http://festival.1september.ru/2006_2007/articles/412756/Image2639.gif"/>
          <p:cNvPicPr/>
          <p:nvPr/>
        </p:nvPicPr>
        <p:blipFill>
          <a:blip r:embed="rId4"/>
          <a:stretch/>
        </p:blipFill>
        <p:spPr>
          <a:xfrm>
            <a:off x="4140360" y="4149720"/>
            <a:ext cx="1052280" cy="1295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6"/>
          <p:cNvSpPr/>
          <p:nvPr/>
        </p:nvSpPr>
        <p:spPr>
          <a:xfrm>
            <a:off x="5559840" y="454536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ранцузский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3203640" y="35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7" descr="http://festival.1september.ru/2006_2007/articles/412756/full.h1.jpg"/>
          <p:cNvPicPr/>
          <p:nvPr/>
        </p:nvPicPr>
        <p:blipFill>
          <a:blip r:embed="rId5"/>
          <a:stretch/>
        </p:blipFill>
        <p:spPr>
          <a:xfrm>
            <a:off x="539640" y="5229360"/>
            <a:ext cx="885960" cy="1152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9"/>
          <p:cNvSpPr/>
          <p:nvPr/>
        </p:nvSpPr>
        <p:spPr>
          <a:xfrm>
            <a:off x="1700280" y="558864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талья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4"/>
          <p:cNvSpPr txBox="1"/>
          <p:nvPr/>
        </p:nvSpPr>
        <p:spPr>
          <a:xfrm>
            <a:off x="250920" y="333360"/>
            <a:ext cx="853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38160">
                  <a:solidFill>
                    <a:srgbClr val="2a7443"/>
                  </a:solidFill>
                  <a:miter/>
                </a:ln>
                <a:solidFill>
                  <a:srgbClr val="a50021"/>
                </a:solidFill>
                <a:latin typeface="Times New Roman"/>
              </a:rPr>
              <a:t>Символика изображений:</a:t>
            </a:r>
            <a:endParaRPr b="1" lang="en-US" sz="5400" spc="1" strike="noStrike">
              <a:ln w="38160">
                <a:solidFill>
                  <a:srgbClr val="2a7443"/>
                </a:solidFill>
                <a:miter/>
              </a:ln>
              <a:solidFill>
                <a:srgbClr val="a50021"/>
              </a:solidFill>
              <a:latin typeface="Times New Roman"/>
              <a:ea typeface="Times New Roman"/>
            </a:endParaRPr>
          </a:p>
        </p:txBody>
      </p:sp>
      <p:pic>
        <p:nvPicPr>
          <p:cNvPr id="68" name="Picture 5" descr="Бийск"/>
          <p:cNvPicPr/>
          <p:nvPr/>
        </p:nvPicPr>
        <p:blipFill>
          <a:blip r:embed="rId1"/>
          <a:stretch/>
        </p:blipFill>
        <p:spPr>
          <a:xfrm>
            <a:off x="324000" y="1341360"/>
            <a:ext cx="1120680" cy="136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Заринск"/>
          <p:cNvPicPr/>
          <p:nvPr/>
        </p:nvPicPr>
        <p:blipFill>
          <a:blip r:embed="rId2"/>
          <a:stretch/>
        </p:blipFill>
        <p:spPr>
          <a:xfrm>
            <a:off x="324000" y="2924280"/>
            <a:ext cx="1136520" cy="1366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Стародуб"/>
          <p:cNvPicPr/>
          <p:nvPr/>
        </p:nvPicPr>
        <p:blipFill>
          <a:blip r:embed="rId3"/>
          <a:stretch/>
        </p:blipFill>
        <p:spPr>
          <a:xfrm>
            <a:off x="4427640" y="1413000"/>
            <a:ext cx="1260360" cy="151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Читинская область"/>
          <p:cNvPicPr/>
          <p:nvPr/>
        </p:nvPicPr>
        <p:blipFill>
          <a:blip r:embed="rId4"/>
          <a:stretch/>
        </p:blipFill>
        <p:spPr>
          <a:xfrm>
            <a:off x="324000" y="4581360"/>
            <a:ext cx="1276200" cy="158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Павловск"/>
          <p:cNvPicPr/>
          <p:nvPr/>
        </p:nvPicPr>
        <p:blipFill>
          <a:blip r:embed="rId5"/>
          <a:stretch/>
        </p:blipFill>
        <p:spPr>
          <a:xfrm>
            <a:off x="4500720" y="4869000"/>
            <a:ext cx="1296720" cy="1439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Владимир"/>
          <p:cNvPicPr/>
          <p:nvPr/>
        </p:nvPicPr>
        <p:blipFill>
          <a:blip r:embed="rId6"/>
          <a:stretch/>
        </p:blipFill>
        <p:spPr>
          <a:xfrm>
            <a:off x="4427640" y="3141720"/>
            <a:ext cx="1269720" cy="1511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1619280" y="162864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ь – храбрость льва, зоркость орла, сила и быст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1692360" y="306864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1619280" y="299736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це – свет, богатство, изобил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1835280" y="4797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ёл – власть, великодушие, прозорл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5940360" y="1844640"/>
            <a:ext cx="32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уб – крепость, 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5867280" y="34290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в – сила, мужество, великодуш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5940360" y="5013360"/>
            <a:ext cx="32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ох – духовная в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j0423505[1]"/>
          <p:cNvPicPr/>
          <p:nvPr/>
        </p:nvPicPr>
        <p:blipFill>
          <a:blip r:embed="rId1"/>
          <a:stretch/>
        </p:blipFill>
        <p:spPr>
          <a:xfrm>
            <a:off x="611280" y="476280"/>
            <a:ext cx="1509480" cy="2376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j0430239[1]"/>
          <p:cNvPicPr/>
          <p:nvPr/>
        </p:nvPicPr>
        <p:blipFill>
          <a:blip r:embed="rId2"/>
          <a:stretch/>
        </p:blipFill>
        <p:spPr>
          <a:xfrm>
            <a:off x="4284720" y="692280"/>
            <a:ext cx="1800000" cy="1663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j0088516[1]"/>
          <p:cNvPicPr/>
          <p:nvPr/>
        </p:nvPicPr>
        <p:blipFill>
          <a:blip r:embed="rId3"/>
          <a:stretch/>
        </p:blipFill>
        <p:spPr>
          <a:xfrm>
            <a:off x="324000" y="3429000"/>
            <a:ext cx="2195280" cy="1911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j0423900[1]"/>
          <p:cNvPicPr/>
          <p:nvPr/>
        </p:nvPicPr>
        <p:blipFill>
          <a:blip r:embed="rId4"/>
          <a:stretch/>
        </p:blipFill>
        <p:spPr>
          <a:xfrm>
            <a:off x="4427640" y="2565360"/>
            <a:ext cx="1562040" cy="1828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j0088498[1]"/>
          <p:cNvPicPr/>
          <p:nvPr/>
        </p:nvPicPr>
        <p:blipFill>
          <a:blip r:embed="rId5"/>
          <a:stretch/>
        </p:blipFill>
        <p:spPr>
          <a:xfrm>
            <a:off x="4427640" y="4653000"/>
            <a:ext cx="1523880" cy="1800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2268360" y="148428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никс - бессмер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2195640" y="386064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динорог – чистота, непоро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6443640" y="98100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мея - ве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6227640" y="314172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бака – верность, преданность, повинов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6084720" y="5013360"/>
            <a:ext cx="30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ифон – неустрашимость и свиреп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611280" y="260280"/>
            <a:ext cx="8028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38160">
                  <a:solidFill>
                    <a:srgbClr val="2a7443"/>
                  </a:solidFill>
                  <a:miter/>
                </a:ln>
                <a:solidFill>
                  <a:srgbClr val="a50021"/>
                </a:solidFill>
                <a:latin typeface="Times New Roman"/>
              </a:rPr>
              <a:t>Значение цвета:</a:t>
            </a:r>
            <a:endParaRPr b="1" lang="en-US" sz="5400" spc="1" strike="noStrike">
              <a:ln w="38160">
                <a:solidFill>
                  <a:srgbClr val="2a7443"/>
                </a:solidFill>
                <a:miter/>
              </a:ln>
              <a:solidFill>
                <a:srgbClr val="a50021"/>
              </a:solidFill>
              <a:latin typeface="Times New Roman"/>
              <a:ea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611280" y="1341360"/>
            <a:ext cx="2232000" cy="505080"/>
          </a:xfrm>
          <a:prstGeom prst="rect">
            <a:avLst/>
          </a:prstGeom>
          <a:solidFill>
            <a:srgbClr val="f643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611280" y="2133720"/>
            <a:ext cx="2232000" cy="504720"/>
          </a:xfrm>
          <a:prstGeom prst="rect">
            <a:avLst/>
          </a:prstGeom>
          <a:solidFill>
            <a:srgbClr val="18b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11280" y="2924280"/>
            <a:ext cx="2232000" cy="504720"/>
          </a:xfrm>
          <a:prstGeom prst="rect">
            <a:avLst/>
          </a:prstGeom>
          <a:solidFill>
            <a:srgbClr val="7cc7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11280" y="3716280"/>
            <a:ext cx="223200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611280" y="4581360"/>
            <a:ext cx="2232000" cy="505080"/>
          </a:xfrm>
          <a:prstGeom prst="rect">
            <a:avLst/>
          </a:prstGeom>
          <a:solidFill>
            <a:srgbClr val="ddb8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611280" y="5445000"/>
            <a:ext cx="2232000" cy="505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3132000" y="1413000"/>
            <a:ext cx="48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3203640" y="1268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жество, храбр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3132000" y="213372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дежда, изобил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3203640" y="285264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сота, велич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3276720" y="364500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дрость, печ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3203640" y="450864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гатство, справед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3276720" y="537372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винность, чист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сканирование0006"/>
          <p:cNvPicPr/>
          <p:nvPr/>
        </p:nvPicPr>
        <p:blipFill>
          <a:blip r:embed="rId1"/>
          <a:stretch/>
        </p:blipFill>
        <p:spPr>
          <a:xfrm>
            <a:off x="684360" y="260280"/>
            <a:ext cx="4257360" cy="6308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сканирование0007"/>
          <p:cNvPicPr/>
          <p:nvPr/>
        </p:nvPicPr>
        <p:blipFill>
          <a:blip r:embed="rId2"/>
          <a:stretch/>
        </p:blipFill>
        <p:spPr>
          <a:xfrm>
            <a:off x="4859280" y="260280"/>
            <a:ext cx="3529080" cy="6310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сканирование0008"/>
          <p:cNvPicPr/>
          <p:nvPr/>
        </p:nvPicPr>
        <p:blipFill>
          <a:blip r:embed="rId3"/>
          <a:stretch/>
        </p:blipFill>
        <p:spPr>
          <a:xfrm>
            <a:off x="0" y="0"/>
            <a:ext cx="611280" cy="611280"/>
          </a:xfrm>
          <a:prstGeom prst="rect">
            <a:avLst/>
          </a:prstGeom>
          <a:ln w="19080">
            <a:solidFill>
              <a:srgbClr val="2a7443"/>
            </a:solidFill>
            <a:miter/>
          </a:ln>
        </p:spPr>
      </p:pic>
      <p:pic>
        <p:nvPicPr>
          <p:cNvPr id="108" name="Picture 7" descr="сканирование0009"/>
          <p:cNvPicPr/>
          <p:nvPr/>
        </p:nvPicPr>
        <p:blipFill>
          <a:blip r:embed="rId4"/>
          <a:stretch/>
        </p:blipFill>
        <p:spPr>
          <a:xfrm>
            <a:off x="0" y="765000"/>
            <a:ext cx="673200" cy="736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сканирование0010"/>
          <p:cNvPicPr/>
          <p:nvPr/>
        </p:nvPicPr>
        <p:blipFill>
          <a:blip r:embed="rId5"/>
          <a:stretch/>
        </p:blipFill>
        <p:spPr>
          <a:xfrm>
            <a:off x="0" y="1700280"/>
            <a:ext cx="657360" cy="718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сканирование0011"/>
          <p:cNvPicPr/>
          <p:nvPr/>
        </p:nvPicPr>
        <p:blipFill>
          <a:blip r:embed="rId6"/>
          <a:stretch/>
        </p:blipFill>
        <p:spPr>
          <a:xfrm>
            <a:off x="0" y="2637000"/>
            <a:ext cx="658800" cy="720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сканирование0012"/>
          <p:cNvPicPr/>
          <p:nvPr/>
        </p:nvPicPr>
        <p:blipFill>
          <a:blip r:embed="rId7"/>
          <a:stretch/>
        </p:blipFill>
        <p:spPr>
          <a:xfrm>
            <a:off x="0" y="3573360"/>
            <a:ext cx="657360" cy="719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сканирование0013"/>
          <p:cNvPicPr/>
          <p:nvPr/>
        </p:nvPicPr>
        <p:blipFill>
          <a:blip r:embed="rId8"/>
          <a:stretch/>
        </p:blipFill>
        <p:spPr>
          <a:xfrm>
            <a:off x="8380440" y="0"/>
            <a:ext cx="763560" cy="836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сканирование0014"/>
          <p:cNvPicPr/>
          <p:nvPr/>
        </p:nvPicPr>
        <p:blipFill>
          <a:blip r:embed="rId9"/>
          <a:stretch/>
        </p:blipFill>
        <p:spPr>
          <a:xfrm>
            <a:off x="8354880" y="981000"/>
            <a:ext cx="789120" cy="863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сканирование0015"/>
          <p:cNvPicPr/>
          <p:nvPr/>
        </p:nvPicPr>
        <p:blipFill>
          <a:blip r:embed="rId10"/>
          <a:stretch/>
        </p:blipFill>
        <p:spPr>
          <a:xfrm>
            <a:off x="8353440" y="1989000"/>
            <a:ext cx="790560" cy="865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сканирование0016"/>
          <p:cNvPicPr/>
          <p:nvPr/>
        </p:nvPicPr>
        <p:blipFill>
          <a:blip r:embed="rId11"/>
          <a:stretch/>
        </p:blipFill>
        <p:spPr>
          <a:xfrm>
            <a:off x="8420040" y="3068640"/>
            <a:ext cx="723960" cy="792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сканирование0017"/>
          <p:cNvPicPr/>
          <p:nvPr/>
        </p:nvPicPr>
        <p:blipFill>
          <a:blip r:embed="rId12"/>
          <a:stretch/>
        </p:blipFill>
        <p:spPr>
          <a:xfrm>
            <a:off x="8420040" y="4005360"/>
            <a:ext cx="723960" cy="79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сканирование0018"/>
          <p:cNvPicPr/>
          <p:nvPr/>
        </p:nvPicPr>
        <p:blipFill>
          <a:blip r:embed="rId13"/>
          <a:stretch/>
        </p:blipFill>
        <p:spPr>
          <a:xfrm>
            <a:off x="0" y="4581360"/>
            <a:ext cx="723960" cy="79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сканирование0019"/>
          <p:cNvPicPr/>
          <p:nvPr/>
        </p:nvPicPr>
        <p:blipFill>
          <a:blip r:embed="rId14"/>
          <a:stretch/>
        </p:blipFill>
        <p:spPr>
          <a:xfrm>
            <a:off x="8354880" y="4941720"/>
            <a:ext cx="789120" cy="863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сканирование0020"/>
          <p:cNvPicPr/>
          <p:nvPr/>
        </p:nvPicPr>
        <p:blipFill>
          <a:blip r:embed="rId15"/>
          <a:stretch/>
        </p:blipFill>
        <p:spPr>
          <a:xfrm>
            <a:off x="0" y="5589720"/>
            <a:ext cx="723960" cy="792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сканирование0021"/>
          <p:cNvPicPr/>
          <p:nvPr/>
        </p:nvPicPr>
        <p:blipFill>
          <a:blip r:embed="rId16"/>
          <a:stretch/>
        </p:blipFill>
        <p:spPr>
          <a:xfrm>
            <a:off x="8275680" y="5907240"/>
            <a:ext cx="868320" cy="950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93 0.0178 C 0.04653 0.03491 0.04931 0.03098 0.05782 0.04439 C 0.0632 0.05294 0.06858 0.06126 0.07552 0.06796 C 0.0908 0.08253 0.0783 0.06588 0.09115 0.07998 C 0.10834 0.09917 0.0875 0.07975 0.10452 0.09478 C 0.10677 0.09871 0.10851 0.1031 0.11111 0.10657 C 0.11372 0.11004 0.11754 0.11165 0.11997 0.11535 C 0.12518 0.12344 0.12674 0.13639 0.13108 0.14494 C 0.13282 0.14841 0.13559 0.15095 0.13785 0.15396 C 0.14167 0.16436 0.14827 0.17268 0.15105 0.18354 C 0.15174 0.18655 0.15191 0.18979 0.1533 0.19233 C 0.1566 0.19857 0.16216 0.20296 0.16667 0.20712 C 0.16823 0.21013 0.1691 0.2136 0.17118 0.21591 C 0.17292 0.21776 0.1757 0.21752 0.17778 0.21891 C 0.19445 0.23024 0.17466 0.22053 0.19115 0.22793 C 0.19341 0.23093 0.19514 0.2344 0.19775 0.23671 C 0.20035 0.23925 0.20434 0.23972 0.2066 0.24272 C 0.20816 0.2448 0.20782 0.24873 0.20886 0.25151 C 0.21285 0.26214 0.21233 0.25983 0.21997 0.26329 C 0.22448 0.2693 0.23125 0.27323 0.23334 0.28109 C 0.23438 0.28525 0.24045 0.3049 0.24219 0.30768 C 0.24393 0.31045 0.2467 0.31161 0.24896 0.31369 C 0.25261 0.32062 0.25816 0.32617 0.26007 0.33426 C 0.26077 0.33727 0.26077 0.34073 0.26216 0.34328 C 0.26389 0.34674 0.26684 0.34882 0.26893 0.35206 C 0.27535 0.36246 0.28056 0.37402 0.28664 0.38465 C 0.2941 0.3976 0.30018 0.41147 0.30886 0.42303 C 0.3125 0.43782 0.31806 0.44845 0.32448 0.46163 C 0.32587 0.46464 0.32743 0.46741 0.32882 0.47041 C 0.33039 0.47342 0.33334 0.47943 0.33334 0.47943 C 0.33889 0.50809 0.33264 0.47319 0.33785 0.52959 C 0.33976 0.55063 0.34896 0.57051 0.34896 0.59177 E">
                                      <p:cBhvr>
                                        <p:cTn id="20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71 0.02427 C 0.05399 0.03097 0.03593 0.02196 0.05434 0.03606 C 0.07048 0.04831 0.09184 0.05663 0.10989 0.06287 C 0.11857 0.0705 0.12638 0.07189 0.13645 0.07466 C 0.1401 0.07859 0.1434 0.08345 0.14757 0.08645 C 0.15034 0.08853 0.15416 0.08691 0.15659 0.08946 C 0.15833 0.09131 0.15763 0.09547 0.15868 0.09824 C 0.16232 0.10818 0.16319 0.10726 0.16979 0.11304 C 0.17378 0.13985 0.18229 0.1558 0.19878 0.17221 C 0.20746 0.19024 0.19757 0.17314 0.21215 0.18701 C 0.22257 0.19695 0.22083 0.20018 0.23437 0.20481 C 0.23993 0.20989 0.24392 0.21798 0.24982 0.22261 C 0.25382 0.22584 0.26319 0.22839 0.26319 0.22839 C 0.27447 0.23879 0.28541 0.24757 0.29878 0.25219 C 0.30729 0.25959 0.31562 0.26375 0.32534 0.26699 C 0.35034 0.28664 0.37621 0.2975 0.40312 0.31137 C 0.42013 0.32016 0.43697 0.3301 0.45434 0.33796 C 0.4618 0.34119 0.46649 0.34581 0.4743 0.34674 C 0.48975 0.34836 0.50538 0.34882 0.521 0.34974 C 0.56684 0.34605 0.5802 0.3472 0.61423 0.33796 C 0.62586 0.32871 0.6309 0.32871 0.64322 0.32316 C 0.66007 0.31576 0.67482 0.3049 0.69201 0.29958 C 0.69861 0.29357 0.70659 0.28941 0.71215 0.28178 C 0.72066 0.27023 0.71614 0.27508 0.72534 0.26699 C 0.73559 0.24665 0.73281 0.25612 0.73645 0.24041 C 0.73576 0.20088 0.73715 0.16135 0.73437 0.12205 C 0.7342 0.11835 0.72968 0.11835 0.7276 0.11604 C 0.72118 0.10888 0.70763 0.09524 0.70763 0.09524 E">
                                      <p:cBhvr>
                                        <p:cTn id="210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35 0.03444 C 0.0493 0.03837 0.05208 0.04276 0.05521 0.04646 C 0.05712 0.04877 0.06024 0.04946 0.0618 0.05224 C 0.07031 0.06657 0.05642 0.05802 0.07066 0.06403 C 0.07847 0.07975 0.0875 0.07928 0.09739 0.09084 C 0.11059 0.1061 0.10069 0.10009 0.11302 0.10564 C 0.11996 0.11488 0.12587 0.12205 0.13524 0.12621 C 0.14844 0.13962 0.16354 0.14331 0.17969 0.14701 C 0.20625 0.16435 0.22899 0.16181 0.25955 0.16181 E">
                                      <p:cBhvr>
                                        <p:cTn id="214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69 0.0282 C 0.06406 0.03236 0.06753 0.04369 0.07969 0.05178 C 0.08455 0.06496 0.08715 0.06796 0.09739 0.07259 C 0.10781 0.08645 0.12118 0.09616 0.13298 0.10795 C 0.1401 0.11489 0.14548 0.12298 0.15295 0.12876 C 0.16146 0.13523 0.17118 0.13731 0.17969 0.14355 C 0.19253 0.15303 0.19114 0.15418 0.20625 0.15835 C 0.21805 0.16829 0.23055 0.17476 0.24409 0.17892 C 0.26962 0.19626 0.25555 0.18793 0.28628 0.20273 C 0.29687 0.20781 0.30642 0.21729 0.31736 0.22053 C 0.32396 0.22261 0.33073 0.22215 0.33732 0.2233 C 0.34965 0.22561 0.36059 0.23301 0.37291 0.23532 C 0.38246 0.23717 0.39219 0.23717 0.40191 0.2381 C 0.44479 0.2478 0.49219 0.24526 0.53524 0.24711 C 0.56597 0.24989 0.59566 0.25335 0.62621 0.2589 C 0.64722 0.26838 0.65694 0.26838 0.68177 0.27069 C 0.69618 0.27554 0.7092 0.27762 0.72413 0.2797 C 0.74913 0.29011 0.7776 0.30791 0.80399 0.30929 C 0.81962 0.30999 0.83507 0.30929 0.85069 0.30929 E">
                                      <p:cBhvr>
                                        <p:cTn id="218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58 0.0222 C 0.06458 0.04346 0.07812 0.02982 0.11736 0.02797 C 0.12031 0.02705 0.12344 0.02705 0.12621 0.0252 C 0.13107 0.02196 0.13958 0.01318 0.13958 0.01318 C 0.14028 0.01018 0.14045 0.00671 0.14184 0.0044 C 0.146 -0.00254 0.15156 0.000240000000000001 0.15295 -0.0104 C 0.15399 -0.01918 0.15295 -0.0282 0.15295 -0.03698 E">
                                      <p:cBhvr>
                                        <p:cTn id="222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57 0.01202 C 0.06059 0.00416 0.06684 -0.00046 0.07379 -0.01457 C 0.07709 -0.02127 0.07882 -0.02936 0.08264 -0.03537 C 0.08507 -0.03907 0.08889 -0.04069 0.0915 -0.04415 C 0.09566 -0.04947 0.09861 -0.05641 0.10261 -0.06195 C 0.1033 -0.06496 0.10382 -0.06796 0.10486 -0.07074 C 0.10677 -0.07582 0.10973 -0.08021 0.11146 -0.08553 C 0.11684 -0.10264 0.1158 -0.10911 0.11823 -0.12691 C 0.12066 -0.14425 0.12466 -0.15812 0.12934 -0.1743 C 0.13351 -0.18863 0.13264 -0.20435 0.13594 -0.21868 C 0.13785 -0.22723 0.14271 -0.23417 0.1448 -0.24249 C 0.14792 -0.25497 0.14879 -0.26815 0.15157 -0.28086 C 0.15521 -0.29704 0.16268 -0.30953 0.16702 -0.32524 C 0.17639 -0.35992 0.1658 -0.33334 0.17813 -0.36084 C 0.18247 -0.3835 0.1842 -0.40569 0.18716 -0.4288 C 0.18577 -0.47989 0.1941 -0.52728 0.16493 -0.56195 C 0.15434 -0.57444 0.14948 -0.58553 0.13594 -0.59154 C 0.12934 -0.58969 0.12118 -0.58923 0.11598 -0.58276 E">
                                      <p:cBhvr>
                                        <p:cTn id="22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57 0.0074 C 0.07605 0.00648 0.10052 0.00694 0.12483 0.0044 C 0.12882 0.00393 0.13212 -4.80350999999997E-006 0.13594 -0.00161 C 0.16841 -0.01479 0.14028 -0.000229999999999999 0.16702 -0.0134 C 0.18282 -0.02126 0.19723 -0.0319 0.21372 -0.03698 C 0.23039 -0.05178 0.20799 -0.03351 0.24271 -0.049 C 0.2573 -0.05547 0.25938 -0.06148 0.27153 -0.06957 C 0.27622 -0.07281 0.28455 -0.07443 0.28924 -0.07558 C 0.30052 -0.08529 0.31424 -0.08969 0.32709 -0.09616 C 0.3342 -0.09986 0.35556 -0.11349 0.36493 -0.11696 C 0.37223 -0.11974 0.37969 -0.12112 0.38716 -0.12297 C 0.3908 -0.1239 0.39827 -0.12575 0.39827 -0.12575 C 0.41511 -0.141 0.43698 -0.14493 0.45157 -0.16435 E">
                                      <p:cBhvr>
                                        <p:cTn id="23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53 0.02196 C -0.05503 0.02334 -0.06806 0.02334 -0.08038 0.02797 C -0.0849 0.02958 -0.08924 0.03213 -0.09375 0.03398 C -0.09601 0.0349 -0.10035 0.03675 -0.10035 0.03675 C -0.10851 0.04392 -0.11528 0.04854 -0.12483 0.05154 C -0.12969 0.05825 -0.14549 0.07535 -0.15156 0.07836 C -0.15642 0.08067 -0.16181 0.08021 -0.16701 0.08113 C -0.16997 0.08414 -0.17257 0.0876 -0.17587 0.09015 C -0.17795 0.09177 -0.18073 0.0913 -0.18264 0.09315 C -0.18524 0.09546 -0.18663 0.09963 -0.18924 0.10194 C -0.19115 0.10379 -0.19392 0.10356 -0.19601 0.10494 C -0.19983 0.10748 -0.20347 0.11049 -0.20712 0.11373 C -0.21771 0.1232 -0.2283 0.13153 -0.24045 0.13754 C -0.24722 0.141 -0.25347 0.14632 -0.26042 0.14932 C -0.26615 0.15187 -0.27813 0.1551 -0.27813 0.1551 C -0.29549 0.17082 -0.31337 0.17822 -0.33368 0.18469 C -0.36372 0.2092 -0.40434 0.20388 -0.43819 0.2085 C -0.44184 0.21035 -0.44549 0.21266 -0.44931 0.21428 C -0.45226 0.21567 -0.45677 0.21359 -0.45816 0.21729 C -0.46042 0.22353 -0.45816 0.23116 -0.45816 0.23809 E">
                                      <p:cBhvr>
                                        <p:cTn id="234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26 0.01919 C -0.05694 0.02127 -0.06094 0.02612 -0.06562 0.02797 C -0.08108 0.03398 -0.09861 0.03352 -0.11458 0.03699 C -0.12535 0.04254 -0.1342 0.04878 -0.14566 0.05178 C -0.15955 0.0608 -0.175 0.06889 -0.1901 0.07236 C -0.25851 0.1031 -0.33507 0.09686 -0.40573 0.09894 C -0.44062 0.10125 -0.48958 0.11373 -0.52118 0.09316 C -0.52934 0.0823 -0.53316 0.0682 -0.54114 0.05756 C -0.54305 0.05502 -0.54566 0.05386 -0.54792 0.05178 C -0.56944 0.03098 -0.55799 0.03653 -0.57448 0.03098 C -0.57674 0.03398 -0.57917 0.03653 -0.58125 0.03976 C -0.58299 0.04254 -0.58559 0.04878 -0.58559 0.04878 E">
                                      <p:cBhvr>
                                        <p:cTn id="238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77 -0.00925 C -0.0592 -0.00878 -0.07257 -0.00647 -0.07674 -0.00347 C -0.08941 0.00601 -0.10608 0.02936 -0.11892 0.03514 C -0.13246 0.06149 -0.11424 0.02982 -0.13003 0.04693 C -0.14219 0.0601 -0.15035 0.07698 -0.16337 0.0883 C -0.17135 0.10402 -0.18108 0.11812 -0.1901 0.13269 C -0.19479 0.14031 -0.20347 0.1565 -0.20347 0.1565 C -0.20851 0.18308 -0.21875 0.20619 -0.22795 0.23047 C -0.23021 0.24318 -0.23351 0.2522 -0.23906 0.26283 C -0.24097 0.28271 -0.24375 0.30213 -0.24566 0.32201 C -0.24514 0.33703 -0.2441 0.39297 -0.24114 0.41678 C -0.23802 0.44221 -0.24253 0.44036 -0.23229 0.44036 E">
                                      <p:cBhvr>
                                        <p:cTn id="24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0.03421 C -0.08143 0.03861 -0.07257 0.03884 -0.12709 0.03421 C -0.15313 0.0319 -0.11198 0.03075 -0.14045 0.0252 C -0.15365 0.02266 -0.16702 0.02312 -0.18039 0.02219 C -0.18698 0.02011 -0.19393 0.01965 -0.20035 0.01641 C -0.20782 0.01272 -0.22118 0.00093 -0.22709 -0.00439 C -0.22969 -0.0067 -0.23316 -0.00601 -0.23594 -0.0074 C -0.23907 -0.00901 -0.24184 -0.01156 -0.24479 -0.01317 C -0.24705 -0.01433 -0.24931 -0.01525 -0.25157 -0.01618 C -0.25747 -0.03953 -0.25018 -0.0104 -0.25591 -0.03398 C -0.2566 -0.03698 -0.25816 -0.04276 -0.25816 -0.04276 E">
                                      <p:cBhvr>
                                        <p:cTn id="24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7 -0.02243 C -0.08334 -0.0215 -0.11528 -0.02196 -0.14705 -0.01942 C -0.15174 -0.01896 -0.15573 -0.01457 -0.16042 -0.01341 C -0.17483 -0.00994 -0.18507 -0.00671 -0.20035 -0.00463 C -0.21615 0.00231 -0.21407 0.01063 -0.22483 0.02496 C -0.22674 0.0275 -0.23073 0.0275 -0.2316 0.03097 C -0.23334 0.0386 -0.2316 0.04669 -0.2316 0.05455 E">
                                      <p:cBhvr>
                                        <p:cTn id="250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13 -0.03676 C -0.09461 -0.03583 -0.11892 -0.0356 -0.1434 -0.03375 C -0.15017 -0.03329 -0.15659 -0.02844 -0.16336 -0.02774 C -0.17517 -0.02636 -0.18715 -0.02589 -0.19895 -0.02497 C -0.22968 -0.01803 -0.25868 -0.01503 -0.2901 -0.01295 C -0.29461 -0.01202 -0.29895 -0.01064 -0.30347 -0.01018 C -0.31597 -0.00879 -0.32864 -0.00948 -0.34114 -0.00717 C -0.36909 -0.00185 -0.32569 0.00231 -0.36336 0.00462 C -0.37968 0.00554 -0.396 0.0067 -0.41232 0.00762 C -0.45746 0.01433 -0.46423 0.01202 -0.52569 0.00762 C -0.55885 0.00046 -0.5434 0.00323 -0.57222 -0.00116 C -0.59513 -0.00024 -0.61822 2.45492000000005E-006 -0.64114 0.00184 C -0.64357 0.00208 -0.646 0.00277 -0.64791 0.00462 C -0.65746 0.0141 -0.67065 0.03375 -0.67447 0.049 C -0.6769 0.05894 -0.67395 0.07582 -0.68333 0.07582 E">
                                      <p:cBhvr>
                                        <p:cTn id="254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54 -0.01202 C -0.09531 -0.01294 -0.12726 -0.01317 -0.15903 -0.01502 C -0.19062 -0.01687 -0.20937 -0.05362 -0.2368 -0.06518 C -0.24531 -0.08206 -0.23715 -0.06842 -0.25469 -0.08599 C -0.26059 -0.092 -0.2724 -0.10379 -0.2724 -0.10379 C -0.28333 -0.13245 -0.26892 -0.09754 -0.28576 -0.12736 C -0.30434 -0.16019 -0.27587 -0.11951 -0.29687 -0.14817 C -0.3 -0.16042 -0.3125 -0.18076 -0.3125 -0.18076 C -0.31736 -0.20134 -0.325 -0.21937 -0.33021 -0.23994 C -0.33472 -0.25751 -0.33055 -0.25127 -0.33472 -0.27531 C -0.33559 -0.28039 -0.33889 -0.28478 -0.33906 -0.2901 C -0.34028 -0.32963 -0.33906 -0.36893 -0.33906 -0.40846 E">
                                      <p:cBhvr>
                                        <p:cTn id="258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6:54:54Z</dcterms:created>
  <dc:creator>user</dc:creator>
  <dc:description/>
  <dc:language>en-US</dc:language>
  <cp:lastModifiedBy>Customer</cp:lastModifiedBy>
  <dcterms:modified xsi:type="dcterms:W3CDTF">2010-10-18T09:15:40Z</dcterms:modified>
  <cp:revision>18</cp:revision>
  <dc:subject/>
  <dc:title>Слайд 1</dc:title>
</cp:coreProperties>
</file>