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13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780-4D47-415A-A24F-DC6857CB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8B7-BC45-4CC9-9F3F-BCF540B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217-86B5-4EA6-A1EF-5980768E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85E-81C2-40DF-81AB-7639E696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0D0-DA80-4D3D-A735-18F9F167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735-F3EA-489E-8579-12093D45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F74-DF99-4F7A-B4CA-127E045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217-9349-4412-992E-1DA2D45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CCC-837E-4602-99A9-55A79AD4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442-681A-4238-BB29-373706F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204-E727-4E70-B2B1-158B05A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376-376D-4952-9906-0E72203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27A-CD25-4FFE-8D31-FF4AF659CE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92929"/>
                </a:solidFill>
                <a:latin typeface="Calibri"/>
              </a:rPr>
              <a:t>Развитие  гибкости у девушек 8-х классов</a:t>
            </a:r>
            <a:br>
              <a:rPr sz="5400"/>
            </a:br>
            <a:r>
              <a:rPr b="1" i="1" lang="en-US" sz="2000" spc="-1" strike="noStrike">
                <a:solidFill>
                  <a:srgbClr val="292929"/>
                </a:solidFill>
                <a:latin typeface="Calibri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705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ученица 8 а класс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МБОУ «СОШ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Фёдор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Руководител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                                                                               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Романова И.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                                       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учител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                                                                   </a:t>
            </a:r>
            <a:r>
              <a:rPr b="1" lang="en-US" sz="1200" spc="-1" strike="noStrike">
                <a:solidFill>
                  <a:srgbClr val="292929"/>
                </a:solidFill>
                <a:latin typeface="Calibri"/>
              </a:rPr>
              <a:t>физической культуры</a:t>
            </a: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шпагат12"/>
          <p:cNvPicPr/>
          <p:nvPr/>
        </p:nvPicPr>
        <p:blipFill>
          <a:blip r:embed="rId1"/>
          <a:stretch/>
        </p:blipFill>
        <p:spPr>
          <a:xfrm rot="20584200">
            <a:off x="380520" y="3047760"/>
            <a:ext cx="3581640" cy="238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5" descr="шпагат9"/>
          <p:cNvPicPr/>
          <p:nvPr/>
        </p:nvPicPr>
        <p:blipFill>
          <a:blip r:embed="rId2"/>
          <a:stretch/>
        </p:blipFill>
        <p:spPr>
          <a:xfrm rot="687600">
            <a:off x="3276720" y="3657600"/>
            <a:ext cx="257148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  «Складк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тягиваются мышцы внутренней поверхности бедер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ядьте на пол, ноги выпрямлены, спину держите ровно. Потянитесь к носкам и опустите корпус как можно ближе к полу. Задержитесь в этой позе на 10–15 секунд. Примите исходное полож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кладка с касаниями п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тягиваются мышцы внутренней поверхности бедер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станьте на левое колено, правую ногу поставьте перед собой на пятку, руки — на бедрах, спина прямая. Наклонитесь вперед и положите руки на пол. Задержитесь в этой позе на 10–15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Kebz4_lTdUE"/>
          <p:cNvPicPr/>
          <p:nvPr/>
        </p:nvPicPr>
        <p:blipFill>
          <a:blip r:embed="rId1"/>
          <a:stretch/>
        </p:blipFill>
        <p:spPr>
          <a:xfrm>
            <a:off x="762120" y="3352680"/>
            <a:ext cx="3333600" cy="24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10" descr="XUJCEhKgudk"/>
          <p:cNvPicPr/>
          <p:nvPr/>
        </p:nvPicPr>
        <p:blipFill>
          <a:blip r:embed="rId2"/>
          <a:stretch/>
        </p:blipFill>
        <p:spPr>
          <a:xfrm>
            <a:off x="4952880" y="228600"/>
            <a:ext cx="3333960" cy="250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5-конечная звезда 5"/>
          <p:cNvSpPr/>
          <p:nvPr/>
        </p:nvSpPr>
        <p:spPr>
          <a:xfrm>
            <a:off x="8077320" y="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-конечная звезда 6"/>
          <p:cNvSpPr/>
          <p:nvPr/>
        </p:nvSpPr>
        <p:spPr>
          <a:xfrm>
            <a:off x="4724280" y="23623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0520" y="228240"/>
            <a:ext cx="44960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Двойные скруч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ягиваются косые мышцы пресса, мышцы ног и бедер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ядьте на пол, ноги разведите широко. Согните левое колено и подтяните ступню к внутренней поверхности правого бедра. Положите правую руку на левое колено, левую руку согните в локте, ладонь положите на ухо.  Наклонитесь в правую сторону. Задержитесь в этой позе на 10-15 секун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Ooj9_AHZxfM"/>
          <p:cNvPicPr/>
          <p:nvPr/>
        </p:nvPicPr>
        <p:blipFill>
          <a:blip r:embed="rId1"/>
          <a:stretch/>
        </p:blipFill>
        <p:spPr>
          <a:xfrm>
            <a:off x="5592600" y="878040"/>
            <a:ext cx="2816280" cy="44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5-конечная звезда 3"/>
          <p:cNvSpPr/>
          <p:nvPr/>
        </p:nvSpPr>
        <p:spPr>
          <a:xfrm>
            <a:off x="8077320" y="533520"/>
            <a:ext cx="533160" cy="53316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4"/>
          <p:cNvSpPr/>
          <p:nvPr/>
        </p:nvSpPr>
        <p:spPr>
          <a:xfrm>
            <a:off x="541008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конечная звезда 5"/>
          <p:cNvSpPr/>
          <p:nvPr/>
        </p:nvSpPr>
        <p:spPr>
          <a:xfrm>
            <a:off x="8763120" y="609480"/>
            <a:ext cx="15228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400"/>
                </a:lnTo>
                <a:lnTo>
                  <a:pt x="76200" y="116422"/>
                </a:lnTo>
                <a:lnTo>
                  <a:pt x="29106" y="152400"/>
                </a:lnTo>
                <a:lnTo>
                  <a:pt x="47095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конечная звезда 6"/>
          <p:cNvSpPr/>
          <p:nvPr/>
        </p:nvSpPr>
        <p:spPr>
          <a:xfrm>
            <a:off x="8534520" y="1219320"/>
            <a:ext cx="152280" cy="15228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400"/>
                </a:lnTo>
                <a:lnTo>
                  <a:pt x="76200" y="116422"/>
                </a:lnTo>
                <a:lnTo>
                  <a:pt x="29106" y="152400"/>
                </a:lnTo>
                <a:lnTo>
                  <a:pt x="47095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конечная звезда 7"/>
          <p:cNvSpPr/>
          <p:nvPr/>
        </p:nvSpPr>
        <p:spPr>
          <a:xfrm>
            <a:off x="8610480" y="838080"/>
            <a:ext cx="76320" cy="7632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ёмы растяги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  Прием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инамического  растяги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этот  метод  основан  на  свойстве  мышц  растягиваться  значительно  больше  при  многократных  повторениях  упражнения  с  постепенным увеличением  размаха  движений.  Вначале  нужно  начинать  упражнение  с  небольшой  амплитудой,  а  к  8-12  повторению  увеличить  до  пре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  Прием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атического  растяги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зависит  от  величины  растягивания  и  его  продолжительности.  После  расслабления  нужно  выполнить  растягивание  и  удерживать  его  от  10-15 секунд  до  нескольких  минут.  В  этом  приеме  лучше  использовать  упражнения  из  й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cf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40840" cy="323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1\Desktop\гимнастика\DSC_0245.JPG"/>
          <p:cNvPicPr/>
          <p:nvPr/>
        </p:nvPicPr>
        <p:blipFill>
          <a:blip r:embed="rId2"/>
          <a:stretch/>
        </p:blipFill>
        <p:spPr>
          <a:xfrm>
            <a:off x="484200" y="3657600"/>
            <a:ext cx="18162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4" descr="C:\Users\1\Desktop\гимнастика\DSC_0156.JPG"/>
          <p:cNvPicPr/>
          <p:nvPr/>
        </p:nvPicPr>
        <p:blipFill>
          <a:blip r:embed="rId3"/>
          <a:stretch/>
        </p:blipFill>
        <p:spPr>
          <a:xfrm>
            <a:off x="2590920" y="3700440"/>
            <a:ext cx="407664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1\Desktop\гимнастика\DSC_0233.JPG"/>
          <p:cNvPicPr/>
          <p:nvPr/>
        </p:nvPicPr>
        <p:blipFill>
          <a:blip r:embed="rId4"/>
          <a:stretch/>
        </p:blipFill>
        <p:spPr>
          <a:xfrm>
            <a:off x="7010280" y="3657600"/>
            <a:ext cx="178596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579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езультаты 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95280"/>
            <a:ext cx="5029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ле  трёхнедельных  занятий  участники  снова  выполнили  тесты  на  определение  гибкости.  Хорошие  результаты  увеличения  гибкости  были отмечены  у  девушек обеих групп.  После  второго  тестирования,  участники не  выполняли  упражнения  в  течении  3-х  недель   и  при  тестировании   определили,  что  результаты  развития  гибкости  у  девушек обеих групп ухудшились,  чем  после регулярных занятий  упражн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http://cs323816.vk.me/v323816826/6366/rP7eeQLSc8Y.jpg"/>
          <p:cNvPicPr/>
          <p:nvPr/>
        </p:nvPicPr>
        <p:blipFill>
          <a:blip r:embed="rId1"/>
          <a:stretch/>
        </p:blipFill>
        <p:spPr>
          <a:xfrm>
            <a:off x="5715000" y="1371600"/>
            <a:ext cx="2971800" cy="19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7" descr="http://cs323816.vk.me/v323816826/6370/_RIu2suATXg.jpg"/>
          <p:cNvPicPr/>
          <p:nvPr/>
        </p:nvPicPr>
        <p:blipFill>
          <a:blip r:embed="rId2"/>
          <a:stretch/>
        </p:blipFill>
        <p:spPr>
          <a:xfrm>
            <a:off x="5738760" y="3657600"/>
            <a:ext cx="294804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6c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При  этом  замере линейка  лежит  горизонтально  и  показатели  тоже  могут  быть  положительными  и  отрицательными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95280" y="1981080"/>
          <a:ext cx="6750000" cy="3335400"/>
        </p:xfrm>
        <a:graphic>
          <a:graphicData uri="http://schemas.openxmlformats.org/drawingml/2006/table">
            <a:tbl>
              <a:tblPr/>
              <a:tblGrid>
                <a:gridCol w="371520"/>
                <a:gridCol w="1149480"/>
                <a:gridCol w="1743120"/>
                <a:gridCol w="1743120"/>
                <a:gridCol w="1742760"/>
              </a:tblGrid>
              <a:tr h="301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ы тестирования в положении сидя, в 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нач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е паузы в 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авлова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обрик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ёдорова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опина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амсонова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Каширникова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Алексеева 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Стоя на скамейке, к которому вертикально приставлена линейка с сантиметровыми делениями, выполняет наклон вперед. Гибкость оценивается расстоянием от кончиков пальцев руки до опоры.</a:t>
            </a:r>
            <a:br>
              <a:rPr sz="18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79600" y="1828800"/>
          <a:ext cx="6445080" cy="3281400"/>
        </p:xfrm>
        <a:graphic>
          <a:graphicData uri="http://schemas.openxmlformats.org/drawingml/2006/table">
            <a:tbl>
              <a:tblPr/>
              <a:tblGrid>
                <a:gridCol w="353880"/>
                <a:gridCol w="1098720"/>
                <a:gridCol w="1663560"/>
                <a:gridCol w="1665360"/>
                <a:gridCol w="1663560"/>
              </a:tblGrid>
              <a:tr h="28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ы тестирования в положении стоя, в 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нач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е паузы в 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авлова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обрик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ёдорова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опина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амсонова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Каширникова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Алексеева 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7f1"/>
            </a:gs>
            <a:gs pos="100000">
              <a:srgbClr val="f9d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219320" y="1828800"/>
          <a:ext cx="6521400" cy="3259080"/>
        </p:xfrm>
        <a:graphic>
          <a:graphicData uri="http://schemas.openxmlformats.org/drawingml/2006/table">
            <a:tbl>
              <a:tblPr/>
              <a:tblGrid>
                <a:gridCol w="358560"/>
                <a:gridCol w="1111320"/>
                <a:gridCol w="1684440"/>
                <a:gridCol w="1682640"/>
                <a:gridCol w="1684440"/>
              </a:tblGrid>
              <a:tr h="295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ы тестирования в положении шпагата в 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нач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е паузы в 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влова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брик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ёдорова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пина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сонова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аширникова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лексеева 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285" descr="delaem-rastyazhku-ili-kak-bystro-sest-na-shpagat"/>
          <p:cNvPicPr/>
          <p:nvPr/>
        </p:nvPicPr>
        <p:blipFill>
          <a:blip r:embed="rId1"/>
          <a:stretch/>
        </p:blipFill>
        <p:spPr>
          <a:xfrm>
            <a:off x="6477120" y="5378400"/>
            <a:ext cx="2438280" cy="11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AutoShape 286"/>
          <p:cNvSpPr/>
          <p:nvPr/>
        </p:nvSpPr>
        <p:spPr>
          <a:xfrm>
            <a:off x="8153280" y="22860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89"/>
          <p:cNvSpPr/>
          <p:nvPr/>
        </p:nvSpPr>
        <p:spPr>
          <a:xfrm>
            <a:off x="8534520" y="1522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90"/>
          <p:cNvSpPr/>
          <p:nvPr/>
        </p:nvSpPr>
        <p:spPr>
          <a:xfrm>
            <a:off x="8686800" y="3808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2"/>
          <p:cNvSpPr/>
          <p:nvPr/>
        </p:nvSpPr>
        <p:spPr>
          <a:xfrm>
            <a:off x="838080" y="380880"/>
            <a:ext cx="693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очки, которые достигли цели эксперимента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1818"/>
                </a:solidFill>
                <a:latin typeface="Arial"/>
              </a:rPr>
              <a:t>Бобрик Алёна, Топина Елизавета, Самсонова Дарья, Фёдоров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3"/>
          <p:cNvSpPr/>
          <p:nvPr/>
        </p:nvSpPr>
        <p:spPr>
          <a:xfrm>
            <a:off x="1371600" y="49356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4"/>
          <p:cNvSpPr/>
          <p:nvPr/>
        </p:nvSpPr>
        <p:spPr>
          <a:xfrm>
            <a:off x="280368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320" y="261720"/>
            <a:ext cx="5790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способность  выполнять  упражнения  с  большей  амплитудой  развита  больше  у девушек, выполняющих регулярно упражнения на развитие гибкости. Выполнить шпагат можно за три недели при ежедневных занятиях специально подобранных упражнений на  растяжку и гибкость. Однако  сохранять  гибкость   у  девушек можно  только  при  регулярных занятиях  физическими  упражн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cs323816.vk.me/v323816826/63ac/d1wZsUTJyxM.jpg"/>
          <p:cNvPicPr/>
          <p:nvPr/>
        </p:nvPicPr>
        <p:blipFill>
          <a:blip r:embed="rId2"/>
          <a:stretch/>
        </p:blipFill>
        <p:spPr>
          <a:xfrm>
            <a:off x="6019920" y="228600"/>
            <a:ext cx="2770200" cy="415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7" descr="http://cs323816.vk.me/v323816826/63d4/soA8borE6Nk.jpg"/>
          <p:cNvPicPr/>
          <p:nvPr/>
        </p:nvPicPr>
        <p:blipFill>
          <a:blip r:embed="rId3"/>
          <a:stretch/>
        </p:blipFill>
        <p:spPr>
          <a:xfrm>
            <a:off x="5943600" y="4572000"/>
            <a:ext cx="2819520" cy="18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5" descr="C:\Users\1\Desktop\гимнастика\DSC_0227.JPG"/>
          <p:cNvPicPr/>
          <p:nvPr/>
        </p:nvPicPr>
        <p:blipFill>
          <a:blip r:embed="rId4"/>
          <a:stretch/>
        </p:blipFill>
        <p:spPr>
          <a:xfrm>
            <a:off x="533520" y="3025800"/>
            <a:ext cx="5181480" cy="34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828440"/>
            <a:ext cx="5105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еловеческие возмо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икогда не были измерен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можем мы о них судить и п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ыту – ведь испробовано т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ло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Генри Тор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шпагат16"/>
          <p:cNvPicPr/>
          <p:nvPr/>
        </p:nvPicPr>
        <p:blipFill>
          <a:blip r:embed="rId1"/>
          <a:stretch/>
        </p:blipFill>
        <p:spPr>
          <a:xfrm>
            <a:off x="5370480" y="566640"/>
            <a:ext cx="368784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1.А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это одно из главных физических качеств человека. Недостаточная гибкость приводит к нарушениям в осанке, возникновению остеохондроза, отложению солей, изменениям в походке. Недостаточная гибкость   может   привести   к  травме. Гибкость  характеризуется степенью подвижности звеньев опорно-двигательного аппарата и способностью выполнять движения с большой амплитудой.   Считается,  что это физическое качество необходимо развивать с самого раннего детства и систематичес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cs323816.vk.me/v323816826/6460/74FDAOosMNY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728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9" descr="http://cs323816.vk.me/v323816826/6384/yUuCG--sBCo.jpg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198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2. Цель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 возможности  развивать  гибкость  в  подростковом  возрасте, с помощью специальных упражнений выполнить шпаг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ШПАГАТ"/>
          <p:cNvPicPr/>
          <p:nvPr/>
        </p:nvPicPr>
        <p:blipFill>
          <a:blip r:embed="rId2"/>
          <a:stretch/>
        </p:blipFill>
        <p:spPr>
          <a:xfrm>
            <a:off x="4419720" y="4191120"/>
            <a:ext cx="3911400" cy="241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6" descr="128"/>
          <p:cNvPicPr/>
          <p:nvPr/>
        </p:nvPicPr>
        <p:blipFill>
          <a:blip r:embed="rId3"/>
          <a:stretch/>
        </p:blipFill>
        <p:spPr>
          <a:xfrm>
            <a:off x="685800" y="4267080"/>
            <a:ext cx="333360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cc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3. Зада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делить  способы  развития  гибк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Сравнить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озмож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развития  гибкости  у девушек, которые регулярно занимаются специальными упражнениями на гибкость и девушек, которые  не занимаются физической культурой и  выполняют специальные упражнения на гибкость только в ходе эксперимента. Предполагаем,  что  гибкость  должна  лучше  развиваться  у  девушек, которые занимаются систематически упражнениями на растяжку и за короткий промежуток времени выполнят шпаг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ибкость - это  подвижность  во  всех  суставах,  которая  позволяет выполнять  разнообразные  движения  с  большой  амплитуд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Гибкость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ая со стрелкой 9" descr=""/>
          <p:cNvPicPr/>
          <p:nvPr/>
        </p:nvPicPr>
        <p:blipFill>
          <a:blip r:embed="rId1"/>
          <a:stretch/>
        </p:blipFill>
        <p:spPr>
          <a:xfrm>
            <a:off x="4718160" y="212724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ая со стрелкой 11" descr=""/>
          <p:cNvPicPr/>
          <p:nvPr/>
        </p:nvPicPr>
        <p:blipFill>
          <a:blip r:embed="rId2"/>
          <a:stretch/>
        </p:blipFill>
        <p:spPr>
          <a:xfrm>
            <a:off x="3017880" y="210348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2"/>
          <p:cNvSpPr/>
          <p:nvPr/>
        </p:nvSpPr>
        <p:spPr>
          <a:xfrm>
            <a:off x="609480" y="335268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ая гибкос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арактеризует подвижность во всех суставах тела и позволяет    выполнять разнообразные движения с большой амплиту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5029200" y="327672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пециальная гибкос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предельная подвижность в отдельных суставах, определяющая эффективность  спортивной  или  профессионально 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124440" cy="413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Прямоугольник 4"/>
          <p:cNvSpPr/>
          <p:nvPr/>
        </p:nvSpPr>
        <p:spPr>
          <a:xfrm rot="716400">
            <a:off x="4000680" y="747720"/>
            <a:ext cx="452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честве средств развития гибкости используют упражнения, которые можно выполнять с максимальной амплитудой. Их иначе называют упражнениями на растягивание. Это преимущественно гимнастические упражнения, избирательно воздействующие на звенья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 rot="750000">
            <a:off x="4317840" y="32792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обно тому как гибкость делят на активную и пассивную, так и среди упражнений на растягивание различают активные и пассивные. Активные движения с полной амплитудой (махи руками и ногами, рывки, наклоны и вращательные движения туловищем) можно выполнять без предметов и с предме­тами (гимнастические палки, обручи, мячи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ec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равила растя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16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ять наш комплекс можно как самостоятельно, так и в качестве заминки после кардио или силовой тренировки. Чтобы упражнения были максимально эффективными, старайтесь придерживаться этих рекомендаций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ять стретчинг-упражнения лучше утром. Также спокойные упражнения очень хороши для тех, кто не настроен на интенсивные занятия сразу после пробужд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йте упражнения плавно, в спокойном темпе. Ориентируйтесь на собственные ощущения: задерживаясь в нижней точке на 10–15 секунд, вы должны чувствовать умеренное напряжение мышц, но никак не режущую бо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упражнениями разомните мышцы: выполните приседания и махи ногами, вращайте стопами, бедрами. Это поможет предотвратить растяжение при резком движе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улучшить тонус бедер, вечером, когда принимаете душ, массируйте ноги и ягодицы массажной мочалкой — массаж, как ни странно, также способствует достижению заветной цели — улучшению растяжки внутренней поверхности беде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особы  развития  гибк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ьный полушпага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ягиваются мышцы спины и внутренней поверхности бед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ядьте на пол, ноги разведите как можно шире, руками упритесь в пол, кисти рук — на одной линии с плечами. Наклонитесь вперед и постарайтесь положить предплечья на пол (если вам тяжело, просто наклонитесь вперед. Старайтесь не прогибать поясницу, удерживайте равновесие). Задержитесь в этой позе на 10–15 секунд. Примите исходное полож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zwWW8GI_T58"/>
          <p:cNvPicPr/>
          <p:nvPr/>
        </p:nvPicPr>
        <p:blipFill>
          <a:blip r:embed="rId2"/>
          <a:stretch/>
        </p:blipFill>
        <p:spPr>
          <a:xfrm rot="601800">
            <a:off x="5409720" y="1752480"/>
            <a:ext cx="3333960" cy="24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7" descr="ANd9GcR9hMluE24WRK2mLx_kr6J0uU9XS-l2nDJXQ1nA9J5oHefnltpE"/>
          <p:cNvPicPr/>
          <p:nvPr/>
        </p:nvPicPr>
        <p:blipFill>
          <a:blip r:embed="rId3"/>
          <a:stretch/>
        </p:blipFill>
        <p:spPr>
          <a:xfrm rot="21031800">
            <a:off x="4800240" y="4190760"/>
            <a:ext cx="2971800" cy="221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er8</cp:lastModifiedBy>
  <dcterms:modified xsi:type="dcterms:W3CDTF">2013-05-17T08:57:1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