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FAD7-8F90-419E-BD35-0697D83D8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4662-8DE2-4CE1-94A7-F52B4787D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финансов, французский викон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Moreau de Seych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AAC-2F38-4250-8B79-734A257F5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2F3-6BA7-4E0A-B7EC-554B5ADE9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DCA-D9E2-4568-8A93-F9B6BB4D2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nickname in French like “Pays des Mille Colli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BAD0-4E82-4499-9F6A-CCC93A6A0B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lly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0EA-6150-4107-8DEA-79F1525F1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e B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512-6EB7-41D5-87F4-864370931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40A4-754E-4D7E-B09E-8811A96A2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F82A-7E58-4A3F-B098-419536EAB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анда-красав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B249-C87C-4BD0-B494-55C178DAB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BC70-0668-4DEC-B8B1-9AC85A5E3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C17-A7D4-4908-8E9C-3E1030D0A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паха 170 лет, 304 кг. В Книге рекордов Гин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538E-8584-4226-B3E9-5F8694CA5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6B6-604A-4FBB-A448-54436239C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5D2-18E8-4573-9EA1-D94DA708D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51F-01BD-4848-AEB5-EB99F0869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939-91F9-4CDB-903E-C22816BFF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кум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CCD-08F1-4455-8C5A-7726CB90D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2A7-BED4-4A73-A3B9-3D6631018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dea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FE6-98B0-4AC6-ADA8-84870FBEF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ADC-2F3E-4952-A179-B18B4CCDF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FD06-5DAE-43F8-AAFC-2CF27C1B5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ddyup Std"/>
              </a:rPr>
              <a:t>Central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F74-F9E2-4892-A7E9-9601A493F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ysh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D866-48E4-4B3D-B4E4-AAF060FCA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CC3-9D44-43E3-A57E-104626974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9FEB-2B1A-413F-84A7-80362630D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08AE-52BA-4BD3-8E88-925729845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озный празд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6FF-8373-4045-AC00-4E0E9F0A4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ние вер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92E4-34A9-4007-BF43-9F1A21267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ddyup Std"/>
              </a:rPr>
              <a:t>O Cameroon, Cradle of our Forefathers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62CC-E0E4-4002-BBF6-55F3B43AB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uss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CC9-E5B7-40EA-BF9F-017261B32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482E-6B06-4C70-8270-FB3314030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401B-6BC1-497F-A547-45F08F1A6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B476-ABB8-4BC2-A9C2-C1249F91B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ый та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F738-3B38-4071-BA48-A73A52241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D6FF-3D45-4621-9E7B-8EAB71D9D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5057-B43E-4316-A9DD-EAA66BA27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e the name of population VANYARU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031-81BE-413E-99A4-6E6D3238B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668-1F38-4F98-B121-68BBEC92D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C9D-9C4D-43FC-AC4C-1E3FD48FA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ntry of shri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8CEF-77B2-4A3F-A011-4FDB56F80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1B2-8FB5-46DC-88CA-96EDA72F1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97C-16AF-4062-8555-F43BC8E13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62CC-30AB-4891-8180-55C108ABB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7DD3-7654-4B19-AE9D-586AD9336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-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A759-9FFA-40F0-BB3D-45A71988B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61BF-2591-41E7-A56A-94EF31647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A85-07F6-4892-8260-65A32EBF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189-9782-4BF6-8018-891E911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E5F-9437-44E6-84F4-95B14A2A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882-BE1A-4EDE-879D-26A181CB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E1C-D8A0-4B34-A026-458B116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628-3FD4-48E8-ACE8-6378BD4B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3C7-2331-46DE-88DC-5032C779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C85-E5C7-47E6-8311-B8278B7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A44-3587-404E-9D2A-2732EA3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1BE-6818-4CF8-B187-AE2A790E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ABA-4FB3-458F-9DC4-29D8641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965-E4A4-4376-A2E2-D1E9E5F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C74E-2A76-41A9-BB34-07BFB8453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сическая иг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учащихся 7-8 кла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Гусиная иг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– Черевкова Еле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iddyup Std"/>
              </a:rPr>
              <a:t>By the name of whom were the Seychel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iddyup Std"/>
              </a:rPr>
              <a:t>What antelope, found only in Cameroon, causes men to spend thousands of dollars just to go to Cameroon to hunt 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iddyup Std"/>
              </a:rPr>
              <a:t>Chevalle, Bongo, Titi, Reeb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"/>
          <p:cNvPicPr/>
          <p:nvPr/>
        </p:nvPicPr>
        <p:blipFill>
          <a:blip r:embed="rId1"/>
          <a:stretch/>
        </p:blipFill>
        <p:spPr>
          <a:xfrm>
            <a:off x="900000" y="1197000"/>
            <a:ext cx="77774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Giddyup Std"/>
              </a:rPr>
              <a:t>             </a:t>
            </a: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66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iddyup Std"/>
              </a:rPr>
              <a:t>What is Ruanda’s nickname?</a:t>
            </a:r>
            <a:r>
              <a:rPr b="1" lang="en-US" sz="7200" spc="-1" strike="noStrike">
                <a:solidFill>
                  <a:srgbClr val="000066"/>
                </a:solidFill>
                <a:latin typeface="Giddyup St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181440" y="1557360"/>
            <a:ext cx="932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iddyup Std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Giddyup Std"/>
              </a:rPr>
              <a:t>Complete the l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Giddyup Std"/>
              </a:rPr>
              <a:t>of cinema studi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Giddyup Std"/>
              </a:rPr>
              <a:t>with the Nigerian one – Hollywood, Bollywood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2268"/>
                </a:solidFill>
                <a:latin typeface="Giddyup Std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8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Giddyup Std"/>
              </a:rPr>
              <a:t>What is the Seychelles twin o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Giddyup Std"/>
              </a:rPr>
              <a:t>MONT BLANC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Giddyup Std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iddyup Std"/>
              </a:rPr>
              <a:t>Benoue National Park is famous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iddyup Std"/>
              </a:rPr>
              <a:t> </a:t>
            </a:r>
            <a:r>
              <a:rPr b="1" lang="en-US" sz="4400" spc="-1" strike="noStrike">
                <a:solidFill>
                  <a:srgbClr val="00ff00"/>
                </a:solidFill>
                <a:latin typeface="Giddyup Std"/>
              </a:rPr>
              <a:t>what large animal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eb2"/>
          <p:cNvPicPr/>
          <p:nvPr/>
        </p:nvPicPr>
        <p:blipFill>
          <a:blip r:embed="rId1"/>
          <a:stretch/>
        </p:blipFill>
        <p:spPr>
          <a:xfrm>
            <a:off x="1403280" y="0"/>
            <a:ext cx="6624720" cy="521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702720" y="4434480"/>
            <a:ext cx="78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ddyup Std"/>
              </a:rPr>
              <a:t>Quand on est en bonne </a:t>
            </a:r>
            <a:r>
              <a:rPr b="1" lang="en-US" sz="4000" spc="-1" strike="noStrike">
                <a:solidFill>
                  <a:srgbClr val="ffffff"/>
                </a:solidFill>
                <a:latin typeface="Giddyup Std"/>
              </a:rPr>
              <a:t>santé</a:t>
            </a:r>
            <a:r>
              <a:rPr b="1" lang="en-US" sz="4000" spc="-1" strike="noStrike">
                <a:solidFill>
                  <a:srgbClr val="000000"/>
                </a:solidFill>
                <a:latin typeface="Giddyup Std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ddyup Std"/>
              </a:rPr>
              <a:t>on ne va pas chez le docteur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iddyup Std"/>
              </a:rPr>
              <a:t>Which country hymn is it? What does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iddyup Std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Giddyup Std"/>
              </a:rPr>
              <a:t>"Rwanda nziza" mean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29248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iddyup Std"/>
              </a:rPr>
              <a:t>Moya-Moya – is this a traditional Nigerian dish, drin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iddyup Std"/>
              </a:rPr>
              <a:t> </a:t>
            </a:r>
            <a:r>
              <a:rPr b="1" lang="en-US" sz="4400" spc="-1" strike="noStrike">
                <a:solidFill>
                  <a:srgbClr val="ff6600"/>
                </a:solidFill>
                <a:latin typeface="Giddyup Std"/>
              </a:rPr>
              <a:t>or the name of one of the Nigerian trib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547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2268"/>
                </a:solidFill>
                <a:latin typeface="Giddyup Std"/>
              </a:rPr>
              <a:t>Jeu de l’o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22268"/>
                </a:solidFill>
                <a:latin typeface="Giddyup Std"/>
              </a:rPr>
              <a:t>Game of the goo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Who is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Seychelles’ Esmirald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and what is she famous f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00ff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Giddyup Std"/>
              </a:rPr>
              <a:t>When did Cameroon become independent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65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iddyup Std"/>
              </a:rPr>
              <a:t>Raffia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iddyup Std"/>
              </a:rPr>
              <a:t>a type of boat, ho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iddyup Std"/>
              </a:rPr>
              <a:t>or a pal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Which holiday is unimaginable without a carnival in Nigeria: Christmas, Hallowe’e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or the Independence 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What do these words mean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: </a:t>
            </a: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Sungalo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, </a:t>
            </a: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Brodaco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Cader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, </a:t>
            </a: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Kussupa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ddyup Std"/>
              </a:rPr>
              <a:t>What is the name of the </a:t>
            </a:r>
            <a:r>
              <a:rPr b="1" lang="en-US" sz="4000" spc="-1" strike="noStrike">
                <a:solidFill>
                  <a:srgbClr val="ff6600"/>
                </a:solidFill>
                <a:latin typeface="Giddyup Std"/>
              </a:rPr>
              <a:t>Cameroon national soccer team?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Giddyup Std"/>
              </a:rPr>
              <a:t>Indomitable Lions, Kumbo </a:t>
            </a:r>
            <a:r>
              <a:rPr b="1" lang="en-US" sz="4000" spc="-1" strike="noStrike">
                <a:solidFill>
                  <a:srgbClr val="000066"/>
                </a:solidFill>
                <a:latin typeface="Giddyup Std"/>
              </a:rPr>
              <a:t>Strikers,  Screaming Eagles, </a:t>
            </a:r>
            <a:r>
              <a:rPr b="1" lang="en-US" sz="40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Giddyup Std"/>
              </a:rPr>
              <a:t>Free Boys</a:t>
            </a:r>
            <a:r>
              <a:rPr b="1" lang="ru-RU" sz="4000" spc="-1" strike="noStrike">
                <a:solidFill>
                  <a:srgbClr val="000066"/>
                </a:solidFill>
                <a:latin typeface="Giddyup St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eb3"/>
          <p:cNvPicPr/>
          <p:nvPr/>
        </p:nvPicPr>
        <p:blipFill>
          <a:blip r:embed="rId1"/>
          <a:stretch/>
        </p:blipFill>
        <p:spPr>
          <a:xfrm>
            <a:off x="2268360" y="1052640"/>
            <a:ext cx="4896000" cy="363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947160" y="4726440"/>
            <a:ext cx="793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Giddyup Std"/>
              </a:rPr>
              <a:t>Un </a:t>
            </a:r>
            <a:r>
              <a:rPr b="1" lang="fr-FR" sz="4000" spc="-1" strike="noStrike">
                <a:solidFill>
                  <a:srgbClr val="ffffff"/>
                </a:solidFill>
                <a:latin typeface="Giddyup Std"/>
              </a:rPr>
              <a:t>rideau </a:t>
            </a:r>
            <a:r>
              <a:rPr b="1" lang="fr-FR" sz="4000" spc="-1" strike="noStrike">
                <a:solidFill>
                  <a:srgbClr val="000000"/>
                </a:solidFill>
                <a:latin typeface="Giddyup Std"/>
              </a:rPr>
              <a:t>décore une fenêtre.</a:t>
            </a:r>
            <a:r>
              <a:rPr b="1" lang="ru-RU" sz="4000" spc="-1" strike="noStrike">
                <a:solidFill>
                  <a:srgbClr val="000000"/>
                </a:solidFill>
                <a:latin typeface="Giddyup St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Giddyup Std"/>
              </a:rPr>
              <a:t>Continue the sentence: “Ruanda is famous for…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Giddyup Std"/>
              </a:rPr>
              <a:t>What unites Russia 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Giddyup Std"/>
              </a:rPr>
              <a:t>and Nigeri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2268"/>
                </a:solidFill>
                <a:latin typeface="Giddyup Std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iddyup Std"/>
              </a:rPr>
              <a:t>Where is Ruanda situated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What is the favourite pirates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’ </a:t>
            </a: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shelter</a:t>
            </a:r>
            <a:r>
              <a:rPr b="1" lang="ru-RU" sz="4800" spc="-1" strike="noStrike">
                <a:solidFill>
                  <a:srgbClr val="000000"/>
                </a:solidFill>
                <a:latin typeface="Giddyup Std"/>
              </a:rPr>
              <a:t>?</a:t>
            </a:r>
            <a:r>
              <a:rPr b="1" lang="ru-RU" sz="4800" spc="-1" strike="noStrike">
                <a:solidFill>
                  <a:srgbClr val="ffffff"/>
                </a:solidFill>
                <a:latin typeface="Giddyup Std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iddyup Std"/>
              </a:rPr>
              <a:t>Nigeria, Ruanda,</a:t>
            </a: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Giddyup Std"/>
              </a:rPr>
              <a:t>Seyshelles or Cameroun?</a:t>
            </a: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Do you know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Giddyup Std"/>
              </a:rPr>
              <a:t>which country</a:t>
            </a:r>
            <a:r>
              <a:rPr b="1" lang="en-US" sz="4800" spc="-1" strike="noStrike">
                <a:solidFill>
                  <a:srgbClr val="ffffff"/>
                </a:solidFill>
                <a:latin typeface="Giddyup Std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iddyup Std"/>
              </a:rPr>
              <a:t>in </a:t>
            </a:r>
            <a:r>
              <a:rPr b="1" lang="en-US" sz="4800" spc="-1" strike="noStrike">
                <a:solidFill>
                  <a:srgbClr val="ff0000"/>
                </a:solidFill>
                <a:latin typeface="Giddyup Std"/>
              </a:rPr>
              <a:t>African continent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Giddyup Std"/>
              </a:rPr>
              <a:t>is called as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Giddyup Std"/>
              </a:rPr>
              <a:t>“Africa in miniature”?</a:t>
            </a:r>
            <a:r>
              <a:rPr b="1" lang="en-US" sz="7200" spc="-1" strike="noStrike">
                <a:solidFill>
                  <a:srgbClr val="ff0000"/>
                </a:solidFill>
                <a:latin typeface="Giddyup St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427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3"/>
          <p:cNvPicPr/>
          <p:nvPr/>
        </p:nvPicPr>
        <p:blipFill>
          <a:blip r:embed="rId1"/>
          <a:stretch/>
        </p:blipFill>
        <p:spPr>
          <a:xfrm>
            <a:off x="611280" y="1290600"/>
            <a:ext cx="79930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iddyup Std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Giddyup Std"/>
              </a:rPr>
              <a:t>What do the words </a:t>
            </a:r>
            <a:br>
              <a:rPr sz="6000"/>
            </a:br>
            <a:r>
              <a:rPr b="1" lang="en-US" sz="6000" spc="-1" strike="noStrike">
                <a:solidFill>
                  <a:srgbClr val="ff6600"/>
                </a:solidFill>
                <a:latin typeface="Giddyup Std"/>
              </a:rPr>
              <a:t>“hutu, tutsy and hva” mea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iddyup Std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Id Ul-Fitr – is this</a:t>
            </a:r>
            <a:r>
              <a:rPr b="1" lang="en-US" sz="4400" spc="-1" strike="noStrike">
                <a:solidFill>
                  <a:srgbClr val="ffffff"/>
                </a:solidFill>
                <a:latin typeface="Giddyup St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Giddyup Std"/>
              </a:rPr>
              <a:t>the name of the biggest Nigerian mountain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the name of the longest river</a:t>
            </a:r>
            <a:r>
              <a:rPr b="1" lang="en-US" sz="4400" spc="-1" strike="noStrike">
                <a:solidFill>
                  <a:srgbClr val="ffffff"/>
                </a:solidFill>
                <a:latin typeface="Giddyup St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Giddyup Std"/>
              </a:rPr>
              <a:t>or the religious holi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iddyup Std"/>
              </a:rPr>
              <a:t>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9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ddyup Std"/>
              </a:rPr>
              <a:t>Les trois frères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iddyup Std"/>
              </a:rPr>
              <a:t>is the name of the most famous Seychellian fairy tale, song,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iddyup Std"/>
              </a:rPr>
              <a:t>famous creol taver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iddyup Std"/>
              </a:rPr>
              <a:t>or the name of the highest m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252720" y="134136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ddyup Std"/>
              </a:rPr>
              <a:t>What is the </a:t>
            </a: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national </a:t>
            </a:r>
            <a:r>
              <a:rPr b="1" lang="en-US" sz="4400" spc="-1" strike="noStrike">
                <a:solidFill>
                  <a:srgbClr val="ffffff"/>
                </a:solidFill>
                <a:latin typeface="Giddyup Std"/>
              </a:rPr>
              <a:t>anthem of Cameroon?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Giddyup Std"/>
              </a:rPr>
              <a:t>“O Cameroon, Cradle of our</a:t>
            </a: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 Forefath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ddyup Std"/>
              </a:rPr>
              <a:t>      </a:t>
            </a:r>
            <a:r>
              <a:rPr b="1" lang="en-US" sz="4400" spc="-1" strike="noStrike">
                <a:solidFill>
                  <a:srgbClr val="333399"/>
                </a:solidFill>
                <a:latin typeface="Giddyup Std"/>
              </a:rPr>
              <a:t>"O Land of Our Birth"</a:t>
            </a:r>
            <a:r>
              <a:rPr b="1" lang="ru-RU" sz="4400" spc="-1" strike="noStrike">
                <a:solidFill>
                  <a:srgbClr val="ffffff"/>
                </a:solidFill>
                <a:latin typeface="Giddyup St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eb5"/>
          <p:cNvPicPr/>
          <p:nvPr/>
        </p:nvPicPr>
        <p:blipFill>
          <a:blip r:embed="rId1"/>
          <a:stretch/>
        </p:blipFill>
        <p:spPr>
          <a:xfrm>
            <a:off x="1476360" y="692280"/>
            <a:ext cx="5905440" cy="4133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50929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iddyup Std"/>
              </a:rPr>
              <a:t>Une </a:t>
            </a:r>
            <a:r>
              <a:rPr b="1" lang="fr-FR" sz="2800" spc="-1" strike="noStrike">
                <a:solidFill>
                  <a:srgbClr val="ffffff"/>
                </a:solidFill>
                <a:latin typeface="Giddyup Std"/>
              </a:rPr>
              <a:t>chaussette</a:t>
            </a:r>
            <a:r>
              <a:rPr b="1" lang="fr-FR" sz="2800" spc="-1" strike="noStrike">
                <a:solidFill>
                  <a:srgbClr val="000000"/>
                </a:solidFill>
                <a:latin typeface="Giddyup Std"/>
              </a:rPr>
              <a:t>, c'est fait pour avoir chaud au pied.</a:t>
            </a:r>
            <a:r>
              <a:rPr b="1" lang="ru-RU" sz="2800" spc="-1" strike="noStrike">
                <a:solidFill>
                  <a:srgbClr val="000000"/>
                </a:solidFill>
                <a:latin typeface="Giddyup St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Giddyup Std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iddyup Std"/>
              </a:rPr>
              <a:t>WATU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Giddyup Std"/>
              </a:rPr>
              <a:t>is the word in suahilli, try</a:t>
            </a: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 to translate it in Eng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Giddyup Std"/>
              </a:rPr>
              <a:t>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iddyup Std"/>
              </a:rPr>
              <a:t>The colony of which country was Nigeri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99"/>
                </a:solidFill>
                <a:latin typeface="Giddyup Std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9999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Giddyup Std"/>
              </a:rPr>
              <a:t>Which country has two horses with an eagle at the head on its coat of arm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ddyup Std"/>
              </a:rPr>
              <a:t>4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iddyup Std"/>
              </a:rPr>
              <a:t>Moutia i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the typique dance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the element of the traditional Seychelles cloth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or the traditional Seychelles musical instru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7030a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Giddyup Std"/>
              </a:rPr>
              <a:t>What material </a:t>
            </a:r>
            <a:br>
              <a:rPr sz="4800"/>
            </a:br>
            <a:r>
              <a:rPr b="1" lang="en-US" sz="4800" spc="-1" strike="noStrike">
                <a:solidFill>
                  <a:srgbClr val="7030a0"/>
                </a:solidFill>
                <a:latin typeface="Giddyup Std"/>
              </a:rPr>
              <a:t>is often used </a:t>
            </a:r>
            <a:br>
              <a:rPr sz="4800"/>
            </a:br>
            <a:r>
              <a:rPr b="1" lang="en-US" sz="4800" spc="-1" strike="noStrike">
                <a:solidFill>
                  <a:srgbClr val="7030a0"/>
                </a:solidFill>
                <a:latin typeface="Giddyup Std"/>
              </a:rPr>
              <a:t>to make houses in Cameroon?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900000" y="1413000"/>
            <a:ext cx="77756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030a0"/>
                </a:solidFill>
                <a:latin typeface="Giddyup Std"/>
              </a:rPr>
              <a:t>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iddyup Std"/>
              </a:rPr>
              <a:t>What did the word</a:t>
            </a:r>
            <a:r>
              <a:rPr b="1" lang="ru-RU" sz="6600" spc="-1" strike="noStrike">
                <a:solidFill>
                  <a:srgbClr val="000000"/>
                </a:solidFill>
                <a:latin typeface="Giddyup Std"/>
              </a:rPr>
              <a:t>     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Giddyup Std"/>
              </a:rPr>
              <a:t>RUANDA</a:t>
            </a:r>
            <a:r>
              <a:rPr b="1" lang="en-US" sz="6600" spc="-1" strike="noStrike">
                <a:solidFill>
                  <a:srgbClr val="ffffff"/>
                </a:solidFill>
                <a:latin typeface="Giddyup Std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Giddyup Std"/>
              </a:rPr>
              <a:t>come from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Giddyup Std"/>
              </a:rPr>
              <a:t>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c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Giddyup Std"/>
              </a:rPr>
              <a:t>Gele</a:t>
            </a:r>
            <a:r>
              <a:rPr b="1" lang="en-US" sz="4400" spc="-1" strike="noStrike">
                <a:solidFill>
                  <a:srgbClr val="c00000"/>
                </a:solidFill>
                <a:latin typeface="Giddyup St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Giddyup Std"/>
              </a:rPr>
              <a:t>is this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Giddyup Std"/>
              </a:rPr>
              <a:t>the traditional dress,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Giddyup Std"/>
              </a:rPr>
              <a:t>hat drink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Giddyup Std"/>
              </a:rPr>
              <a:t>or dessert of Nigeria</a:t>
            </a:r>
            <a:r>
              <a:rPr b="1" lang="en-US" sz="4400" spc="-1" strike="noStrike">
                <a:solidFill>
                  <a:srgbClr val="ffffff"/>
                </a:solidFill>
                <a:latin typeface="Giddyup Std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The well-known wor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Giddyup Std"/>
              </a:rPr>
              <a:t>“bonhomme”</a:t>
            </a: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has a different mean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in the Seychelles?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What is i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Giddyup Std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ddyup Std"/>
              </a:rPr>
              <a:t>How </a:t>
            </a:r>
            <a:r>
              <a:rPr b="1" lang="en-US" sz="4000" spc="-1" strike="noStrike">
                <a:solidFill>
                  <a:srgbClr val="00b050"/>
                </a:solidFill>
                <a:latin typeface="Giddyup Std"/>
              </a:rPr>
              <a:t>can the word Cameroon be translated in Portuguese? </a:t>
            </a:r>
            <a:br>
              <a:rPr sz="4000"/>
            </a:br>
            <a:r>
              <a:rPr b="1" i="1" lang="en-US" sz="4000" spc="-1" strike="noStrike">
                <a:solidFill>
                  <a:srgbClr val="00b050"/>
                </a:solidFill>
                <a:latin typeface="Giddyup Std"/>
              </a:rPr>
              <a:t>The country of clay, the country of fish,  the country of mussels, the country of shrimps, </a:t>
            </a:r>
            <a:br>
              <a:rPr sz="4000"/>
            </a:br>
            <a:r>
              <a:rPr b="1" i="1" lang="en-US" sz="4000" spc="-1" strike="noStrike">
                <a:solidFill>
                  <a:srgbClr val="00b050"/>
                </a:solidFill>
                <a:latin typeface="Giddyup Std"/>
              </a:rPr>
              <a:t>the country of flowers</a:t>
            </a:r>
            <a:r>
              <a:rPr b="1" lang="en-US" sz="4000" spc="-1" strike="noStrike">
                <a:solidFill>
                  <a:srgbClr val="00b050"/>
                </a:solidFill>
                <a:latin typeface="Giddyup St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iddyup Std"/>
              </a:rPr>
              <a:t>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reb6"/>
          <p:cNvPicPr/>
          <p:nvPr/>
        </p:nvPicPr>
        <p:blipFill>
          <a:blip r:embed="rId1"/>
          <a:stretch/>
        </p:blipFill>
        <p:spPr>
          <a:xfrm>
            <a:off x="1187280" y="765000"/>
            <a:ext cx="6913800" cy="4253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39640" y="451404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Giddyup Std"/>
              </a:rPr>
              <a:t>En classe, le professeur écrit sur un </a:t>
            </a:r>
            <a:r>
              <a:rPr b="1" lang="fr-FR" sz="4000" spc="-1" strike="noStrike">
                <a:solidFill>
                  <a:srgbClr val="ffffff"/>
                </a:solidFill>
                <a:latin typeface="Giddyup Std"/>
              </a:rPr>
              <a:t>tableau</a:t>
            </a:r>
            <a:r>
              <a:rPr b="1" lang="ru-RU" sz="4000" spc="-1" strike="noStrike">
                <a:solidFill>
                  <a:srgbClr val="ffffff"/>
                </a:solidFill>
                <a:latin typeface="Giddyup St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Giddyup Std"/>
              </a:rPr>
              <a:t>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2401"/>
              </a:spcBef>
              <a:buClr>
                <a:srgbClr val="ffff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Giddyup Std"/>
              </a:rPr>
              <a:t>Arrivé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Giddyup Std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buClr>
                <a:srgbClr val="ff66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iddyup Std"/>
              </a:rPr>
              <a:t>What is calle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iddyup Std"/>
              </a:rPr>
              <a:t>the CORAL pearl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iddyup Std"/>
              </a:rPr>
              <a:t>in Seychelles?</a:t>
            </a:r>
            <a:r>
              <a:rPr b="1" lang="en-US" sz="7200" spc="-1" strike="noStrike">
                <a:solidFill>
                  <a:srgbClr val="660066"/>
                </a:solidFill>
                <a:latin typeface="Giddyup St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iddyup Std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iddyup Std"/>
              </a:rPr>
              <a:t>How many region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iddyup Std"/>
              </a:rPr>
              <a:t>are there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iddyup Std"/>
              </a:rPr>
              <a:t>Cameroon?</a:t>
            </a:r>
            <a:r>
              <a:rPr b="1" lang="ru-RU" sz="6000" spc="-1" strike="noStrike">
                <a:solidFill>
                  <a:srgbClr val="ff0000"/>
                </a:solidFill>
                <a:latin typeface="Giddyup St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Giddyup Std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reb1"/>
          <p:cNvPicPr/>
          <p:nvPr/>
        </p:nvPicPr>
        <p:blipFill>
          <a:blip r:embed="rId1"/>
          <a:stretch/>
        </p:blipFill>
        <p:spPr>
          <a:xfrm>
            <a:off x="1692360" y="1413000"/>
            <a:ext cx="5184720" cy="357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179280" y="393948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2070"/>
                </a:solidFill>
                <a:latin typeface="Giddyup Std"/>
                <a:ea typeface="Times New Roman"/>
              </a:rPr>
              <a:t>un petit animal avec de longues oreilles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Giddyup Std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iddyup Std"/>
              </a:rPr>
              <a:t>Do you believe that Ruanda has g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iddyup Std"/>
              </a:rPr>
              <a:t>3 official languag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iddyup Std"/>
              </a:rPr>
              <a:t>English, French and Ruanda?</a:t>
            </a:r>
            <a:r>
              <a:rPr b="1" lang="en-US" sz="4000" spc="-1" strike="noStrike">
                <a:solidFill>
                  <a:srgbClr val="000000"/>
                </a:solidFill>
                <a:latin typeface="Giddyup St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iddyup Std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222268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Giddyup Std"/>
              </a:rPr>
              <a:t>Which country has a traditional wedding custom for the bride to put on some weigh or she will be sent back to her</a:t>
            </a:r>
            <a:r>
              <a:rPr b="1" lang="en-US" sz="6600" spc="-1" strike="noStrike">
                <a:solidFill>
                  <a:srgbClr val="222268"/>
                </a:solidFill>
                <a:latin typeface="Giddyup Std"/>
              </a:rPr>
              <a:t> </a:t>
            </a:r>
            <a:r>
              <a:rPr b="1" lang="en-US" sz="4000" spc="-1" strike="noStrike">
                <a:solidFill>
                  <a:srgbClr val="222268"/>
                </a:solidFill>
                <a:latin typeface="Giddyup Std"/>
              </a:rPr>
              <a:t>parents</a:t>
            </a:r>
            <a:r>
              <a:rPr b="1" lang="en-US" sz="4000" spc="-1" strike="noStrike">
                <a:solidFill>
                  <a:srgbClr val="ffffff"/>
                </a:solidFill>
                <a:latin typeface="Giddyup Std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01:42Z</dcterms:created>
  <dc:creator>777</dc:creator>
  <dc:description/>
  <dc:language>en-US</dc:language>
  <cp:lastModifiedBy>User</cp:lastModifiedBy>
  <dcterms:modified xsi:type="dcterms:W3CDTF">2013-10-05T08:35:17Z</dcterms:modified>
  <cp:revision>16</cp:revision>
  <dc:subject/>
  <dc:title>Jeu de l’oie</dc:title>
</cp:coreProperties>
</file>