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A3C0-AFD8-46E7-B72A-BD165E82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89D-DEA3-4E65-B4A3-875111E3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2435-EE6C-40D9-A961-190A2D96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87CD-EB98-4B66-B056-C08EF0E7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E9BD-2F1A-478E-BFE8-20CC192B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C172-EEC7-4C52-BCD6-18FB0EEC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D57A-C405-4F10-A691-5EC832BC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3F18-11DC-4E81-B5FB-F0057986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7449-898E-46E0-B126-8765A390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4B7B-13B6-4899-873A-6E4AB21D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9021-0B2A-48DC-9DD7-296981CD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A2D-6D68-4DFA-8044-8B1D9C87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796F-5E8D-44E9-A8BF-8DA09FEE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9248-2371-43E1-A75C-388650DE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D847-2783-4CA2-958A-2C13A4F6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B7E2-2850-4DFC-9F10-62BE411C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99A1-E5BF-400B-8078-481B7B7B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89345-064F-4CDC-9104-D261EA7E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9F55E-6455-46FD-B656-4BA556BE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4F98A-366C-484F-A10F-80BE98EF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8CFAE-9266-4030-8576-24F111DE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592DE-B904-42BB-9D6E-CA3FBE92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E870-179F-43D3-9F38-3526DB6A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09FAA-5D2D-4A29-831A-197F239F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9424D-864C-4C0E-AAD4-B8E557D2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0AAFE-F377-493D-9DCA-923E4305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A5C63-DEBD-4398-8AD8-1E82D369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75B86-A8EE-42D9-B503-5D5E3437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0233B-B938-469D-B6DE-B18C3B70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4E555-7260-4DBB-A484-CB3D290D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AA443-3613-4D5D-AC8D-BE711E1A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2E4BA-C3AD-4668-8E52-BD040EC1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5C89E-6583-4487-B4EE-9639B735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EC37-9DA5-4B39-A18E-69C75F29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7F6F1-9A8B-442D-967D-CD34DCB3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56158-DF2B-427C-8323-E5082DE3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FC43F-B888-44AC-85D8-41629C59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59E5B-833E-4D74-B797-370AB144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CAB49-A6BC-4020-B90A-926AC771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21E59-482C-4801-973D-4E81F75A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774D9-374E-40AE-AB37-2B7A6459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E6A4F-ABDA-4C27-9BAB-0428BE7A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53B9F-C53B-4ACF-9C2A-0F0CCDA6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FAD0C-F600-4B7E-9304-D9ABAF4F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18A-1526-4F6C-A4DB-D7B2426B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43F15-6FD0-4BEF-80D1-7FB9B121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D7899-4FE6-494A-A468-6718AE6D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23A5B-00BF-43A4-A232-E03A72B3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75692-A464-473E-81A8-87901814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82841-D197-41BF-AA93-B94929A0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E2779-ECAC-4FBB-80F2-3C6CFD9B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4BCB6-813E-4093-93D8-849A4368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2004C-37B0-4C21-B6E5-446CC92C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4BE2D-A22D-47F1-90D4-B53C9756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54E24-3994-4EBB-B69C-6EBA56F8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AC97-C8B2-4EA9-A2AE-02982F47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5935B-009E-4BA8-8398-B9B9ABF8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E4E0A-5A4A-4849-B0B4-820B6135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A37BE-9789-44BE-8AF0-03D15859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C4EAF-CA9A-4618-94BA-3C9430F1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F0694-F4BD-4BB9-9055-72A34CDD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87E31-CFBE-4C6B-9275-2ACDE042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2104D-1C2D-41CE-A2C0-41F33CED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90D2B-795A-4F2F-A54B-E189652B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B3F03-9928-40EC-8737-574DD3F0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1320F-D9A3-45E3-AA80-DD4B2E7F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BDE7-EC81-4003-9AC6-68FFA064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1AA33-C040-4D5C-A278-6C3921E7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ED527-4EA4-468B-B629-E618FF4D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EF546-39A0-4951-A6F7-AC7EF108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4673-AE3F-4175-9446-3BC16FF2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604-1CD1-4B30-A1BF-64B4E48D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401760"/>
            <a:ext cx="8686800" cy="109836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166240" y="996840"/>
            <a:ext cx="977760" cy="89532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1782720" y="0"/>
            <a:ext cx="1947960" cy="53964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0"/>
            <a:ext cx="2432160" cy="5396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D76B-7CD1-48FE-8EF5-22CD7A4B49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8210520" y="2789280"/>
            <a:ext cx="933480" cy="10047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2130480"/>
            <a:ext cx="8458200" cy="91440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495520" y="0"/>
            <a:ext cx="1711440" cy="235908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0"/>
            <a:ext cx="2789280" cy="2359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2B38-0A9E-4883-9502-A225A3158E7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8210520" y="2789280"/>
            <a:ext cx="933480" cy="10047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2130480"/>
            <a:ext cx="8458200" cy="91440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495520" y="0"/>
            <a:ext cx="1711440" cy="235908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2789280" cy="267012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21B0-57A6-4510-B506-6F476885FC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5bc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0"/>
            <a:ext cx="9144000" cy="301680"/>
          </a:xfrm>
          <a:prstGeom prst="rect">
            <a:avLst/>
          </a:prstGeom>
          <a:solidFill>
            <a:srgbClr val="cc9ea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0"/>
            <a:ext cx="2432160" cy="5302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27040" y="0"/>
            <a:ext cx="1571760" cy="43812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DE7E-ADCE-415A-AB85-B33D6B8819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5bc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0" y="0"/>
            <a:ext cx="9144000" cy="301680"/>
          </a:xfrm>
          <a:prstGeom prst="rect">
            <a:avLst/>
          </a:prstGeom>
          <a:solidFill>
            <a:srgbClr val="cc9ea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0" y="0"/>
            <a:ext cx="301680" cy="6858000"/>
          </a:xfrm>
          <a:prstGeom prst="rect">
            <a:avLst/>
          </a:prstGeom>
          <a:solidFill>
            <a:srgbClr val="9bbb5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0" y="0"/>
            <a:ext cx="2432160" cy="5302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1427040" y="0"/>
            <a:ext cx="1571760" cy="43812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8842320" y="0"/>
            <a:ext cx="301680" cy="6858000"/>
          </a:xfrm>
          <a:prstGeom prst="rect">
            <a:avLst/>
          </a:prstGeom>
          <a:solidFill>
            <a:srgbClr val="9bbb5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0916-4918-4C3D-9317-7AD051A711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 rot="5400000">
            <a:off x="4571280" y="2349720"/>
            <a:ext cx="6519960" cy="181116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6553080" y="6135840"/>
            <a:ext cx="987480" cy="7221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8605800" y="1379520"/>
            <a:ext cx="539640" cy="146196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8604360" y="0"/>
            <a:ext cx="539640" cy="182880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97FA-EA0E-4B79-8E8A-7CB23F6A3F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Прямоугольник 3" descr=""/>
          <p:cNvPicPr/>
          <p:nvPr/>
        </p:nvPicPr>
        <p:blipFill>
          <a:blip r:embed="rId1"/>
          <a:stretch/>
        </p:blipFill>
        <p:spPr>
          <a:xfrm>
            <a:off x="3121200" y="3608280"/>
            <a:ext cx="3017520" cy="1146240"/>
          </a:xfrm>
          <a:prstGeom prst="rect">
            <a:avLst/>
          </a:prstGeom>
          <a:ln w="0">
            <a:noFill/>
          </a:ln>
        </p:spPr>
      </p:pic>
      <p:pic>
        <p:nvPicPr>
          <p:cNvPr id="273" name="Прямоугольник 4" descr=""/>
          <p:cNvPicPr/>
          <p:nvPr/>
        </p:nvPicPr>
        <p:blipFill>
          <a:blip r:embed="rId2"/>
          <a:stretch/>
        </p:blipFill>
        <p:spPr>
          <a:xfrm>
            <a:off x="5834160" y="5230800"/>
            <a:ext cx="1285920" cy="1150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C:\Program Files\Microsoft Office\MEDIA\CAGCAT10\j0301252.wmf"/>
          <p:cNvPicPr/>
          <p:nvPr/>
        </p:nvPicPr>
        <p:blipFill>
          <a:blip r:embed="rId3"/>
          <a:stretch/>
        </p:blipFill>
        <p:spPr>
          <a:xfrm>
            <a:off x="500040" y="3143160"/>
            <a:ext cx="1897200" cy="16225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C:\Program Files\Microsoft Office\MEDIA\CAGCAT10\j0285750.wmf"/>
          <p:cNvPicPr/>
          <p:nvPr/>
        </p:nvPicPr>
        <p:blipFill>
          <a:blip r:embed="rId4"/>
          <a:stretch/>
        </p:blipFill>
        <p:spPr>
          <a:xfrm>
            <a:off x="1000080" y="5214960"/>
            <a:ext cx="1890720" cy="1162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C:\Program Files\Microsoft Office\MEDIA\CAGCAT10\j0196400.wmf"/>
          <p:cNvPicPr/>
          <p:nvPr/>
        </p:nvPicPr>
        <p:blipFill>
          <a:blip r:embed="rId5"/>
          <a:stretch/>
        </p:blipFill>
        <p:spPr>
          <a:xfrm>
            <a:off x="7143840" y="1428840"/>
            <a:ext cx="1757160" cy="18795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C:\Program Files\Microsoft Office\MEDIA\CAGCAT10\j0300520.gif"/>
          <p:cNvPicPr/>
          <p:nvPr/>
        </p:nvPicPr>
        <p:blipFill>
          <a:blip r:embed="rId6"/>
          <a:stretch/>
        </p:blipFill>
        <p:spPr>
          <a:xfrm>
            <a:off x="7429680" y="5357880"/>
            <a:ext cx="1487160" cy="1279440"/>
          </a:xfrm>
          <a:prstGeom prst="rect">
            <a:avLst/>
          </a:prstGeom>
          <a:ln w="0">
            <a:noFill/>
          </a:ln>
        </p:spPr>
      </p:pic>
      <p:sp>
        <p:nvSpPr>
          <p:cNvPr id="278" name="TextBox 9"/>
          <p:cNvSpPr/>
          <p:nvPr/>
        </p:nvSpPr>
        <p:spPr>
          <a:xfrm>
            <a:off x="1081440" y="71424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4+6=4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4670280" y="714240"/>
            <a:ext cx="184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56</a:t>
            </a:r>
            <a:r>
              <a:rPr b="0" lang="en-US" sz="4800" spc="-1" strike="noStrike">
                <a:solidFill>
                  <a:srgbClr val="000000"/>
                </a:solidFill>
                <a:latin typeface="Tw Cen MT"/>
              </a:rPr>
              <a:t>&lt;7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Прямоугольник 12" descr=""/>
          <p:cNvPicPr/>
          <p:nvPr/>
        </p:nvPicPr>
        <p:blipFill>
          <a:blip r:embed="rId7"/>
          <a:stretch/>
        </p:blipFill>
        <p:spPr>
          <a:xfrm>
            <a:off x="165240" y="1566720"/>
            <a:ext cx="7192800" cy="1146240"/>
          </a:xfrm>
          <a:prstGeom prst="rect">
            <a:avLst/>
          </a:prstGeom>
          <a:ln w="0">
            <a:noFill/>
          </a:ln>
        </p:spPr>
      </p:pic>
      <p:sp>
        <p:nvSpPr>
          <p:cNvPr id="281" name="TextBox 13"/>
          <p:cNvSpPr/>
          <p:nvPr/>
        </p:nvSpPr>
        <p:spPr>
          <a:xfrm>
            <a:off x="6279120" y="4071960"/>
            <a:ext cx="221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w Cen MT"/>
              </a:rPr>
              <a:t>Hell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Прямоугольник 3" descr=""/>
          <p:cNvPicPr/>
          <p:nvPr/>
        </p:nvPicPr>
        <p:blipFill>
          <a:blip r:embed="rId1"/>
          <a:stretch/>
        </p:blipFill>
        <p:spPr>
          <a:xfrm>
            <a:off x="6192720" y="822240"/>
            <a:ext cx="3017880" cy="1146240"/>
          </a:xfrm>
          <a:prstGeom prst="rect">
            <a:avLst/>
          </a:prstGeom>
          <a:ln w="0">
            <a:noFill/>
          </a:ln>
        </p:spPr>
      </p:pic>
      <p:pic>
        <p:nvPicPr>
          <p:cNvPr id="283" name="Прямоугольник 4" descr=""/>
          <p:cNvPicPr/>
          <p:nvPr/>
        </p:nvPicPr>
        <p:blipFill>
          <a:blip r:embed="rId2"/>
          <a:stretch/>
        </p:blipFill>
        <p:spPr>
          <a:xfrm>
            <a:off x="6192720" y="1805040"/>
            <a:ext cx="1287720" cy="1150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C:\Program Files\Microsoft Office\MEDIA\CAGCAT10\j0301252.wmf"/>
          <p:cNvPicPr/>
          <p:nvPr/>
        </p:nvPicPr>
        <p:blipFill>
          <a:blip r:embed="rId3"/>
          <a:stretch/>
        </p:blipFill>
        <p:spPr>
          <a:xfrm>
            <a:off x="1143000" y="5235480"/>
            <a:ext cx="1897200" cy="1622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C:\Program Files\Microsoft Office\MEDIA\CAGCAT10\j0285750.wmf"/>
          <p:cNvPicPr/>
          <p:nvPr/>
        </p:nvPicPr>
        <p:blipFill>
          <a:blip r:embed="rId4"/>
          <a:stretch/>
        </p:blipFill>
        <p:spPr>
          <a:xfrm>
            <a:off x="3429000" y="5500800"/>
            <a:ext cx="1890720" cy="11620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C:\Program Files\Microsoft Office\MEDIA\CAGCAT10\j0196400.wmf"/>
          <p:cNvPicPr/>
          <p:nvPr/>
        </p:nvPicPr>
        <p:blipFill>
          <a:blip r:embed="rId5"/>
          <a:stretch/>
        </p:blipFill>
        <p:spPr>
          <a:xfrm>
            <a:off x="5357880" y="5214960"/>
            <a:ext cx="1757160" cy="1879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C:\Program Files\Microsoft Office\MEDIA\CAGCAT10\j0300520.gif"/>
          <p:cNvPicPr/>
          <p:nvPr/>
        </p:nvPicPr>
        <p:blipFill>
          <a:blip r:embed="rId6"/>
          <a:stretch/>
        </p:blipFill>
        <p:spPr>
          <a:xfrm>
            <a:off x="7429680" y="5357880"/>
            <a:ext cx="1487160" cy="1279440"/>
          </a:xfrm>
          <a:prstGeom prst="rect">
            <a:avLst/>
          </a:prstGeom>
          <a:ln w="0">
            <a:noFill/>
          </a:ln>
        </p:spPr>
      </p:pic>
      <p:sp>
        <p:nvSpPr>
          <p:cNvPr id="288" name="TextBox 9"/>
          <p:cNvSpPr/>
          <p:nvPr/>
        </p:nvSpPr>
        <p:spPr>
          <a:xfrm>
            <a:off x="9720" y="50004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4+6=4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10"/>
          <p:cNvSpPr/>
          <p:nvPr/>
        </p:nvSpPr>
        <p:spPr>
          <a:xfrm>
            <a:off x="26640" y="1143000"/>
            <a:ext cx="184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56</a:t>
            </a:r>
            <a:r>
              <a:rPr b="0" lang="en-US" sz="4800" spc="-1" strike="noStrike">
                <a:solidFill>
                  <a:srgbClr val="000000"/>
                </a:solidFill>
                <a:latin typeface="Tw Cen MT"/>
              </a:rPr>
              <a:t>&lt;7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1"/>
          <p:cNvSpPr/>
          <p:nvPr/>
        </p:nvSpPr>
        <p:spPr>
          <a:xfrm>
            <a:off x="1080" y="3071880"/>
            <a:ext cx="2055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w Cen MT"/>
              </a:rPr>
              <a:t>34 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Прямоугольник 12" descr=""/>
          <p:cNvPicPr/>
          <p:nvPr/>
        </p:nvPicPr>
        <p:blipFill>
          <a:blip r:embed="rId7"/>
          <a:stretch/>
        </p:blipFill>
        <p:spPr>
          <a:xfrm>
            <a:off x="2298600" y="-212760"/>
            <a:ext cx="7193160" cy="11397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13"/>
          <p:cNvSpPr/>
          <p:nvPr/>
        </p:nvSpPr>
        <p:spPr>
          <a:xfrm>
            <a:off x="4421520" y="1143000"/>
            <a:ext cx="221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w Cen MT"/>
              </a:rPr>
              <a:t>Hell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Прямоугольник 14" descr=""/>
          <p:cNvPicPr/>
          <p:nvPr/>
        </p:nvPicPr>
        <p:blipFill>
          <a:blip r:embed="rId8"/>
          <a:stretch/>
        </p:blipFill>
        <p:spPr>
          <a:xfrm>
            <a:off x="-396720" y="1884240"/>
            <a:ext cx="275580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1" descr="Oct30111"/>
          <p:cNvPicPr/>
          <p:nvPr/>
        </p:nvPicPr>
        <p:blipFill>
          <a:blip r:embed="rId1"/>
          <a:stretch/>
        </p:blipFill>
        <p:spPr>
          <a:xfrm>
            <a:off x="1500120" y="642960"/>
            <a:ext cx="6153120" cy="2743200"/>
          </a:xfrm>
          <a:prstGeom prst="rect">
            <a:avLst/>
          </a:prstGeom>
          <a:ln w="0">
            <a:noFill/>
          </a:ln>
        </p:spPr>
      </p:pic>
      <p:sp>
        <p:nvSpPr>
          <p:cNvPr id="295" name="TextBox 2"/>
          <p:cNvSpPr/>
          <p:nvPr/>
        </p:nvSpPr>
        <p:spPr>
          <a:xfrm>
            <a:off x="739440" y="3500280"/>
            <a:ext cx="779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я зовут Кузякин Вася 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граматней пишу я в клас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ьшой любитель я парядка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ыбок нет в моих титрадках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2"/>
          <p:cNvSpPr/>
          <p:nvPr/>
        </p:nvSpPr>
        <p:spPr>
          <a:xfrm>
            <a:off x="746280" y="3500280"/>
            <a:ext cx="807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 зовут Кузякин Вася 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грамотней пишу я в класс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й любитель я порядка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ок нет в моих тетрадках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1500120" y="642960"/>
            <a:ext cx="6122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Прямоугольник 1" descr=""/>
          <p:cNvPicPr/>
          <p:nvPr/>
        </p:nvPicPr>
        <p:blipFill>
          <a:blip r:embed="rId1"/>
          <a:stretch/>
        </p:blipFill>
        <p:spPr>
          <a:xfrm>
            <a:off x="133200" y="2395440"/>
            <a:ext cx="88585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"/>
          <p:cNvPicPr/>
          <p:nvPr/>
        </p:nvPicPr>
        <p:blipFill>
          <a:blip r:embed="rId1"/>
          <a:srcRect l="12518" t="0" r="5135" b="0"/>
          <a:stretch/>
        </p:blipFill>
        <p:spPr>
          <a:xfrm>
            <a:off x="1785960" y="1143000"/>
            <a:ext cx="5286240" cy="52610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3"/>
          <p:cNvSpPr/>
          <p:nvPr/>
        </p:nvSpPr>
        <p:spPr>
          <a:xfrm>
            <a:off x="338040" y="644400"/>
            <a:ext cx="83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 1, 11, 6, 4, 6, 1, 11, 6, 4, 8, 10, 7, 6, 5, 2, 9, 12, 11, 6,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3:45:44Z</dcterms:created>
  <dc:creator>Светлана Пронькина</dc:creator>
  <dc:description/>
  <dc:language>en-US</dc:language>
  <cp:lastModifiedBy>Светлана Пронькина</cp:lastModifiedBy>
  <dcterms:modified xsi:type="dcterms:W3CDTF">2010-02-09T05:08:31Z</dcterms:modified>
  <cp:revision>9</cp:revision>
  <dc:subject/>
  <dc:title>Слайд 1</dc:title>
</cp:coreProperties>
</file>