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7AE-5604-4CC2-BC34-34234D63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91E-5476-4D58-BFC1-A03BFECF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EA3-ADF5-4DD3-B4AF-719BEA82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FA6-6104-41C1-9AD2-8E69185B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8648-0AE7-4C36-9CC6-FF828BDB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0097-8FDE-492B-95D1-FA1111FE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ED00-8D43-4751-9D12-C5673667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9F24-B721-490E-9DF7-0A3F9B0B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7CF1-A292-4144-BEB3-13092031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080F-935F-4B2C-A110-5F5A307D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3F4D-05E0-43C0-AB06-FB662B49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B5A-F19F-4BC9-8F5F-687ED97F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C75B-9F90-4B62-B837-CE61FE4F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0053-54FC-4E29-8E34-0B586E70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D3CA-39F0-475D-AF88-D3E109B9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FC29-2536-4065-94F9-70E0127B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C237-EBE1-4229-AC41-65CAC2B8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8C4A7-191B-44E7-98F6-4F6C27C5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D0D6E-0C80-4ED0-B64D-976EC7C4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CE8E1-4867-43E5-8805-A8319491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A6FB7-623D-42C8-B9E4-EB03C021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81B9E-1677-4ED5-9764-85AE16E2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F00-2CF6-4400-B3E9-820E1943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CBFD7-0BE7-4807-8776-8FB79A37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25332-FEF1-4D52-9E0E-547E1E02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62986-DF52-4C74-9D46-AE3BE020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93E18-F866-408C-A891-F4C83914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B4E37-D003-474E-82EC-7F477FC6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5C995-D49D-485E-A58B-371A795B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3EB87-3FE3-4185-BD6C-2FABEC6A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8255A-2822-4CAF-BAD3-8C0C71F1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986B-C37B-404F-8995-C853F9C5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46DEC-4601-4573-B59D-E0D7D238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3D7-9DE2-4981-929D-FD76D99D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FDFA2-4BF7-436B-8CD0-DAE327EF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6C5BD-823B-4AD7-9596-A78CF9E9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F27BC-0759-4528-A56C-55912882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D293A-8466-4F3C-A8AB-018927D5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344B5-1088-4E11-9834-54E2A63C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7F8DE-A42C-49A8-88DF-94B3A5B3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20889-9EC5-4B94-9A72-754DCD1F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34849-9430-437F-AFBB-A05E3A4F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4764A-F636-4BA3-A84C-B2768327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874-16D9-4CA1-97EC-0C725C65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B36-3021-4CD6-B40F-AB84C52E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CE8-8BBA-44CE-9F13-FCFD1C7F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2D6-C098-4510-97BE-A11D582F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FC2-7860-4146-A9A8-78D5356E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1F5B-1CAE-4CA0-96FF-8F0ADBE25A6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6528-9129-436A-B745-F630B27AF75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27A1-AA03-4753-BD62-8F4EACB0B10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34C1-0D5C-484C-82B7-AF1DCA4F82C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14480" y="78552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rebuchet MS"/>
              </a:rPr>
              <a:t>Компьютер –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rebuchet MS"/>
              </a:rPr>
              <a:t>друг или враг??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2986200" cy="2286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75617"/>
          <p:cNvPicPr/>
          <p:nvPr/>
        </p:nvPicPr>
        <p:blipFill>
          <a:blip r:embed="rId2"/>
          <a:stretch/>
        </p:blipFill>
        <p:spPr>
          <a:xfrm>
            <a:off x="2357280" y="2143080"/>
            <a:ext cx="542952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rebuchet MS"/>
              </a:rPr>
              <a:t>История создания компьюте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314280" y="1285920"/>
            <a:ext cx="85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623г. Первая «считающая машина», созданная Уильямом Шикардом. Это дово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громоздкий аппарат мог применять простые арифметические 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(сложение, вычитание) с 7-значными числ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928800" y="271476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463680" y="2643120"/>
            <a:ext cx="761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956г. В США создан первый компьютер на транзисторной основе и 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накопитель информации – прототип винчестера – жёсткий ди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5"/>
          <p:cNvSpPr/>
          <p:nvPr/>
        </p:nvSpPr>
        <p:spPr>
          <a:xfrm>
            <a:off x="509040" y="3500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960г.  разработали первый мод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513720" y="400068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963г.  изобретён манипулятор – «мы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7"/>
          <p:cNvSpPr/>
          <p:nvPr/>
        </p:nvSpPr>
        <p:spPr>
          <a:xfrm>
            <a:off x="509040" y="450072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990г. Рождение сети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500040" y="500076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999г. Выпуск новых процессоров Pentium II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334440" y="5556600"/>
            <a:ext cx="87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2000-2003 гг. Жёсткая конкурентная борьба между Intel и AMD, приведшая к созд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оцессоров с ужасающей скоростью 3200 МГц. Это привело и к росту операти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амяти, объёму жёстких дисков, видеокарт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4071960" cy="2705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106920" y="2858400"/>
            <a:ext cx="484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Calibri"/>
              </a:rPr>
              <a:t>Британский Colossus был использован для взло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Calibri"/>
              </a:rPr>
              <a:t>немецких шифров в ходе Второй мировой вой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3" descr=""/>
          <p:cNvPicPr/>
          <p:nvPr/>
        </p:nvPicPr>
        <p:blipFill>
          <a:blip r:embed="rId2"/>
          <a:stretch/>
        </p:blipFill>
        <p:spPr>
          <a:xfrm>
            <a:off x="6572160" y="357120"/>
            <a:ext cx="1714680" cy="15242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6433200" y="18572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196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5" descr=""/>
          <p:cNvPicPr/>
          <p:nvPr/>
        </p:nvPicPr>
        <p:blipFill>
          <a:blip r:embed="rId3"/>
          <a:stretch/>
        </p:blipFill>
        <p:spPr>
          <a:xfrm>
            <a:off x="428760" y="3571920"/>
            <a:ext cx="3357360" cy="19080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6"/>
          <p:cNvSpPr/>
          <p:nvPr/>
        </p:nvSpPr>
        <p:spPr>
          <a:xfrm>
            <a:off x="214200" y="60008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Арифмометр «Феликс»» — самый распространённый в СССР. Выпускался в 1929—1978 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7" descr=""/>
          <p:cNvPicPr/>
          <p:nvPr/>
        </p:nvPicPr>
        <p:blipFill>
          <a:blip r:embed="rId4"/>
          <a:stretch/>
        </p:blipFill>
        <p:spPr>
          <a:xfrm>
            <a:off x="5857920" y="2714760"/>
            <a:ext cx="2000160" cy="26668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8"/>
          <p:cNvSpPr/>
          <p:nvPr/>
        </p:nvSpPr>
        <p:spPr>
          <a:xfrm>
            <a:off x="4872240" y="5429160"/>
            <a:ext cx="425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фокарточная система музык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авто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214200" y="16473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Зависимость – это подчинённость другим людям, предметам, веществам, чужой во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чужой власти при отсутствии самостоятельности, своб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39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Зависимые люди, которые уходят от проблем, усугубляют их и наносят вред своему здоров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а так же благополучию окруж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2366640" y="50004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м хотелось б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857160" y="178596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Чтобы компьютер стал нашим помощником и другом, но при этом не вытеснял книгу, спорт, учебу и не портил наш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IMAGE1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42920" y="2000160"/>
          <a:ext cx="8501040" cy="4130640"/>
        </p:xfrm>
        <a:graphic>
          <a:graphicData uri="http://schemas.openxmlformats.org/drawingml/2006/table">
            <a:tbl>
              <a:tblPr/>
              <a:tblGrid>
                <a:gridCol w="4260960"/>
                <a:gridCol w="4240080"/>
              </a:tblGrid>
              <a:tr h="2811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др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вра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9480">
                <a:tc>
                  <a:txBody>
                    <a:bodyPr lIns="59760" rIns="59760" tIns="0" bIns="0" anchor="t">
                      <a:noAutofit/>
                    </a:bodyPr>
                    <a:p>
                      <a:pPr marL="266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>
                        <a:lnSpc>
                          <a:spcPct val="115000"/>
                        </a:lnSpc>
                        <a:buClr>
                          <a:srgbClr val="000066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работа на компьютере - игра, это интерес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>
                        <a:lnSpc>
                          <a:spcPct val="115000"/>
                        </a:lnSpc>
                        <a:buClr>
                          <a:srgbClr val="000066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Развивает мышление (рисунки, схемы, знак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>
                        <a:lnSpc>
                          <a:spcPct val="115000"/>
                        </a:lnSpc>
                        <a:buClr>
                          <a:srgbClr val="000066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Развивает память и внимание (яркие, запоминающиеся предметы, действ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>
                        <a:lnSpc>
                          <a:spcPct val="115000"/>
                        </a:lnSpc>
                        <a:buClr>
                          <a:srgbClr val="000066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Возможность общения со сверстни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>
                        <a:lnSpc>
                          <a:spcPct val="115000"/>
                        </a:lnSpc>
                        <a:buClr>
                          <a:srgbClr val="000066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Возможность продемонстрировать свою индивидуальность, хобби, тал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>
                        <a:lnSpc>
                          <a:spcPct val="115000"/>
                        </a:lnSpc>
                        <a:buClr>
                          <a:srgbClr val="000066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Развитие мелкой моторики р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>
                        <a:lnSpc>
                          <a:spcPct val="115000"/>
                        </a:lnSpc>
                        <a:buClr>
                          <a:srgbClr val="000066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Быстрый доступ к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>
                        <a:lnSpc>
                          <a:spcPct val="115000"/>
                        </a:lnSpc>
                        <a:buClr>
                          <a:srgbClr val="000066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Возможность дистанционно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1. Нагрузка на зрение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 2. Стесненная поз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 3. Излуч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4. Воздействие на психик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5. Вызывают агресс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6. сужение круга интере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7. уход от реа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8. Трата дене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2"/>
          <p:cNvSpPr/>
          <p:nvPr/>
        </p:nvSpPr>
        <p:spPr>
          <a:xfrm>
            <a:off x="1586520" y="9288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мпьютер –друг или враг??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правила пользования компьютером.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1218600"/>
            <a:ext cx="91440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Необходимо правильно организовать освещение компьютерного ст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Следите за исправностью монитора и чистотой экрана, так как грязь дает дополнительное иск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о подобранные стол и стул позволят соблюдать оптимальное расстояние от экрана до глаз (50-60 с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Не ставьте компьютерный стол так, чтобы  сидеть спиной к окну. Блики на экране способствуют утомлению гл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Наиболее вредной считается работа в Интернете. Ограничьтесь в э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Необходимо каждые 15-20 минут делать перерывы – давал глазам отдохнуть. Научитесь  делать зарядку для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Можно подобрать  специальные защитные очки для работы на компьют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57:06Z</dcterms:created>
  <dc:creator>Володя</dc:creator>
  <dc:description/>
  <dc:language>en-US</dc:language>
  <cp:lastModifiedBy>Людмила</cp:lastModifiedBy>
  <dcterms:modified xsi:type="dcterms:W3CDTF">2013-09-24T05:28:56Z</dcterms:modified>
  <cp:revision>15</cp:revision>
  <dc:subject/>
  <dc:title>Компьютер –  друг или враг???</dc:title>
</cp:coreProperties>
</file>