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8.png" ContentType="image/png"/>
  <Override PartName="/ppt/media/image6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10.jpeg" ContentType="image/jpeg"/>
  <Override PartName="/ppt/media/image42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5.jpeg" ContentType="image/jpeg"/>
  <Override PartName="/ppt/media/image11.jpeg" ContentType="image/jpeg"/>
  <Override PartName="/ppt/media/image24.png" ContentType="image/png"/>
  <Override PartName="/ppt/media/image29.png" ContentType="image/png"/>
  <Override PartName="/ppt/media/image18.jpeg" ContentType="image/jpeg"/>
  <Override PartName="/ppt/media/image61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57.png" ContentType="image/png"/>
  <Override PartName="/ppt/media/image60.jpeg" ContentType="image/jpeg"/>
  <Override PartName="/ppt/media/image30.png" ContentType="image/png"/>
  <Override PartName="/ppt/media/image16.jpeg" ContentType="image/jpeg"/>
  <Override PartName="/ppt/media/image15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9.png" ContentType="image/png"/>
  <Override PartName="/ppt/media/image39.png" ContentType="image/png"/>
  <Override PartName="/ppt/media/image5.png" ContentType="image/png"/>
  <Override PartName="/ppt/media/image43.jpeg" ContentType="image/jpeg"/>
  <Override PartName="/ppt/media/image28.png" ContentType="image/png"/>
  <Override PartName="/ppt/media/image33.png" ContentType="image/png"/>
  <Override PartName="/ppt/media/image54.jpeg" ContentType="image/jpeg"/>
  <Override PartName="/ppt/media/image31.png" ContentType="image/png"/>
  <Override PartName="/ppt/media/image36.png" ContentType="image/png"/>
  <Override PartName="/ppt/media/image41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13.png" ContentType="image/png"/>
  <Override PartName="/ppt/media/image52.jpeg" ContentType="image/jpeg"/>
  <Override PartName="/ppt/media/image23.png" ContentType="image/png"/>
  <Override PartName="/ppt/media/image5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5AE-7945-4948-BD89-1757B46F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544-C6E6-43EA-A049-6F1C7A96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36F-3B8C-4195-A5BC-EEFAE6F7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DA5-940E-4B45-AEB2-ED37A74F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8FD-A520-42AC-AA81-6773C08C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E64-CB97-4EF9-B230-81ECB180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3A3-847F-45A1-832B-4B00E2E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BBF-08E8-4756-8A62-87FCDC13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A28-9013-4B84-BFF4-EC115C3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96A-D42B-4980-88EB-3135BAD1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11A-FF2C-402B-B948-87E7F1C4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862-EA60-4ECD-82A7-253F75E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9D58-2861-44B3-BAE9-867C2F46D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5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hyperlink" Target="http://upload.wikimedia.org/wikipedia/commons/d/df/1903_ball_-_Orlova-Davydova.jpg" TargetMode="Externa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1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mc.spb.ru/allkonkurs/2007/EMC/Work/WWW.3/sc_261_skibina/proekt/2ris13.htm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www.emc.spb.ru/allkonkurs/2007/EMC/Work/WWW.3/sc_261_skibina/proekt/2ris15.htm" TargetMode="External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1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2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hyperlink" Target="http://upload.wikimedia.org/wikipedia/commons/9/9d/Alexandra_Feodorovna_white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ru/2/2a/Sarafan1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-203040"/>
            <a:ext cx="9223920" cy="7658280"/>
            <a:chOff x="179280" y="-203040"/>
            <a:chExt cx="9223920" cy="76582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79280" y="1268280"/>
              <a:ext cx="3888000" cy="43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 rot="2361600">
              <a:off x="7200720" y="260280"/>
              <a:ext cx="1942920" cy="13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 rot="2653200">
              <a:off x="5076360" y="4941720"/>
              <a:ext cx="14814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 rot="2114400">
              <a:off x="7380000" y="4941360"/>
              <a:ext cx="1527120" cy="22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 rot="2170800">
              <a:off x="2050560" y="5332320"/>
              <a:ext cx="2521080" cy="15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Sylfaen"/>
              </a:rPr>
              <a:t>Презентация урока рисования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Sylfaen"/>
              </a:rPr>
              <a:t> в 5 классе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565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2276640"/>
            <a:ext cx="6050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Sylfaen"/>
              </a:rPr>
              <a:t>«Красота русского</a:t>
            </a:r>
            <a:r>
              <a:rPr b="1" lang="en-US" sz="4000" spc="-1" strike="noStrike">
                <a:solidFill>
                  <a:srgbClr val="a50021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Sylfaen"/>
              </a:rPr>
              <a:t>костю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Sylfaen"/>
              </a:rPr>
              <a:t>Выполнение эскиза кокошн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1080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1080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36360" y="-27000"/>
            <a:ext cx="9180360" cy="2700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24000" y="476280"/>
            <a:ext cx="8568720" cy="6181920"/>
            <a:chOff x="324000" y="476280"/>
            <a:chExt cx="8568720" cy="6181920"/>
          </a:xfrm>
        </p:grpSpPr>
        <p:grpSp>
          <p:nvGrpSpPr>
            <p:cNvPr id="86" name=""/>
            <p:cNvGrpSpPr/>
            <p:nvPr/>
          </p:nvGrpSpPr>
          <p:grpSpPr>
            <a:xfrm>
              <a:off x="473040" y="476280"/>
              <a:ext cx="7813080" cy="5728320"/>
              <a:chOff x="473040" y="476280"/>
              <a:chExt cx="7813080" cy="5728320"/>
            </a:xfrm>
          </p:grpSpPr>
          <p:pic>
            <p:nvPicPr>
              <p:cNvPr id="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3040" y="542160"/>
                <a:ext cx="1522800" cy="233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75800" y="476280"/>
                <a:ext cx="1955520" cy="273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8560" y="476280"/>
                <a:ext cx="1807560" cy="273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3040" y="3539880"/>
                <a:ext cx="1498320" cy="266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09640" y="3408120"/>
                <a:ext cx="1679760" cy="273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430680" y="3539880"/>
                <a:ext cx="1793520" cy="246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324000" y="2835000"/>
              <a:ext cx="193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кокош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79320" y="3087720"/>
              <a:ext cx="253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вязка с платк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59400" y="3171240"/>
              <a:ext cx="253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«сорок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2920" y="62899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кич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3120" y="6204960"/>
              <a:ext cx="17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кокош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55920" y="6204960"/>
              <a:ext cx="13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кокош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2260800" y="4098240"/>
              <a:ext cx="102996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2186640" y="812160"/>
              <a:ext cx="102996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5613840" y="729000"/>
              <a:ext cx="102996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0"/>
            <a:stretch/>
          </p:blipFill>
          <p:spPr>
            <a:xfrm>
              <a:off x="5539680" y="4183920"/>
              <a:ext cx="1029960" cy="172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7451640" y="5157720"/>
            <a:ext cx="1657080" cy="1726920"/>
            <a:chOff x="7451640" y="5157720"/>
            <a:chExt cx="1657080" cy="17269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8120880" y="5879520"/>
              <a:ext cx="79020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451640" y="5861520"/>
              <a:ext cx="64548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8151480" y="5157720"/>
              <a:ext cx="957240" cy="68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401400"/>
            <a:ext cx="7769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lfaen"/>
              </a:rPr>
              <a:t>Толковый словарь: одежд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91520" cy="5759640"/>
          </a:xfrm>
          <a:prstGeom prst="rect">
            <a:avLst/>
          </a:prstGeom>
          <a:noFill/>
          <a:ln w="25560">
            <a:solidFill>
              <a:srgbClr val="cc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ylfaen"/>
              </a:rPr>
              <a:t>Пон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ычно род шерстяной юбки длиной до щиколоток, в простейшем случае распашной, т.е. с разрезом (несшитой) спереди или сбоку, в более совершенном виде — с прошвой, т.е. со вставкой в разрез куска иной ткани, например холщовой гладкой или с орнаментом. Понева, в отличие от сарафана, была элементом чисто народного костю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Sylfaen"/>
              </a:rPr>
              <a:t>Сараф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очные набивные сарафаны – особенность костюма Русского Севера, особенно Архангельской и Вологодской губерний. Крестьянки носили их и в будни, и в праздники. Изготавливались из всех возможных тканей, как домотканых, так и фабричных. Отличались разнообразнейшим декором. Термин «сарафан» впервые появился в русских источниках XIV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ylfaen"/>
              </a:rPr>
              <a:t>Душег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летней женской одежды. Конструктивной их особенностью были рукава, цельнокроенные с верхней частью спинки, и наличие отложного воротника. Праздничные душегреи вышивались золотыми нитями, иногда цветным бисером, декорировались бахр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ylfaen"/>
              </a:rPr>
              <a:t>Холо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откая одежда, конструктивно похожая на душегрею, изготавливалась из холста, сукна и также служила верхней женской летней одеж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7524720" y="5445000"/>
            <a:ext cx="1584360" cy="1368360"/>
            <a:chOff x="7524720" y="5445000"/>
            <a:chExt cx="1584360" cy="136836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8164440" y="6016680"/>
              <a:ext cx="75564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7524720" y="6002640"/>
              <a:ext cx="617040" cy="81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8193960" y="5445000"/>
              <a:ext cx="915120" cy="5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ylfaen"/>
              </a:rPr>
              <a:t>Толковый словарь: головные у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723960"/>
            <a:ext cx="8785440" cy="5702760"/>
          </a:xfrm>
          <a:prstGeom prst="rect">
            <a:avLst/>
          </a:prstGeom>
          <a:noFill/>
          <a:ln w="158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Sylfaen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Sylfaen"/>
              </a:rPr>
              <a:t>Обру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древесной коры или картона в виде круга, обшитого тканью, декорированного бисером, цветами, перьями, жемч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Sylfaen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Sylfaen"/>
              </a:rPr>
              <a:t>Перевя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алась из полоски ткани — парчи, золотой вышивки и т.п., а концы завязывались, иногда бантом, или из платка, свернутого и повязанного вокруг головы с завязанными и свисающими сзади кон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Sylfaen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Sylfaen"/>
              </a:rPr>
              <a:t>К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жняя часть кичкообразного головного убора, имевшая твердую основу, которая придавала головному убору форму. Кичка отличалась разнообразием и фантазийностью решения. Только по форме различают кички рогатые, копытообразные, лопатообразные, котелкообразные, в виде обруча, овала, полуов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Sylfaen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Sylfaen"/>
              </a:rPr>
              <a:t>Со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хняя украшенная часть кичкообразного головного убора, формой обычно связанная с формой кички. Сорока изготавливалась из ткани и, будучи натянута сверху на кичку, иногда скрывала ее рогатость. Сороку умела шить каждая крестья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51280" y="5630760"/>
            <a:ext cx="1341360" cy="1227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65920" y="5445000"/>
            <a:ext cx="2098800" cy="1224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КОКОШ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Кокошник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старинный, преимущественно северорусский, женский головной убор в виде разукрашенного щитка надо л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оварь русского языка С.И. Ожег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 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Кокошник»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старинный русский национальный головной убор замужних женщин. В 19 веке бытовал в крестьянской и купеческой среде, а в допетровской Руси – и в боярской среде. Кокошник носили крестьянки преимущественно северных великорусских областей главным образом в качестве свадебного и праздничного головного убора. Кокошник делали на твердой основе, сверху украшали парчой, позументом, бисером, бусами, вставкой из разноцветных стекол , драгоценными камнями, жемчу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«Кокошник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происходит от древнеславянского «кокош», обозначающего курицу и петуха. Характерной чертой кокошника является наличие гребня. Формы кокошников разнообразны: одногребенчатые, двухгребенчатые, островерхие, как бы однорогие , с большим закругленным верхом, шапкооб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89000" y="5445000"/>
            <a:ext cx="207936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 rot="2653200">
            <a:off x="3882600" y="5084280"/>
            <a:ext cx="1481040" cy="1722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26320" y="5141880"/>
            <a:ext cx="2203560" cy="1527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56000" y="2565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1080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57320" y="5129280"/>
            <a:ext cx="2665080" cy="1612800"/>
          </a:xfrm>
          <a:prstGeom prst="rect">
            <a:avLst/>
          </a:prstGeom>
          <a:ln w="0">
            <a:noFill/>
          </a:ln>
        </p:spPr>
      </p:pic>
      <p:pic>
        <p:nvPicPr>
          <p:cNvPr id="125" name="pic1" descr=""/>
          <p:cNvPicPr/>
          <p:nvPr/>
        </p:nvPicPr>
        <p:blipFill>
          <a:blip r:embed="rId4"/>
          <a:stretch/>
        </p:blipFill>
        <p:spPr>
          <a:xfrm>
            <a:off x="301680" y="260280"/>
            <a:ext cx="4125960" cy="4608720"/>
          </a:xfrm>
          <a:prstGeom prst="rect">
            <a:avLst/>
          </a:prstGeom>
          <a:ln w="0">
            <a:noFill/>
          </a:ln>
        </p:spPr>
      </p:pic>
      <p:pic>
        <p:nvPicPr>
          <p:cNvPr id="126" name="pic1" descr=""/>
          <p:cNvPicPr/>
          <p:nvPr/>
        </p:nvPicPr>
        <p:blipFill>
          <a:blip r:embed="rId5"/>
          <a:stretch/>
        </p:blipFill>
        <p:spPr>
          <a:xfrm>
            <a:off x="4316400" y="0"/>
            <a:ext cx="4359240" cy="486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1080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окошник «Царевна»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уч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712880"/>
            <a:ext cx="4033800" cy="4300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53000" y="1719360"/>
            <a:ext cx="403380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окошник «Царевна»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уч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92720" y="1700280"/>
          <a:ext cx="312588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312588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704960"/>
            <a:ext cx="4033800" cy="43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f2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00032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47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Разноцветные матрёшки (матрешка, кукла, фигура, голова, кокошник, деревянная, разноцветные, много, продажа, сувенир, экспонат, старинный, древний, российский, промысел, роспись, узор, орнамент)"/>
          <p:cNvPicPr/>
          <p:nvPr/>
        </p:nvPicPr>
        <p:blipFill>
          <a:blip r:embed="rId1"/>
          <a:stretch/>
        </p:blipFill>
        <p:spPr>
          <a:xfrm>
            <a:off x="71280" y="189000"/>
            <a:ext cx="8964720" cy="65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ГМЗ Ростовский кремль. Кокошник."/>
          <p:cNvPicPr/>
          <p:nvPr/>
        </p:nvPicPr>
        <p:blipFill>
          <a:blip r:embed="rId1"/>
          <a:stretch/>
        </p:blipFill>
        <p:spPr>
          <a:xfrm>
            <a:off x="5508720" y="260280"/>
            <a:ext cx="3413160" cy="633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ГМЗ Ростовский кремль. Кокошник."/>
          <p:cNvPicPr/>
          <p:nvPr/>
        </p:nvPicPr>
        <p:blipFill>
          <a:blip r:embed="rId2"/>
          <a:stretch/>
        </p:blipFill>
        <p:spPr>
          <a:xfrm>
            <a:off x="1332000" y="189000"/>
            <a:ext cx="3309840" cy="410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ГМЗ Ростовский кремль. Кокошник."/>
          <p:cNvPicPr/>
          <p:nvPr/>
        </p:nvPicPr>
        <p:blipFill>
          <a:blip r:embed="rId3"/>
          <a:stretch/>
        </p:blipFill>
        <p:spPr>
          <a:xfrm>
            <a:off x="539640" y="4581360"/>
            <a:ext cx="2154240" cy="198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ГМЗ Ростовский кремль. Кокошник."/>
          <p:cNvPicPr/>
          <p:nvPr/>
        </p:nvPicPr>
        <p:blipFill>
          <a:blip r:embed="rId4"/>
          <a:stretch/>
        </p:blipFill>
        <p:spPr>
          <a:xfrm>
            <a:off x="3276720" y="4508640"/>
            <a:ext cx="17096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5917320" y="5380560"/>
            <a:ext cx="2263680" cy="1555920"/>
            <a:chOff x="5917320" y="5380560"/>
            <a:chExt cx="2263680" cy="155592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 rot="19020600">
              <a:off x="6665400" y="6059880"/>
              <a:ext cx="78264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 rot="19020600">
              <a:off x="5999760" y="5639040"/>
              <a:ext cx="101124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 rot="19020600">
              <a:off x="7266960" y="5499000"/>
              <a:ext cx="681840" cy="9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4464000" cy="6264360"/>
          </a:xfrm>
          <a:prstGeom prst="rect">
            <a:avLst/>
          </a:prstGeom>
          <a:noFill/>
          <a:ln w="5400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Sylfaen"/>
              </a:rPr>
              <a:t>Цели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ывать любовь и гордость к творческому наследию нашего на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рождение утерянных традиций русской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эстетических вкусов, эстетических убежд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художественных склонностей и зада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877720" y="236880"/>
            <a:ext cx="2257200" cy="1581120"/>
            <a:chOff x="5877720" y="236880"/>
            <a:chExt cx="2257200" cy="1581120"/>
          </a:xfrm>
        </p:grpSpPr>
        <p:pic>
          <p:nvPicPr>
            <p:cNvPr id="60" name="" descr=""/>
            <p:cNvPicPr/>
            <p:nvPr/>
          </p:nvPicPr>
          <p:blipFill>
            <a:blip r:embed="rId9"/>
            <a:stretch/>
          </p:blipFill>
          <p:spPr>
            <a:xfrm rot="7932600">
              <a:off x="6579360" y="411120"/>
              <a:ext cx="78300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0"/>
            <a:stretch/>
          </p:blipFill>
          <p:spPr>
            <a:xfrm rot="7932600">
              <a:off x="7052400" y="848520"/>
              <a:ext cx="101124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1"/>
            <a:stretch/>
          </p:blipFill>
          <p:spPr>
            <a:xfrm rot="7932600">
              <a:off x="6117120" y="771480"/>
              <a:ext cx="681840" cy="949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Файл:1903 ball - Orlova-Davydova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635800" y="1628640"/>
            <a:ext cx="27064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632640" y="404640"/>
            <a:ext cx="2476440" cy="273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57920" y="3895560"/>
            <a:ext cx="2379600" cy="2702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211640" y="404640"/>
            <a:ext cx="2548080" cy="2880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995640" y="3716280"/>
            <a:ext cx="2711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Китайский свадебный кокош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DSC00175"/>
          <p:cNvPicPr/>
          <p:nvPr/>
        </p:nvPicPr>
        <p:blipFill>
          <a:blip r:embed="rId1"/>
          <a:stretch/>
        </p:blipFill>
        <p:spPr>
          <a:xfrm>
            <a:off x="1666800" y="1600200"/>
            <a:ext cx="5810400" cy="4525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rnd" w="8244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3270240" cy="518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547560"/>
            <a:ext cx="3263760" cy="5761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73840" y="1224000"/>
            <a:ext cx="320652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286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lfaen"/>
              </a:rPr>
              <a:t>Орнаменты кокош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1-1.gif (22195 bytes)"/>
          <p:cNvPicPr/>
          <p:nvPr/>
        </p:nvPicPr>
        <p:blipFill>
          <a:blip r:embed="rId1"/>
          <a:stretch/>
        </p:blipFill>
        <p:spPr>
          <a:xfrm>
            <a:off x="1243080" y="1052640"/>
            <a:ext cx="2392200" cy="2909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1-2.gif (13870 bytes)"/>
          <p:cNvPicPr/>
          <p:nvPr/>
        </p:nvPicPr>
        <p:blipFill>
          <a:blip r:embed="rId2"/>
          <a:stretch/>
        </p:blipFill>
        <p:spPr>
          <a:xfrm>
            <a:off x="4933800" y="907920"/>
            <a:ext cx="2733840" cy="305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1-3.gif (14022 bytes)"/>
          <p:cNvPicPr/>
          <p:nvPr/>
        </p:nvPicPr>
        <p:blipFill>
          <a:blip r:embed="rId3"/>
          <a:stretch/>
        </p:blipFill>
        <p:spPr>
          <a:xfrm>
            <a:off x="852480" y="4005360"/>
            <a:ext cx="2855880" cy="2768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1-4.gif (15920 bytes)"/>
          <p:cNvPicPr/>
          <p:nvPr/>
        </p:nvPicPr>
        <p:blipFill>
          <a:blip r:embed="rId4"/>
          <a:stretch/>
        </p:blipFill>
        <p:spPr>
          <a:xfrm>
            <a:off x="4986360" y="4076640"/>
            <a:ext cx="268128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Форма кокош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001080" cy="2316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3643560"/>
            <a:ext cx="810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двурогий кокошник Арзамасского уезда Нижегородской губернии; 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однорогий кокошник, Костромская губер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кокош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кокошник, Московская губер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кокошник, Владимирская губер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кокошник в виде цилиндрической шапки с плоским дном (с платком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Двухгребенчатый, или седлообразный, кокошник (вид в профиль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6659640" y="0"/>
            <a:ext cx="2484360" cy="2408400"/>
            <a:chOff x="6659640" y="0"/>
            <a:chExt cx="2484360" cy="24084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7696080" y="304920"/>
              <a:ext cx="121932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7667640" y="1413000"/>
              <a:ext cx="147636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6659640" y="0"/>
              <a:ext cx="99540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6588000" y="4365720"/>
            <a:ext cx="2556000" cy="2492280"/>
            <a:chOff x="6588000" y="4365720"/>
            <a:chExt cx="2556000" cy="2492280"/>
          </a:xfrm>
        </p:grpSpPr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7620120" y="5407200"/>
              <a:ext cx="121896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6588000" y="5381640"/>
              <a:ext cx="99540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6"/>
            <a:stretch/>
          </p:blipFill>
          <p:spPr>
            <a:xfrm>
              <a:off x="7667640" y="4365720"/>
              <a:ext cx="1476360" cy="9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0" y="0"/>
            <a:ext cx="2398680" cy="2408400"/>
            <a:chOff x="0" y="0"/>
            <a:chExt cx="2398680" cy="2408400"/>
          </a:xfrm>
        </p:grpSpPr>
        <p:pic>
          <p:nvPicPr>
            <p:cNvPr id="174" name="" descr=""/>
            <p:cNvPicPr/>
            <p:nvPr/>
          </p:nvPicPr>
          <p:blipFill>
            <a:blip r:embed="rId7"/>
            <a:stretch/>
          </p:blipFill>
          <p:spPr>
            <a:xfrm>
              <a:off x="228600" y="304920"/>
              <a:ext cx="114300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8"/>
            <a:stretch/>
          </p:blipFill>
          <p:spPr>
            <a:xfrm>
              <a:off x="0" y="1413000"/>
              <a:ext cx="147636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9"/>
            <a:stretch/>
          </p:blipFill>
          <p:spPr>
            <a:xfrm>
              <a:off x="1403280" y="0"/>
              <a:ext cx="99540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0" y="4437000"/>
            <a:ext cx="2398680" cy="2421000"/>
            <a:chOff x="0" y="4437000"/>
            <a:chExt cx="2398680" cy="2421000"/>
          </a:xfrm>
        </p:grpSpPr>
        <p:pic>
          <p:nvPicPr>
            <p:cNvPr id="178" name="" descr=""/>
            <p:cNvPicPr/>
            <p:nvPr/>
          </p:nvPicPr>
          <p:blipFill>
            <a:blip r:embed="rId10"/>
            <a:stretch/>
          </p:blipFill>
          <p:spPr>
            <a:xfrm>
              <a:off x="304920" y="5486400"/>
              <a:ext cx="114300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1"/>
            <a:stretch/>
          </p:blipFill>
          <p:spPr>
            <a:xfrm>
              <a:off x="0" y="4437000"/>
              <a:ext cx="147636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2"/>
            <a:stretch/>
          </p:blipFill>
          <p:spPr>
            <a:xfrm>
              <a:off x="1403280" y="5381640"/>
              <a:ext cx="99540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684360" y="1196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Нет живописней русского наря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Bookman Old Style"/>
              </a:rPr>
              <a:t>       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1135440"/>
            <a:ext cx="6267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Sylfaen"/>
              </a:rPr>
              <a:t>Стремились для нарядности носить,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Sylfaen"/>
              </a:rPr>
              <a:t>Узором украшали интересным,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Sylfaen"/>
              </a:rPr>
              <a:t>Умели шелком, бисером расшить.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Sylfaen"/>
              </a:rPr>
              <a:t>Нет живописней все ж, отметить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Sylfaen"/>
              </a:rPr>
              <a:t>надо,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Sylfaen"/>
              </a:rPr>
              <a:t>Национально русского наря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знакомить учащихся с особенностями русского национального женского костю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Формировать интерес к истокам русской куль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азвивать чувство гордости за свою национальную культу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пособств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азвитию творческой фантазии.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Файл:Alexandra Feodorovna whit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57640" y="765000"/>
            <a:ext cx="3875400" cy="532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flipH="1" rot="10849200">
            <a:off x="8028000" y="105840"/>
            <a:ext cx="1006560" cy="145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5260200">
            <a:off x="4188960" y="4992480"/>
            <a:ext cx="1527120" cy="22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Привычное представление о русском женском костюме связано с сарафа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84360" y="1052640"/>
            <a:ext cx="7559640" cy="5400720"/>
            <a:chOff x="684360" y="1052640"/>
            <a:chExt cx="7559640" cy="5400720"/>
          </a:xfrm>
        </p:grpSpPr>
        <p:pic>
          <p:nvPicPr>
            <p:cNvPr id="71" name="" descr="Костюм новобрачной"/>
            <p:cNvPicPr/>
            <p:nvPr/>
          </p:nvPicPr>
          <p:blipFill>
            <a:blip r:embed="rId2"/>
            <a:stretch/>
          </p:blipFill>
          <p:spPr>
            <a:xfrm>
              <a:off x="3348000" y="1052640"/>
              <a:ext cx="2514600" cy="5400720"/>
            </a:xfrm>
            <a:prstGeom prst="rect">
              <a:avLst/>
            </a:prstGeom>
            <a:ln w="38160">
              <a:solidFill>
                <a:srgbClr val="ffffcc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6372360" y="1268280"/>
              <a:ext cx="1871640" cy="48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684360" y="1197000"/>
              <a:ext cx="1846080" cy="5013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68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Особую роль в украшении сарафанов играли пуговицы, они порой достигали размеров куриного яй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Sarafan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76280"/>
            <a:ext cx="409572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92436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Так одевались в центральных районах и на севере Росси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9351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484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Костюм южных губер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576900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35280" y="0"/>
            <a:ext cx="3708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Поверх понёвы часто надевали передник, он не только предохранял одежду от загрязнения, но и служил дополнительным укра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44348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719520" cy="561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022640" cy="561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92480" y="166680"/>
            <a:ext cx="621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Завершал костюм русской женщины </a:t>
            </a: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головной убор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.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Ему уделялось особое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20:42Z</dcterms:created>
  <dc:creator>User</dc:creator>
  <dc:description/>
  <dc:language>en-US</dc:language>
  <cp:lastModifiedBy>Customer</cp:lastModifiedBy>
  <dcterms:modified xsi:type="dcterms:W3CDTF">2010-01-13T15:12:56Z</dcterms:modified>
  <cp:revision>21</cp:revision>
  <dc:subject/>
  <dc:title>"Чудо чудное, диво дивное. Красота русского женского костюма"</dc:title>
</cp:coreProperties>
</file>