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624-44E5-42B7-A1ED-DCED7076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F14-18D7-4E4F-9184-A20B4E92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1F2-ACB9-4B44-AD62-EA15A7AC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DEE-B2AF-4369-BE00-A24C3C3E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BBCD-4012-4119-BA54-CBA6FF64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06D7-99C7-4A62-A96D-7B20136F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97E1-AD54-4A20-A999-6C3044B1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56C6-17E8-4831-B715-44A9BBE0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4AAF-19A2-453A-9927-0E263D81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224D-7EB8-4E00-B716-0B1C6B48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A75B-5363-4ABA-B265-B91C3F57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0E4-4063-4E22-89F0-01B4DE16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51BB-2ACF-46C0-8708-FC54B42E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D1C-0232-43BC-B64E-16CCED7C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977D-F7B5-4591-A9AD-18C1CE66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50FC-F567-43A2-AB83-6D075BF1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75B-7BEB-4263-A316-53E1884A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C09-CD97-4005-812F-FF9DBAC5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B50-5878-40BD-81E0-1F112280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9CF-5D31-4C14-88B5-B3E32FC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A68-86BE-404B-B2CA-BCDC3CAF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D9B-17E5-470F-A0BD-23FDB3C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B19-8294-4782-B100-F969806A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AE9-AC7F-4CA6-92AA-119DBA4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1E24-3F47-4B20-A20F-5392065CEF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9008-5A1E-40BB-972E-CB6A3A2BBC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Марксизм –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учение </a:t>
            </a: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об</a:t>
            </a: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обществ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(середина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века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3. Сущность капиталистической эксплуатации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ношения в обществе определяются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тношениями собственности на средства производства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.е.  кто владеет собственностью – тот присваивает доходы от продажи произведенно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питалисты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(собственники средств производства – фабрик, заводов и т.п.)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оплачивают  рабочим в форме заработной платы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лишь часть стоимости рабочей силы (труда),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затраченного на производство това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тавшуюся часть труда капиталисты безвозмездно присваивают себе – так создается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прибавочная стоимость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которая и является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ущностью   капиталистической эксплуат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4.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История  - это  смена общественно-экономических формаций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43480" y="3571920"/>
            <a:ext cx="45720" cy="690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60800" y="3571920"/>
            <a:ext cx="1800" cy="68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33600" y="201456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1280" y="549360"/>
          <a:ext cx="8064360" cy="568620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государственный строй, политические и философские теории, нравственные установки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лигиозные воззрени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СТРОЙ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пределяет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оздействует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ЗИ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роизводственные отношени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 flipV="1">
            <a:off x="3708360" y="2565000"/>
            <a:ext cx="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2565360"/>
            <a:ext cx="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 взаимодействии базис и надстройка создают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общественно-экономическую формацию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(ОЭФ) – сложивщуюся конкретно-историческую форму бы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оизводительные силы развиваются быстрее, чем производственные отношения          конфликт в обществ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орьба (революция)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старевшая ОЭФ сменяется более прогрессивно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2708280"/>
            <a:ext cx="0" cy="79200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4076640"/>
            <a:ext cx="0" cy="7923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476280"/>
          <a:ext cx="8229600" cy="614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ИВОБОРСТВУЮЩИЕ КЛА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склассовое общ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ммунист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ржуазия и пролетари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питалист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ысшая стадия – империализ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еодалы и 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еода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бовладельцы и раб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бовладель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сутствие клас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вобытно-общинный стр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новные черты формационного подхода к анализу мировой истор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орический процесс рассматривается как закономерный, т.е. в его основе лежат законы развития и смены форм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орический процесс определяется экономическими (материальными)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орический процесс универсальный, т.е. большинство народов проходят через выделенные 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орический процесс имеет прогрессивный характер, т.к. каждая последующая формация выше, сложнее и развитие предыдущ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рл Марк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(1818-188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рксистские организаци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Союз коммунистов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дународное товарищество рабочих (МТР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нтернационал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1864 , Лондон – на   рисун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8858" r="0" b="20669"/>
          <a:stretch/>
        </p:blipFill>
        <p:spPr>
          <a:xfrm>
            <a:off x="1835280" y="3141720"/>
            <a:ext cx="5784840" cy="3384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10108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696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Ленинизм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–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чение об обществе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(конец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XIX –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начало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X X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вв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5300280"/>
            <a:ext cx="6400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ладимир  Ильич Ульянов (Лени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870-192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9225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ираясь на учение марксизма об империализме как высшей стадии капитализма, Ленин пересмотрел некоторые выводы марксистского учения и внес ряд новых ид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476280"/>
          <a:ext cx="8229600" cy="5886360"/>
        </p:xfrm>
        <a:graphic>
          <a:graphicData uri="http://schemas.openxmlformats.org/drawingml/2006/table">
            <a:tbl>
              <a:tblPr/>
              <a:tblGrid>
                <a:gridCol w="2098800"/>
                <a:gridCol w="2952720"/>
                <a:gridCol w="317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РК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Н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ХОДСТВ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изм неизбежен через классовую борьбу и социалистическую революцию. Главная движущая сила революции - ПРОЛЕТАРИ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изм победит сначала одновременно в наиболее развитых странах Евро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беда социализма возможна в одной стране (страна – «узел противоречий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Фридрих Энгель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(1820 – 189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39956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Условия формирования марксиз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Европе прошел целый ряд буржуазных револю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х странах, где капитализм уже утвердился, проявились признаки первых экономических кризисов (безработица, нищета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бочие (пролетариат) заявили о себе как о самостоятельной политической силе массовыми выступле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сновные положения марксиз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89120" y="2637000"/>
            <a:ext cx="396396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1. Общественное бытие определяет общественное созн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544500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уховная деятельность людей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(сознание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играет в их жизни существенную ро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о первоосновой общественной жизни является трудовая, производственная деятельность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(бытие),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направленная на удовлетворение материальных потребностей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(МАТЕРИАЛИЗМ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2. Способ производства служит основой общественно-экономической форм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000" y="1197000"/>
            <a:ext cx="1143000" cy="342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1125360"/>
            <a:ext cx="800280" cy="343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32000" y="2781360"/>
            <a:ext cx="287280" cy="100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2781360"/>
            <a:ext cx="720720" cy="100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948360" y="2781360"/>
            <a:ext cx="504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11040"/>
            <a:ext cx="28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пособ  произво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3356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3356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00000" y="1628640"/>
          <a:ext cx="7343640" cy="1152360"/>
        </p:xfrm>
        <a:graphic>
          <a:graphicData uri="http://schemas.openxmlformats.org/drawingml/2006/table">
            <a:tbl>
              <a:tblPr/>
              <a:tblGrid>
                <a:gridCol w="4284360"/>
                <a:gridCol w="216360"/>
                <a:gridCol w="28429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зводитель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зводственные отно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71640" y="3789360"/>
          <a:ext cx="7345440" cy="2087640"/>
        </p:xfrm>
        <a:graphic>
          <a:graphicData uri="http://schemas.openxmlformats.org/drawingml/2006/table">
            <a:tbl>
              <a:tblPr/>
              <a:tblGrid>
                <a:gridCol w="1836720"/>
                <a:gridCol w="2050920"/>
                <a:gridCol w="1168560"/>
                <a:gridCol w="2289240"/>
              </a:tblGrid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ди, обладающие знаниями и трудовыми навы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производ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озданные обществом предметы труда и оруд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шения, возникающие в процессе организации производ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3:59:06Z</dcterms:created>
  <dc:creator>Jane Air</dc:creator>
  <dc:description/>
  <dc:language>en-US</dc:language>
  <cp:lastModifiedBy>dwfman</cp:lastModifiedBy>
  <dcterms:modified xsi:type="dcterms:W3CDTF">2013-10-05T16:57:25Z</dcterms:modified>
  <cp:revision>6</cp:revision>
  <dc:subject/>
  <dc:title>Марксизм</dc:title>
</cp:coreProperties>
</file>