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0A21-8A96-461F-84A1-9555BECC0B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349F-2242-4E07-9749-38C31C7132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030-AB6A-458B-84DB-E976FE18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EC07-4CEF-4563-A78C-D0F56112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817-E969-41E6-A06B-30BDB1D7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AB96-C2FA-4FCF-BCAF-5C3360F1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A93B-F6E3-485B-B508-F9133395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A23-F1E0-4017-A8DE-0609D88F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06BA-785E-431E-A888-F2394946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9EEB-DBB3-4434-8F48-98C0CD80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0F3-1387-4ED1-AD73-9785F9B9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2D37-6EC4-42D1-A51B-394FF733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A17-DDCF-43BA-BFEB-F8873CB1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1928-51B8-4CEE-A180-1B6EE66D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D42B-5F1E-46CF-91C0-E4ADC0835A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рок   геомет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читель: Щемерова О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 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Решение  задач  по  готовым  чертежа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15"/>
          <p:cNvSpPr/>
          <p:nvPr/>
        </p:nvSpPr>
        <p:spPr>
          <a:xfrm flipH="1">
            <a:off x="356400" y="1571760"/>
            <a:ext cx="4429080" cy="328608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5143680" y="2571840"/>
            <a:ext cx="328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В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642960" y="15717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 rot="19392600">
            <a:off x="1378440" y="2614680"/>
            <a:ext cx="195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4429080" y="4500720"/>
            <a:ext cx="358920" cy="358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7"/>
          <p:cNvSpPr/>
          <p:nvPr/>
        </p:nvSpPr>
        <p:spPr>
          <a:xfrm>
            <a:off x="1285920" y="4214880"/>
            <a:ext cx="380880" cy="64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1643040" y="407196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0" y="49291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4714920" y="485784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4857840" y="128592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Решение  задач  по  готовым  чертежа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304000" y="3755880"/>
            <a:ext cx="1321920" cy="1203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4857840" y="242892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АС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57120" y="1214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2643120" y="521496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428840" y="514368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9"/>
          <p:cNvSpPr/>
          <p:nvPr/>
        </p:nvSpPr>
        <p:spPr>
          <a:xfrm>
            <a:off x="4786200" y="500076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071800" y="4929120"/>
            <a:ext cx="428400" cy="358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1"/>
          <p:cNvSpPr/>
          <p:nvPr/>
        </p:nvSpPr>
        <p:spPr>
          <a:xfrm>
            <a:off x="1928880" y="11430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2"/>
          <p:cNvSpPr/>
          <p:nvPr/>
        </p:nvSpPr>
        <p:spPr>
          <a:xfrm>
            <a:off x="2071800" y="24289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2071800" y="2214720"/>
            <a:ext cx="428400" cy="155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Решение  задач  по  готовым  чертежа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 rot="8717400">
            <a:off x="2213280" y="2784960"/>
            <a:ext cx="2089440" cy="9295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285840" y="41432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786120" y="142884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9"/>
          <p:cNvSpPr/>
          <p:nvPr/>
        </p:nvSpPr>
        <p:spPr>
          <a:xfrm>
            <a:off x="5572080" y="400068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 rot="19356000">
            <a:off x="3708360" y="1950840"/>
            <a:ext cx="428760" cy="358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14240" y="150012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1"/>
          <p:cNvSpPr/>
          <p:nvPr/>
        </p:nvSpPr>
        <p:spPr>
          <a:xfrm rot="14062800">
            <a:off x="1750680" y="2067840"/>
            <a:ext cx="66780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 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1928880" y="42861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4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214200" y="550080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угол  С,  угол 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№ </a:t>
            </a:r>
            <a:r>
              <a:rPr b="1" lang="ru-RU" sz="4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257 </a:t>
            </a: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0" i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 прямоугольном   треугольнике АВС  с  прямым  углом  С  внешний угол  при   вершине  А  равен   120</a:t>
            </a:r>
            <a:r>
              <a:rPr b="0" i="1" lang="ru-RU" sz="4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0</a:t>
            </a:r>
            <a:r>
              <a:rPr b="0" i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 АС+АВ=18 см.</a:t>
            </a:r>
            <a:br>
              <a:rPr sz="4000"/>
            </a:br>
            <a:r>
              <a:rPr b="0" i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br>
              <a:rPr sz="4000"/>
            </a:br>
            <a:r>
              <a:rPr b="0" i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йдите  АС  и  А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ТЕС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WordArt 3" descr=""/>
          <p:cNvPicPr/>
          <p:nvPr/>
        </p:nvPicPr>
        <p:blipFill>
          <a:blip r:embed="rId2"/>
          <a:stretch/>
        </p:blipFill>
        <p:spPr>
          <a:xfrm>
            <a:off x="-500040" y="2182680"/>
            <a:ext cx="967428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7658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cc"/>
                </a:solidFill>
                <a:uFillTx/>
                <a:latin typeface="Calibri"/>
              </a:rPr>
              <a:t>Домашнее  зад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760" y="1785960"/>
            <a:ext cx="82296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214200" y="928800"/>
            <a:ext cx="864396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 задание  одного  из  уровн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34: выучить все свойства и доказательство любых двух.        №  25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     Пункт 34: выучить все свойства и  их  доказательство.   № 2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34: выучить все свойства и   их  доказательство.   № 26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ворческое зад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придумать  и  решить  задачу  на  применение  свойств    прямоугольного тре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Содержимое 4" descr="1282849125_911.jpg"/>
          <p:cNvPicPr/>
          <p:nvPr/>
        </p:nvPicPr>
        <p:blipFill>
          <a:blip r:embed="rId2"/>
          <a:stretch/>
        </p:blipFill>
        <p:spPr>
          <a:xfrm>
            <a:off x="8072280" y="285840"/>
            <a:ext cx="889200" cy="13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. Я всё понял и могу доказать все свойств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2. Я всё понял и могу доказать некоторые свойств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3. Для полного понимания  мне необходимо повторить тему дом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4. Я ничего не поня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асибо   за   уро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800" y="2398320"/>
            <a:ext cx="8431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7200" spc="-1" strike="noStrike">
                <a:solidFill>
                  <a:srgbClr val="0000cc"/>
                </a:solidFill>
                <a:latin typeface="BirchCTT"/>
              </a:rPr>
              <a:t>Некоторые свойства прямоугольных треугольнико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00720" y="4642920"/>
            <a:ext cx="4200480" cy="14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3" name="Управляющая кнопка: в конец 3">
            <a:hlinkClick r:id="" action="ppaction://hlinkshowjump?jump=lastslide"/>
          </p:cNvPr>
          <p:cNvSpPr/>
          <p:nvPr/>
        </p:nvSpPr>
        <p:spPr>
          <a:xfrm>
            <a:off x="8786880" y="657216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16989" y="10800"/>
                </a:moveTo>
                <a:lnTo>
                  <a:pt x="6483" y="17806"/>
                </a:lnTo>
                <a:lnTo>
                  <a:pt x="6483" y="3794"/>
                </a:lnTo>
                <a:close/>
              </a:path>
              <a:path fill="darken" w="26980" h="21600">
                <a:moveTo>
                  <a:pt x="18834" y="3794"/>
                </a:moveTo>
                <a:lnTo>
                  <a:pt x="18834" y="17806"/>
                </a:lnTo>
                <a:lnTo>
                  <a:pt x="20496" y="17806"/>
                </a:lnTo>
                <a:lnTo>
                  <a:pt x="20496" y="3794"/>
                </a:lnTo>
                <a:close/>
              </a:path>
            </a:pathLst>
          </a:cu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 свойства  прямоугольных треугольни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  эти  свой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 умения  и навыки   применять  свойства  при  решении  задач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 логическое  мышление, творческие   способ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Управляющая кнопка: в начало 15">
            <a:hlinkClick r:id="" action="ppaction://hlinkshowjump?jump=firstslide"/>
          </p:cNvPr>
          <p:cNvSpPr/>
          <p:nvPr/>
        </p:nvSpPr>
        <p:spPr>
          <a:xfrm>
            <a:off x="785808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0907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9062" y="3794"/>
                </a:lnTo>
                <a:lnTo>
                  <a:pt x="9062" y="17806"/>
                </a:lnTo>
                <a:lnTo>
                  <a:pt x="7400" y="17806"/>
                </a:lnTo>
                <a:close/>
              </a:path>
            </a:pathLst>
          </a:custGeom>
          <a:noFill/>
          <a:ln w="9360">
            <a:solidFill>
              <a:srgbClr val="00cc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80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403280" y="0"/>
            <a:ext cx="85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Calibri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357200" y="4143240"/>
            <a:ext cx="50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Calibri"/>
              </a:rPr>
              <a:t>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7786800" y="4143240"/>
            <a:ext cx="57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Calibri"/>
              </a:rPr>
              <a:t>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Группа 10"/>
          <p:cNvGrpSpPr/>
          <p:nvPr/>
        </p:nvGrpSpPr>
        <p:grpSpPr>
          <a:xfrm>
            <a:off x="2124000" y="836640"/>
            <a:ext cx="5429160" cy="3999960"/>
            <a:chOff x="2124000" y="836640"/>
            <a:chExt cx="5429160" cy="3999960"/>
          </a:xfrm>
        </p:grpSpPr>
        <p:sp>
          <p:nvSpPr>
            <p:cNvPr id="63" name="Прямоугольный треугольник 3"/>
            <p:cNvSpPr/>
            <p:nvPr/>
          </p:nvSpPr>
          <p:spPr>
            <a:xfrm>
              <a:off x="2124000" y="836640"/>
              <a:ext cx="5429160" cy="3998880"/>
            </a:xfrm>
            <a:prstGeom prst="rtTriangle">
              <a:avLst/>
            </a:prstGeom>
            <a:solidFill>
              <a:srgbClr val="cc3300">
                <a:alpha val="50000"/>
              </a:srgbClr>
            </a:solidFill>
            <a:ln w="442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ая соединительная линия 8"/>
            <p:cNvSpPr/>
            <p:nvPr/>
          </p:nvSpPr>
          <p:spPr>
            <a:xfrm>
              <a:off x="2124000" y="4424400"/>
              <a:ext cx="344160" cy="288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Прямая соединительная линия 9"/>
            <p:cNvSpPr/>
            <p:nvPr/>
          </p:nvSpPr>
          <p:spPr>
            <a:xfrm flipV="1">
              <a:off x="2466720" y="4427280"/>
              <a:ext cx="2880" cy="40932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Заголовок 3"/>
          <p:cNvSpPr/>
          <p:nvPr/>
        </p:nvSpPr>
        <p:spPr>
          <a:xfrm>
            <a:off x="468360" y="26028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 rot="2170800">
            <a:off x="2410920" y="1988640"/>
            <a:ext cx="5645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Gabriola"/>
              </a:rPr>
              <a:t>гипотенуз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 rot="16200000">
            <a:off x="75240" y="1948320"/>
            <a:ext cx="294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Gabriola"/>
              </a:rPr>
              <a:t>кат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3059280" y="4653000"/>
            <a:ext cx="279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Gabriola"/>
              </a:rPr>
              <a:t>кат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Щемеровы\Desktop\Рисунок1.png"/>
          <p:cNvPicPr/>
          <p:nvPr/>
        </p:nvPicPr>
        <p:blipFill>
          <a:blip r:embed="rId2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Object 2"/>
          <p:cNvGraphicFramePr/>
          <p:nvPr/>
        </p:nvGraphicFramePr>
        <p:xfrm>
          <a:off x="285840" y="214200"/>
          <a:ext cx="8643960" cy="648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14200"/>
                    <a:ext cx="864396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23320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866772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дполагаемые  гипоте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00040" y="164304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 острых  углов   прямоугольного треугольника   равна   9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т  прямоугольного  треугольника,  лежащий против  угла  в 3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равен  половине  гипотенуз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 катет  прямоугольного  треугольника  равен половине  гипотенузы, то  угол,  лежащий  против этого  катета,  равен  3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войства   прямоугольных треугольников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0040" y="1357200"/>
            <a:ext cx="842976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 острых  углов   прямоугольного треугольника   равна   9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тет  прямоугольного  треугольника,  лежащий против  угла  в 3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равен  половине  гипотенуз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ли  катет  прямоугольного  треугольника  равен половине  гипотенузы, то  угол,  лежащий  против этого  катета,  равен  3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714240" y="3571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Решение задач по готовым чертеж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85880" y="157176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 flipH="1">
            <a:off x="785160" y="2428920"/>
            <a:ext cx="3857400" cy="292896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1571760" y="4786200"/>
            <a:ext cx="225360" cy="573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857240" y="450072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4214880" y="4929120"/>
            <a:ext cx="430200" cy="430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0" y="507204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786200" y="50720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4572000" y="17859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4857840" y="3214800"/>
            <a:ext cx="414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угол 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Щемеровы</dc:creator>
  <dc:description/>
  <dc:language>en-US</dc:language>
  <cp:lastModifiedBy>Щемеровы</cp:lastModifiedBy>
  <dcterms:modified xsi:type="dcterms:W3CDTF">2013-10-05T18:34:20Z</dcterms:modified>
  <cp:revision>146</cp:revision>
  <dc:subject/>
  <dc:title>Урок математики в 7 классе</dc:title>
</cp:coreProperties>
</file>