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E91-F600-4B79-924E-3DE07F9A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BF0-3DE7-40C3-ADFB-E874811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D5D-CD6A-4AF1-8618-F306D180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C91-4489-4CE4-B336-7BBD58E5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D5F20-EC02-42FA-9254-EDF97D7F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AD73D-C047-4EA8-A369-2973065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99939-3504-4952-930F-B75376AB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6854D-62BC-4FFA-8F7B-7C01130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B5EF2-719F-429D-8BB0-5D9BB0E6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3C16D-D8DD-4A60-B9BC-0CD4DDD5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D3B1-08EC-4954-9D56-71E87070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C9B-9A3D-4041-9796-4D8DC4E3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01705-33BC-4521-AE51-4E744CA1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E2CA-F98F-4D18-B88A-865958AE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FA4B2-8719-4FFB-95DB-3AEF4FCC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FD219-04BE-47D4-AEF5-88C91977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80EAA-8C2C-494F-9387-EA94E8F7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BAD-A599-41A8-8D07-5C566F20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0B4-7C38-46BA-8B82-A4C3871E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726-2B67-4790-A525-F91B8523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DAF-2A57-4348-A322-4B96AF97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37E-D541-4954-8960-9295900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8FA-EC69-4A4B-BE28-AEEFC85C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850-AA70-4A2C-B8E6-26A40C4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6D6-3477-49F1-B97E-50A80B5BFD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54D2-7BB0-4227-9E04-3E260E67B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327640" cy="561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26920" y="981000"/>
            <a:ext cx="77058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кспериментальная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ятельность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92912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896000" cy="345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4895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4000" y="476280"/>
            <a:ext cx="24620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844640"/>
            <a:ext cx="81154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Если разгладить газету, то под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й почти не останется воздуха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этом случае воздух сверху буде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вить на газету намного сильнее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ем снизу. Давление не даст газете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няться вместе с линейкой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549360"/>
            <a:ext cx="37450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видим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н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0360" y="2781360"/>
            <a:ext cx="4209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стеклянная ба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моне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388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4681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404640"/>
            <a:ext cx="259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03480" y="1773360"/>
            <a:ext cx="69688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онетка никуда не исчезает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ы перестаем её видеть из-з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ломления света в банке. Свет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ражается от стенок банки,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тому монетку и не видно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333360"/>
            <a:ext cx="3743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исло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таку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24360" y="2349360"/>
            <a:ext cx="42465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тарелка с вод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све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ба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спи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929120" cy="335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68360" y="1413000"/>
            <a:ext cx="4897440" cy="33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24360" y="3213000"/>
            <a:ext cx="4895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9640" y="333360"/>
            <a:ext cx="25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2133720"/>
            <a:ext cx="8667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учший способ потуши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гонь - прекратить доступ кислорода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640" y="189000"/>
            <a:ext cx="352764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прям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ро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11640" y="2060640"/>
            <a:ext cx="4032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две воро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две буты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пластил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48261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75600">
            <a:off x="395280" y="764640"/>
            <a:ext cx="4745160" cy="29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гни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95640" y="2349360"/>
            <a:ext cx="4448160" cy="41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магнит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стол (дерево)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карто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альбомный лист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*кож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89564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4895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9640" y="404640"/>
            <a:ext cx="20163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835280" y="1628640"/>
            <a:ext cx="6659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да, которая попадает в бутылку, вытесняет из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ё воздух. В первом случае воздух свободно выходит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ерез щели между воронкой и бутылкой. 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7280" y="3789360"/>
            <a:ext cx="691200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гда пластилином перекрыли путь воздуху, он остается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бутылке. Вода под воздействием силы тяжести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ытается попасть в бутылку. Но ей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ешает давление воздуха,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тому она остается в воронке.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189000"/>
            <a:ext cx="3816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лочн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алит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19280" y="2133720"/>
            <a:ext cx="6753240" cy="35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моло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пищевые красит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средство для мытья посу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ватные пало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*тар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113440" cy="352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5113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895640" cy="38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565360"/>
            <a:ext cx="4896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476280"/>
            <a:ext cx="2463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55640" y="2276640"/>
            <a:ext cx="7632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редство для мытья посуды вступае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реакцию с молекулами жира в молоке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рушается поверхностное натяжение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пищевые красители движутся по кругу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перемешиваются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6920" y="476280"/>
            <a:ext cx="3816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ай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исьм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80000" y="2708280"/>
            <a:ext cx="4679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лимонный с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листы бума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ватные пало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све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895640" cy="388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895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260280"/>
            <a:ext cx="2590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6920" y="2637000"/>
            <a:ext cx="74869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пло заставляет лимонный сок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темнеть, и письмо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ожно прочитать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-181080" y="1197000"/>
            <a:ext cx="8785440" cy="33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977080" cy="410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5977080" cy="410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43280" y="2421000"/>
            <a:ext cx="597672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16000" y="620640"/>
            <a:ext cx="2735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1280" y="1628640"/>
            <a:ext cx="7848360" cy="4321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йствие магнитов зависи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 размеров самих магнитов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так же от толщины материал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ежду магнитами. Чем толще материал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 слабее действие магнитов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 rot="404400">
            <a:off x="324000" y="0"/>
            <a:ext cx="343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ноцветны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76720" y="2637000"/>
            <a:ext cx="4714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2 стак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пищевой крас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петр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21784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184720" cy="381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635280" y="2708280"/>
            <a:ext cx="51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327640" cy="410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327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4360" y="476280"/>
            <a:ext cx="2735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920" y="1341360"/>
            <a:ext cx="83534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крашеннаяьвода поднимается по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еблю благодаря тонким канальцам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да из стаконов окрашивае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ные части растения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т почему половина стебля осталась зеленой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половина покрасилась 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расны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5280" y="260280"/>
            <a:ext cx="4464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подъём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аз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356000" y="2205000"/>
            <a:ext cx="40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ТЕРИАЛ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*линей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*кры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*газ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*ст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5:38:55Z</dcterms:created>
  <dc:creator>гыук</dc:creator>
  <dc:description/>
  <dc:language>en-US</dc:language>
  <cp:lastModifiedBy>гыук</cp:lastModifiedBy>
  <dcterms:modified xsi:type="dcterms:W3CDTF">2013-10-05T08:58:40Z</dcterms:modified>
  <cp:revision>9</cp:revision>
  <dc:subject/>
  <dc:title>Слайд 1</dc:title>
</cp:coreProperties>
</file>