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CD7-D8A1-4542-98CD-177CEE53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1D1-4F02-41BD-A26E-3F581946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39B-74E6-4ACE-9808-6C5D00A8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A98-1D5A-405D-A90D-CC2E8A3C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CE5-3550-47AE-9AB4-F6A76FC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C41-07A3-4A6C-B01E-F42767AB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009-DFD8-41FE-866F-426FF3DB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610-26D6-47C2-8984-90D16501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9C9-8F92-4A35-A498-EACE025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4AD-92CB-41A9-A7F3-307A270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BE5-A9A4-4BCE-9C27-FE172F96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F65-00ED-445E-BF66-2A0BA36F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2B34-52F0-41C3-B52D-C9249362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12/ana-smartzone.d/0_aede_8f718a96_L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g-fotki.yandex.ru/get/4609/lenivova-elena.1f6/0_77e1e_47dffecc_XL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boutkazan.com/images/kazan-tatars-national-costumes-views-1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g.ethnomuseum.ru/imgp/2928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kult-mus.narod.ru/image/north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www.ethnospb.ru/photo/poli/c4dbde1ed6f556a5e464.jpg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gufa.ru:16080/img/2006/december/30stol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mak2school.ucoz.ru/_ph/5/862160664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shiony.ru/pic/clothing/pic/28602/4.jpg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www.circassianworld.com/Photos/Cherkesska.jpg" TargetMode="External"/><Relationship Id="rId5" Type="http://schemas.openxmlformats.org/officeDocument/2006/relationships/image" Target="../media/image24.jpeg"/><Relationship Id="rId6" Type="http://schemas.openxmlformats.org/officeDocument/2006/relationships/hyperlink" Target="http://img1.liveinternet.ru/images/foto/c/0/apps/3/861/3861251_66a919b5b914.jpg" TargetMode="External"/><Relationship Id="rId7" Type="http://schemas.openxmlformats.org/officeDocument/2006/relationships/image" Target="../media/image25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br-time.ru/uploads/posts/2010-03/1267828412_konkurs-moja-kabardino-balkarija-3.jpg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turafisha.ua/hotelimg/323700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3/75/607/75607386_2642543_1642_Lis_Jurav.j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e02.ru/uploads/posts/2011-11/1322578320_gostepriimstvo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lancer.net/files/portfolio/495/49575/1197780.jpg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arezcity.ru/uploads/posts/2011-04/1301687784_62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akva.ru/pic/costum_m2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poyasok.ucoz.com/_ph/2/2/509946398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goldmoscow.com/pict/24032005220738_C1628.JPG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ihi.ru/pics/2012/01/12/6864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vkray.ru/file/s/600/4235/hlebushko-rzhanoj-da-maslice-lnyanoe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akva.ru/pic/costum_m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takva.ru/pic/costum9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npn54.ru/ImageHandler.ashx?src=NewsImages/2883-634506020165398638.jpg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&amp;w=385&amp;h=-1" TargetMode="External"/><Relationship Id="rId7" Type="http://schemas.openxmlformats.org/officeDocument/2006/relationships/image" Target="../media/image1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aukaoren.narod.ru/photo11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29000" y="4723920"/>
            <a:ext cx="5410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езентация разработана учителями начальных классов С(К)ОШ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Шуклиной Е. А., Нагаевой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ермский край, г.Лысь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77 из 1435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1504800" cy="112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Картинка 257 из 14358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4572000"/>
            <a:ext cx="2435400" cy="1822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99072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«Национальные традиц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гостеприимства у разных народов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114800" y="762120"/>
            <a:ext cx="4572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«Негостеприимный человек – неполноценный» - считалось у мусульман. Гостей было принято не только угощать, но и одаривать подарками. По обычаю и гость отвечал тем 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2 из 1629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3733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Какого народа костю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Картинка 2 из 6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819520"/>
            <a:ext cx="1919160" cy="3352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Картинка 6 из 66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2743200"/>
            <a:ext cx="1776240" cy="3733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а 70 из 66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81080" y="1371600"/>
            <a:ext cx="5077080" cy="3381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32448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2195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Картинка 60 из 12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95280"/>
            <a:ext cx="4114800" cy="4359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Гостеприимство башк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67080" y="106668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шкирский народ издавна видел в гостеприимстве надежное средство, позволяющее установить дружеские, теплые, чисто человеческие отношения с окружающими.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Традиционным элементом гостеприимства считается то, что хозяин встречает гостей перед входом  в дом. Проводы гостей также происходят за воротами дом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191120" y="3045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остям говорят: «Пройдите на почетное место». При угощении гостей башкиры пользуются правилом: «Перед гостями поставь пищу, но не забудь, чтобы их рот и рука были свободны». Если кто-то пришел во время трапезы, его принято сажать за стол и угощать. Если пришедший отказывается, ему напоминают правила этикета: «Нельзя быть выше пищи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4 из 13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295280"/>
            <a:ext cx="42674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Какого народа костю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46 из 20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37160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47 из 20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3080" y="1219320"/>
            <a:ext cx="2422800" cy="3657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76 из 214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24080" y="2133720"/>
            <a:ext cx="3143520" cy="426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83818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53973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Гостеприимство народов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Древнему обычаю гостеприимства кавказцы следуют и сегодня. Старики на Кавказе любят говорить: «Куда не приходит гость, туда не приходит и благода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а 129 из 2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Гостеприимство особенно ярко проявляется в сельской местности. Когда кавказская семья садится за стол для приема пищи, всегда накрывают на 1 персону больше, чем людей в семье. Считается, что гость, который может прийти во время еды, сразу должен садиться за стол. Кроме того, в каждом доме имеется «комната гостя», которая всегда готова к при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Картинка 5 из 1449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609480"/>
            <a:ext cx="3200400" cy="2125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Гостя не полагалось расспрашивать, откуда он и зачем приехал. В гостевом помещении с ним находился самый уважаемый мужчина семьи, при этом все присутствующие должны были стоять. Как бы хозяин ни был занят, он должен был находиться рядом с гос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Хозяин и его домочадцы старались удовлетворить любое желание гостя, что требовало от него ответной сдержанности. Гостю подавалась самая лучшая пища, и если он оставался на ночь, ему резали барана, даже несмотря на то, что в доме было свежее мясо. Перед отъездом гостя должны были накормить горячей пищей. От гостя ожидали умеренности в еде, умения поддержать бесе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533520"/>
            <a:ext cx="86104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остеприим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сказк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Гостеприим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Радушие по отношению к гостям, любезный прием гостей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Лиса и журав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6 из 9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066680"/>
            <a:ext cx="75438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5341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2286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28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уха Цокот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инни-Пух в гостях у Кро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Картинка 2 из 2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Каша из топ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295280"/>
            <a:ext cx="68580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Гостеприим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ы любим дом,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де любят нас.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ускай он сыр, пускай он душен.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о лишь бы теплое радушье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Цвело в окне хозяйских глаз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по любой мудреной карте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ы этот странный дом найдем -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де длинный чай,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де робкий фартук,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де равно - в декабре и в марте -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тречают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лнечным лицо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осиф Уткин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Пословицы о гостеприим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 гостях хорош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оброму гост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юбишь гост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Много гост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520" y="114264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хозяин ра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много новост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 дома лучш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юби и к с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в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1676520"/>
            <a:ext cx="990720" cy="24382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505320" y="2971440"/>
            <a:ext cx="1600200" cy="25146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962520" y="1676520"/>
            <a:ext cx="1218960" cy="12189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066680" cy="12193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Виктори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ой народ пьёт чай из пи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1523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Русски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Татарски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990720"/>
            <a:ext cx="8610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ой народ встречает гостей хлебом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лью?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057400"/>
            <a:ext cx="771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 какого народа национальное блю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ак-ч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3886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Узбекски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495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ой народ встречает гостей перед входом в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029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ашкирски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638680"/>
            <a:ext cx="744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какого народа имеется в доме «комната гост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61722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6095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Кавказски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ычаи гостеприимства передаются из поколения в поколение. Они так прочно вошли в нашу жизнь, что в сознании разных народов воспринимаются как нечто должное, как неотъемлемая часть культуры. Времена сейчас сложные, и все равно – ходите друг к другу в гости, будьте открытыми, приветливыми, дружелюбными. Ведь главное в гостях – не застолье, а радость общения с дорогими людьми, на которых, как известно, и держится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не показалось важным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Я понял (а)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Я почувствовал(а)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Интернет-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Толковый словарь Дмитрия Николаевича Уша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А.Самолюк «Исследование традиций русского гостеприим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http://takva.ru/?page_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http://shop.salon-debut.ru/catalogue/good_4084.p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http://shop.salon-debut.ru/catalogue/good_4108.p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http://900igr.net/kartinki/istorija/Russkij-narod/124-No-russkij-narod-tem-i-otlichaetsja-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drugikh-narodov-chto-zhivet-dushoj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www.frio.ru/news/312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baimak2school.ucoz.ru/photo/5-0-43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www.agidel.ru:16080/index.php?param1=8085&amp;tab=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asia-travel.uz/uzbekistan/customs-and-traditions/nationalhospitality-of-uzbek-people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www.mg.uz/publish/doc/text58114_tradicii_i_obychai_uzbekistana_uzbekskaya_n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naya_odej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takva.ru/?page_id=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takva.ru/?page_id=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www.etnolog.ru/dress.php?id=TA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naukaoren.narod.ru/photoalbu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www.luckyforum.net/showthread.php?p=631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illustrators.ru/illustrations/29554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nalchik.olx.ru/18-19-iid-1879334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alaniya.wordpress.com/2010/02/04/odejda-_narodov_s_kavkaz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http://www.liveinternet.ru/users/ymeqka/post2035040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/http://warezcity.ru/page/6751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http://www.orexca.com/rus/uzbek_custom.s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123720" y="456840"/>
            <a:ext cx="5867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Гостеприимство – это практический способ служения Бо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Так говорит Св.Писание: “И сказал: Владыка! если я обрел благоволение пред очами Твоими, не пройди мимо раба Твоего; и принесут немного воды, и омоют ноги ваши; и отдохните под сим деревом, а я принесу хлеба, и вы подкрепите сердца ваши. Принимая гостеприимство мы тем самым даем возможность людям проявить их великодуши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доме же том оставайтесь, ешьте и пейте, что у них есть, ибо трудящийся достоин награды за труды свои; не переходите из дома в дом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33 из 157418">
            <a:hlinkClick r:id="rId2"/>
          </p:cNvPr>
          <p:cNvPicPr/>
          <p:nvPr/>
        </p:nvPicPr>
        <p:blipFill>
          <a:blip r:embed="rId3"/>
          <a:stretch/>
        </p:blipFill>
        <p:spPr>
          <a:xfrm rot="21044400">
            <a:off x="380520" y="1294920"/>
            <a:ext cx="2695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Какого народа одеж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28 из 189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600200"/>
            <a:ext cx="260352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2 из 842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160020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4 из 1220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57600" y="2057400"/>
            <a:ext cx="1698480" cy="213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4876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8740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Русское гостеприим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Гостеприимство всегда было характерной чертой русского человека. Оценивалось оно, прежде всего, хлебосольством. Гостя в старину полагалось напоить и накормить дос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48320" y="3045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бычай диктовал, чуть ли не насильно кормить и поить гостя. Хозяева становились на колени и слезно молили съесть и выпить «еще хоть чуть-чуть». Объяснялось это тем, что селения и поместья располагались вдали друг от друга, и редкий гость, переступавший порог дома, был всегда в радость. С тех пор гостеприимство в России неизменно стоит на первом месте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066680"/>
            <a:ext cx="4391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2 из 86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09480"/>
            <a:ext cx="4648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7960" y="609120"/>
            <a:ext cx="4343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Руси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дорогих гостей всегда встречали хлебом и солью, а приезжего человека было принято обогреть, накормить. Наши предки с радостью принимали гостя – не скупились, ставили на стол все, что имели. Потому и возникла поговорка: «Всё на стол мечи, что есть в печи». Хозяева даже обижались, когда гость мало ел и пи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Какого народа одеж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63 из 12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1295280"/>
            <a:ext cx="2543040" cy="381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12 из 12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143000"/>
            <a:ext cx="258120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1 из 12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51120" y="2286000"/>
            <a:ext cx="3268800" cy="419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822960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2350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Гостеприимство та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 древнему татарскому обычаю в честь гостя расстилалась праздничная скатерть и на стол выставлялись лучшие угощения - сладкий чак- чак, щербет, липовый мед, и, конечно, душистый ч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3 из 399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447920"/>
            <a:ext cx="457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9T08:46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