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7FB-FEC0-433D-AF87-EE29C506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41C-6D64-4DC7-8398-B176B915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CA7-F2EB-4452-81AE-DB199545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32B-7956-4288-8CC9-D7B5CCC2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0B54-9877-4B5D-ADE6-605C6378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D82-F5E6-4378-966F-FB5EACD1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C270-B5F5-41D7-A392-8EE061E5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F95E-95FD-496F-93AC-12E0B98E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EDD-C499-4D49-BF4B-76A40A71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790E-0198-4241-A9FC-7447079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3EB9-EF05-4BEA-92E9-6AB0B62C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0A2-F182-4481-838F-F637D12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D13A-C16F-4A40-ABD2-5662B0C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AA73-05AC-47DC-A35C-66FBB6D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48EC-B643-4498-9FAB-5C12411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507-31AE-4AE4-8404-04D04B1D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0AEB-4593-43A3-9992-62B9DE9E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4037-E1D0-4211-A0B4-4BFEE67E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713C-15E5-4287-A7AE-2E8753CB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C0BE-F8A8-4DB8-9E0D-6E5998B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3872-1287-4D7B-AABE-92E23453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C739-5CD5-4EC9-97BD-307531F0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349-8801-411D-A8D4-EDCBB5EE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1F62-C554-4870-9833-F5ACCEB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911E-8696-4299-9EDD-470C11F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4AE4-1063-4406-98C8-608B267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3995-BD85-4171-AD98-1EF0AA7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0563-4171-4DCC-BFD5-02976C17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3026-EA04-4477-A9AF-B15DB3B8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77C4-55EC-4A8A-AF46-883A23DB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57C-7FB0-49A1-8CA6-B67063A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E3D-344F-4E60-B4F0-571A2112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DB9-8A8E-4F1B-B366-7222B013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F85-E95A-4A98-B671-8B6C2C6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6D0-D483-4E0C-9880-EB5BF3C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CC4-46F6-4378-B330-8A5030F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0F39-4493-4359-B9A6-DCF3D26C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7EE8-DFCD-4EA6-BB31-92339A440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E27-BA7F-4EA6-A06B-F21677FAFE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39280" y="857160"/>
            <a:ext cx="82803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мя прилагательное как часть ре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4200" y="22143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 кругом   р…са  ж…мчужная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тливала блёстки алые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 над оз…ром серебряным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мыши, склонясь, ш…птали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3e645a3146a85c79184c5b182563ad13"/>
          <p:cNvPicPr/>
          <p:nvPr/>
        </p:nvPicPr>
        <p:blipFill>
          <a:blip r:embed="rId1"/>
          <a:stretch/>
        </p:blipFill>
        <p:spPr>
          <a:xfrm>
            <a:off x="2357280" y="3071880"/>
            <a:ext cx="485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9001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А кругом   р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а  ж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мчужная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Отливала блёстки алые,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И над оз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ом серебряным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Камыши, склонясь, ш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талися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12" descr="3e645a3146a85c79184c5b182563ad13"/>
          <p:cNvPicPr/>
          <p:nvPr/>
        </p:nvPicPr>
        <p:blipFill>
          <a:blip r:embed="rId2"/>
          <a:stretch/>
        </p:blipFill>
        <p:spPr>
          <a:xfrm>
            <a:off x="2786040" y="307188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5760" cy="5956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бразное определение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а  ж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чужная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лёстки алые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з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ом серебряным</a:t>
            </a:r>
            <a:br>
              <a:rPr sz="2800"/>
            </a:br>
            <a:br>
              <a:rPr sz="3200"/>
            </a:br>
            <a:br>
              <a:rPr sz="9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Из истории сло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ревнерусском языке слов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чало только красивый: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красный молодец, красна  девица, красно солныш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помним пословицу: «Весна красна цветами, а осень - плод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ую краску называли словом БА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Багровым называют густой красный цвет, а багряным- яркий, чистый красный цв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помните у А.Пушкина : «В багрец и золото одетые лес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от у Бунина: «Лес, точно терем расписной, лиловый, золотой, багряный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57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Script MT Bold"/>
              </a:rPr>
              <a:t>МОРФОЛОГИЧЕСКИЕ ПРИ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6" descr="http://im7-tub.yandex.net/i?id=4331395-15"/>
          <p:cNvPicPr/>
          <p:nvPr/>
        </p:nvPicPr>
        <p:blipFill>
          <a:blip r:embed="rId1"/>
          <a:stretch/>
        </p:blipFill>
        <p:spPr>
          <a:xfrm>
            <a:off x="857160" y="285840"/>
            <a:ext cx="7408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РФОЛОГИЧЕСКИЕ ПРИ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391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Прилагательные изменя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ПО ЧИСЛАМ, ПАДЕЖ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и в единственном числе по РО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29120"/>
            <a:ext cx="89298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интаксическая рол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 ж…вём на красивой планете Земля.</a:t>
            </a:r>
            <a:br>
              <a:rPr sz="5400"/>
            </a:br>
            <a:br>
              <a:rPr sz="5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асота нашей Земли хру…кая и уязвимая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08000" y="115560"/>
            <a:ext cx="8672400" cy="2513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Мы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вём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на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красивой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планете Зем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13840" y="3214800"/>
            <a:ext cx="857268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Красота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нашей Земли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хру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ка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уязвима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интаксическая р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57120" y="1915920"/>
            <a:ext cx="85010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Имя прилага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в предложении является определением или сказуе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лагательные-паронимы. Игра«Паутина слов». Задание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личить данные прилагательные. Для каждого прилагательного найти подходящее по смыслу сущ. Пронумеруй сущ. так, чтобы номера совпали с нужным прилагательным и соедини их, к концу работы получится пау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здный                    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здничный              ста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ный                    ма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ливый               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кольный                 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клянный                 щ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ный                   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ливый                зев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Происхождени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0920" y="1785960"/>
            <a:ext cx="86421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огие термины имеют корни в латыни. Прилагательное не является исключением. Дословный перевод названия «прилагательное» с греческого –  «эпитет». Перевод с латинского – «нечто прибавленное», «приложенно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На какие вопросы отвечает прилагательно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Что делать? Что сделать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Какой? Чей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Когда? Где?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С какой частью речи “дружит” имя прилагательно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С наречие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С местоимение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С имением существительным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Что обозначает прилагательно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Предме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ризнак предмет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Действие предмет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 Чем, как правило, является в предложении  прилагательно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одлежащи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Определение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Сказуемы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640720" cy="410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Упр. 100,1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640720" cy="410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Определяю я предметы,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Они со мной всегда приметны.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Я украшаю Вашу речь,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Меня Вам нужно знать, береч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e6b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Грамматическое значение имени прилагательног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ff8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Вставьте на месте пропусков имена прилагательные. Назовите автора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Улыбнулись ……           берё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Растрепали ……               ко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Шелестят ……                серё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И горят …………              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Какую роль играют прилагательные в произведении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3500280" y="2714760"/>
            <a:ext cx="1571760" cy="428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с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3500280" y="3214800"/>
            <a:ext cx="1571760" cy="428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шёлк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3500280" y="3714840"/>
            <a:ext cx="1571760" cy="428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зелё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3286080" y="4143240"/>
            <a:ext cx="1785960" cy="4287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серебря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4286160" y="5500800"/>
            <a:ext cx="3071880" cy="5713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Являются эпите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2" descr="ag00630_"/>
          <p:cNvPicPr/>
          <p:nvPr/>
        </p:nvPicPr>
        <p:blipFill>
          <a:blip r:embed="rId1"/>
          <a:stretch/>
        </p:blipFill>
        <p:spPr>
          <a:xfrm>
            <a:off x="7286760" y="2357280"/>
            <a:ext cx="13492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389800" cy="4448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клоняйте словосочетания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оса жемчужная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зеро серебряно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000"/>
                </a:solidFill>
                <a:latin typeface="Arial"/>
              </a:rPr>
              <a:t>ПРОВЕРЬ СЕБ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2560" y="2133720"/>
            <a:ext cx="900108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п. роса жемчужная, озеро серебря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.п. росы жемчужной, озера серебря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п. росе жемчужной, озеру серебря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. росу жемчужную, озеро серебря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п. росой жемчужной, озером серебря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п о росе жемчужной, об озере серебря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e6b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Морфологические признаки имени прилагательн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23520"/>
            <a:ext cx="8740800" cy="47149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Запишите текст, раскрывая скобк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1.После (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короткий)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дождя опять выглянуло 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(яркий)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солнышко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.2. Над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мокрый)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землёй начал подниматься (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лёгкий)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парок.  3. В 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(тенистый)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аллейке солнце падало (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светлый)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пятнами на песок. 4. В 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(густой)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кустах защебетали (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 весёлый) пт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Как изменяются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Как определить род, число и падеж имени прилагательно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37r3"/>
          <p:cNvPicPr/>
          <p:nvPr/>
        </p:nvPicPr>
        <p:blipFill>
          <a:blip r:embed="rId1"/>
          <a:stretch/>
        </p:blipFill>
        <p:spPr>
          <a:xfrm>
            <a:off x="7924680" y="142920"/>
            <a:ext cx="121932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923920"/>
            <a:ext cx="7947000" cy="309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Имя прилагательное отвечает на вопросы _x000b_КАКОЙ? ЧЕЙ?_x000b_</a:t>
            </a:r>
            <a:br>
              <a:rPr sz="44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могает точно, ярко и образно описать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дметы, чувства, настроение.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значае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зна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По свойствам и качествам предмета мы можем понять, о ком или о чём идёт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громный, тёмно - серый, толстокожий, толстоног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166"/>
          <p:cNvPicPr/>
          <p:nvPr/>
        </p:nvPicPr>
        <p:blipFill>
          <a:blip r:embed="rId2"/>
          <a:stretch/>
        </p:blipFill>
        <p:spPr>
          <a:xfrm>
            <a:off x="4729320" y="3068640"/>
            <a:ext cx="2290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57:39Z</dcterms:created>
  <dc:creator>1</dc:creator>
  <dc:description/>
  <dc:language>en-US</dc:language>
  <cp:lastModifiedBy>I`m</cp:lastModifiedBy>
  <dcterms:modified xsi:type="dcterms:W3CDTF">2013-10-05T08:35:09Z</dcterms:modified>
  <cp:revision>72</cp:revision>
  <dc:subject/>
  <dc:title>Имя прилагательное</dc:title>
</cp:coreProperties>
</file>