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49CD-61E8-4442-A71F-91257390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B9AA-4968-42D9-9F8C-573AA37F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CFB4-945D-4717-AA04-75C863A3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62C5-875C-46C3-9020-1EFA8546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038-AC8E-455B-A3AC-827D2583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FBBE-D671-45EA-99F7-07BA607E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7C6B-74CA-473A-BE5B-113C9D4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130-1C3B-496B-BF19-DE755DF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3C66-75A7-4D89-A169-C25399F0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220D-6F1E-4D90-A98E-987F0FF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635E-7D85-4609-90F9-7118BC2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6673-2875-4075-904C-CC72FF8D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526-3E24-42F0-A0EE-331AA74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D36-1FFA-4084-8DF2-2014B8B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81B6-5CA9-4382-8D48-B6730C8E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800-D85C-46B1-BCE6-12033B03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4FB-7A25-41FD-B5C3-2E9D3F7A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4D33-3EFA-467F-A8CE-88361AF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C0A5-F795-4196-AF28-04D9AD7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78E9-B801-41B2-A8FE-8FDB01B8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E47B-7852-4F3D-9B81-85D37FC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42A5-2802-4342-9AEF-57C6A91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E4F0-786D-4C40-BF51-DAB2B00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13CC-2E57-4C75-9801-F17FD72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E2B-FED5-4D88-A01B-2D25CEB121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B729-5857-41CE-9FB6-F8BA5CDE1E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Garamond"/>
              </a:rPr>
              <a:t>Решение текстовых задач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Модель, которая иллюстрирует ход решения задачи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907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46280" y="914400"/>
          <a:ext cx="3382920" cy="1220760"/>
        </p:xfrm>
        <a:graphic>
          <a:graphicData uri="http://schemas.openxmlformats.org/drawingml/2006/table">
            <a:tbl>
              <a:tblPr/>
              <a:tblGrid>
                <a:gridCol w="216000"/>
                <a:gridCol w="1736280"/>
                <a:gridCol w="1430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76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1371600"/>
          <a:ext cx="3563640" cy="1127160"/>
        </p:xfrm>
        <a:graphic>
          <a:graphicData uri="http://schemas.openxmlformats.org/drawingml/2006/table">
            <a:tbl>
              <a:tblPr/>
              <a:tblGrid>
                <a:gridCol w="287280"/>
                <a:gridCol w="1639800"/>
                <a:gridCol w="163656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07076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3048120"/>
            <a:ext cx="457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90720" y="1143000"/>
            <a:ext cx="5715000" cy="4952880"/>
            <a:chOff x="990720" y="1143000"/>
            <a:chExt cx="5715000" cy="4952880"/>
          </a:xfrm>
        </p:grpSpPr>
        <p:sp>
          <p:nvSpPr>
            <p:cNvPr id="184" name=""/>
            <p:cNvSpPr/>
            <p:nvPr/>
          </p:nvSpPr>
          <p:spPr>
            <a:xfrm>
              <a:off x="990720" y="1143000"/>
              <a:ext cx="1295280" cy="990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1143000"/>
              <a:ext cx="1295280" cy="990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3048120"/>
              <a:ext cx="1295280" cy="99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21520" y="32767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99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0080" y="3048120"/>
              <a:ext cx="1295640" cy="99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33920" y="5105520"/>
              <a:ext cx="1295280" cy="99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2133720"/>
              <a:ext cx="685800" cy="91440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963240" y="2153520"/>
              <a:ext cx="995040" cy="92196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5320" y="4114800"/>
              <a:ext cx="685800" cy="91440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645440" y="4110840"/>
              <a:ext cx="995400" cy="92232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плоход за 6 часов прошел 120 км. Сколько километров он пройдет за 3 часа, если будет идти с той же скоростью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55640" y="2997360"/>
          <a:ext cx="7848720" cy="27446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ор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стоя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динаковая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ч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к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ч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-1844280" y="202320"/>
            <a:ext cx="10607400" cy="5207760"/>
            <a:chOff x="-1844280" y="202320"/>
            <a:chExt cx="10607400" cy="5207760"/>
          </a:xfrm>
        </p:grpSpPr>
        <p:sp>
          <p:nvSpPr>
            <p:cNvPr id="197" name=""/>
            <p:cNvSpPr/>
            <p:nvPr/>
          </p:nvSpPr>
          <p:spPr>
            <a:xfrm>
              <a:off x="990720" y="609480"/>
              <a:ext cx="708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99"/>
                  </a:solidFill>
                  <a:latin typeface="Times New Roman"/>
                </a:rPr>
                <a:t>Способы решения задач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190512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99"/>
                  </a:solidFill>
                  <a:latin typeface="Times New Roman"/>
                </a:rPr>
                <a:t>1. Практический (предметный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160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812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620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832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8520" y="2895480"/>
              <a:ext cx="68580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6181800">
              <a:off x="1104840" y="-141840"/>
              <a:ext cx="3047400" cy="47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55" y="4208"/>
                  </a:moveTo>
                  <a:arcTo wR="10800" hR="10800" stAng="-2257130" swAng="2257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55" y="4208"/>
                  </a:moveTo>
                  <a:arcTo wR="10800" hR="10800" stAng="-2257130" swAng="2257130"/>
                </a:path>
              </a:pathLst>
            </a:cu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6181800">
              <a:off x="-723600" y="-141840"/>
              <a:ext cx="3047400" cy="47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55" y="4208"/>
                  </a:moveTo>
                  <a:arcTo wR="10800" hR="10800" stAng="-2257130" swAng="2257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55" y="4208"/>
                  </a:moveTo>
                  <a:arcTo wR="10800" hR="10800" stAng="-2257130" swAng="2257130"/>
                </a:path>
              </a:pathLst>
            </a:cu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6181800">
              <a:off x="2705040" y="-141840"/>
              <a:ext cx="3047400" cy="47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55" y="4208"/>
                  </a:moveTo>
                  <a:arcTo wR="10800" hR="10800" stAng="-2257130" swAng="2257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55" y="4208"/>
                  </a:moveTo>
                  <a:arcTo wR="10800" hR="10800" stAng="-2257130" swAng="2257130"/>
                </a:path>
              </a:pathLst>
            </a:cu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6181800">
              <a:off x="4381560" y="-141840"/>
              <a:ext cx="3047400" cy="47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55" y="4208"/>
                  </a:moveTo>
                  <a:arcTo wR="10800" hR="10800" stAng="-2257130" swAng="2257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55" y="4208"/>
                  </a:moveTo>
                  <a:arcTo wR="10800" hR="10800" stAng="-2257130" swAng="2257130"/>
                </a:path>
              </a:pathLst>
            </a:cu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80" y="4648320"/>
              <a:ext cx="762120" cy="761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6680" y="4648320"/>
              <a:ext cx="762120" cy="761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5120" y="4648320"/>
              <a:ext cx="761760" cy="761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520" y="4648320"/>
              <a:ext cx="761760" cy="7617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7600" y="4648320"/>
              <a:ext cx="762120" cy="7617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95680" y="4648320"/>
              <a:ext cx="762120" cy="7617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4120" y="4648320"/>
              <a:ext cx="761760" cy="7617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4648320"/>
              <a:ext cx="762120" cy="761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6600" y="4648320"/>
              <a:ext cx="762120" cy="761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648320"/>
              <a:ext cx="762120" cy="761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04920" y="457200"/>
            <a:ext cx="7696080" cy="5233320"/>
            <a:chOff x="304920" y="457200"/>
            <a:chExt cx="7696080" cy="5233320"/>
          </a:xfrm>
        </p:grpSpPr>
        <p:sp>
          <p:nvSpPr>
            <p:cNvPr id="222" name=""/>
            <p:cNvSpPr/>
            <p:nvPr/>
          </p:nvSpPr>
          <p:spPr>
            <a:xfrm>
              <a:off x="304920" y="45720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99"/>
                  </a:solidFill>
                  <a:latin typeface="Times New Roman"/>
                </a:rPr>
                <a:t>2. Арифметический способ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" y="1371600"/>
              <a:ext cx="601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8 : 2 = 4 (т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880" y="2438280"/>
              <a:ext cx="6477120" cy="32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1 способ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1) 3 + 4 = 7 (р.) – пойманные рыбы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2) 10 – 7 = 3 (р.) – щуки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2 способ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1)10 – 3 = 7 (р.) – щуки и окуни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2) 7 – 4 = 3 (р.) – щуки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-2072880" y="304920"/>
            <a:ext cx="10302480" cy="5790960"/>
            <a:chOff x="-2072880" y="304920"/>
            <a:chExt cx="10302480" cy="5790960"/>
          </a:xfrm>
        </p:grpSpPr>
        <p:sp>
          <p:nvSpPr>
            <p:cNvPr id="235" name=""/>
            <p:cNvSpPr/>
            <p:nvPr/>
          </p:nvSpPr>
          <p:spPr>
            <a:xfrm>
              <a:off x="533520" y="3049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99"/>
                  </a:solidFill>
                  <a:latin typeface="Times New Roman"/>
                </a:rPr>
                <a:t>3. Алгебраический способ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0880" y="1295280"/>
              <a:ext cx="655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2 х Х = 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600" y="18288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3 + 4 + Х = 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" y="281952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99"/>
                  </a:solidFill>
                  <a:latin typeface="Times New Roman"/>
                </a:rPr>
                <a:t>4. Графический способ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-2072880" y="506520"/>
              <a:ext cx="9402840" cy="4034520"/>
              <a:chOff x="-2072880" y="506520"/>
              <a:chExt cx="9402840" cy="4034520"/>
            </a:xfrm>
          </p:grpSpPr>
          <p:sp>
            <p:nvSpPr>
              <p:cNvPr id="240" name=""/>
              <p:cNvSpPr/>
              <p:nvPr/>
            </p:nvSpPr>
            <p:spPr>
              <a:xfrm>
                <a:off x="380880" y="3809880"/>
                <a:ext cx="5486400" cy="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6181800">
                <a:off x="-952920" y="162360"/>
                <a:ext cx="3048120" cy="472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55" y="4208"/>
                    </a:moveTo>
                    <a:arcTo wR="10800" hR="10800" stAng="-2257130" swAng="22571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55" y="4208"/>
                    </a:moveTo>
                    <a:arcTo wR="10800" hR="10800" stAng="-2257130" swAng="2257130"/>
                  </a:path>
                </a:pathLst>
              </a:cu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6181800">
                <a:off x="418320" y="162360"/>
                <a:ext cx="3048120" cy="472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55" y="4208"/>
                    </a:moveTo>
                    <a:arcTo wR="10800" hR="10800" stAng="-2257130" swAng="22571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55" y="4208"/>
                    </a:moveTo>
                    <a:arcTo wR="10800" hR="10800" stAng="-2257130" swAng="2257130"/>
                  </a:path>
                </a:pathLst>
              </a:cu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6181800">
                <a:off x="1713960" y="162360"/>
                <a:ext cx="3048120" cy="472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55" y="4208"/>
                    </a:moveTo>
                    <a:arcTo wR="10800" hR="10800" stAng="-2257130" swAng="22571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55" y="4208"/>
                    </a:moveTo>
                    <a:arcTo wR="10800" hR="10800" stAng="-2257130" swAng="2257130"/>
                  </a:path>
                </a:pathLst>
              </a:cu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6181800">
                <a:off x="3161520" y="162360"/>
                <a:ext cx="3048120" cy="472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55" y="4208"/>
                    </a:moveTo>
                    <a:arcTo wR="10800" hR="10800" stAng="-2257130" swAng="22571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55" y="4208"/>
                    </a:moveTo>
                    <a:arcTo wR="10800" hR="10800" stAng="-2257130" swAng="2257130"/>
                  </a:path>
                </a:pathLst>
              </a:cu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85800" y="4876920"/>
              <a:ext cx="1828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607680" y="4876920"/>
              <a:ext cx="6936120" cy="1218960"/>
              <a:chOff x="607680" y="4876920"/>
              <a:chExt cx="6936120" cy="12189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09480" y="5486400"/>
                <a:ext cx="6858000" cy="228600"/>
                <a:chOff x="609480" y="5486400"/>
                <a:chExt cx="6858000" cy="22860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609480" y="5486400"/>
                  <a:ext cx="685800" cy="228600"/>
                  <a:chOff x="609480" y="5486400"/>
                  <a:chExt cx="685800" cy="2286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094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952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4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1295280" y="5486400"/>
                  <a:ext cx="685800" cy="228600"/>
                  <a:chOff x="1295280" y="5486400"/>
                  <a:chExt cx="685800" cy="2286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12952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19810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12952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981080" y="5486400"/>
                  <a:ext cx="685800" cy="228600"/>
                  <a:chOff x="1981080" y="5486400"/>
                  <a:chExt cx="685800" cy="2286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9810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6668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9810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2666880" y="5486400"/>
                  <a:ext cx="685800" cy="228600"/>
                  <a:chOff x="2666880" y="5486400"/>
                  <a:chExt cx="685800" cy="2286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26668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3526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6668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3352680" y="5486400"/>
                  <a:ext cx="685800" cy="228600"/>
                  <a:chOff x="3352680" y="5486400"/>
                  <a:chExt cx="685800" cy="2286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3526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0384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3526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4038480" y="5486400"/>
                  <a:ext cx="685800" cy="228600"/>
                  <a:chOff x="4038480" y="5486400"/>
                  <a:chExt cx="685800" cy="2286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40384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7242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0384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4724280" y="5486400"/>
                  <a:ext cx="685800" cy="228600"/>
                  <a:chOff x="4724280" y="5486400"/>
                  <a:chExt cx="685800" cy="2286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47242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4100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7242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5410080" y="5486400"/>
                  <a:ext cx="685800" cy="228600"/>
                  <a:chOff x="5410080" y="5486400"/>
                  <a:chExt cx="685800" cy="228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54100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0958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4100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781680" y="5486400"/>
                  <a:ext cx="685800" cy="228600"/>
                  <a:chOff x="6781680" y="5486400"/>
                  <a:chExt cx="685800" cy="2286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67816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4674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7816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095880" y="5486400"/>
                  <a:ext cx="685800" cy="228600"/>
                  <a:chOff x="6095880" y="5486400"/>
                  <a:chExt cx="685800" cy="2286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6095880" y="56386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7816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95880" y="5486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685800" y="4876920"/>
                <a:ext cx="190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лещи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600">
                <a:off x="1445760" y="4876560"/>
                <a:ext cx="380880" cy="2057400"/>
              </a:xfrm>
              <a:custGeom>
                <a:avLst/>
                <a:gdLst>
                  <a:gd name="textAreaLeft" fmla="*/ 0 w 380880"/>
                  <a:gd name="textAreaRight" fmla="*/ 267120 w 380880"/>
                  <a:gd name="textAreaTop" fmla="*/ 85680 h 2057400"/>
                  <a:gd name="textAreaBottom" fmla="*/ 197172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600">
                <a:off x="3846960" y="4533120"/>
                <a:ext cx="380880" cy="2741760"/>
              </a:xfrm>
              <a:custGeom>
                <a:avLst/>
                <a:gdLst>
                  <a:gd name="textAreaLeft" fmla="*/ 0 w 380880"/>
                  <a:gd name="textAreaRight" fmla="*/ 267120 w 380880"/>
                  <a:gd name="textAreaTop" fmla="*/ 114120 h 2741760"/>
                  <a:gd name="textAreaBottom" fmla="*/ 262764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19520" y="4876920"/>
                <a:ext cx="259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окуни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600">
                <a:off x="6247800" y="4876560"/>
                <a:ext cx="380880" cy="2057400"/>
              </a:xfrm>
              <a:custGeom>
                <a:avLst/>
                <a:gdLst>
                  <a:gd name="textAreaLeft" fmla="*/ 0 w 380880"/>
                  <a:gd name="textAreaRight" fmla="*/ 267120 w 380880"/>
                  <a:gd name="textAreaTop" fmla="*/ 85680 h 2057400"/>
                  <a:gd name="textAreaBottom" fmla="*/ 197172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62720" y="49528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щуки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. Схематическое моделировани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хема моделирует только связи и отношения между данными и иском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алось    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ыл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________.________.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8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18:2=9(м.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9х3=27 (м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вет: 27 машин было в гараж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067280" y="2473560"/>
            <a:ext cx="352872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" y="12317"/>
                </a:moveTo>
                <a:arcTo wR="10800" hR="10800" stAng="10315640" swAng="11284360"/>
                <a:lnTo>
                  <a:pt x="10800" y="10800"/>
                </a:lnTo>
                <a:close/>
              </a:path>
              <a:path fill="none" w="21600" h="21600">
                <a:moveTo>
                  <a:pt x="107" y="12317"/>
                </a:moveTo>
                <a:arcTo wR="10800" hR="10800" stAng="10315640" swAng="11284360"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720" y="2637000"/>
            <a:ext cx="691128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352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Три сборщика собрали 160 кг ягод шиповника. Первый собрал 63 кг, а первый и второй вместе – 112 кг. Сколько килограммов ягод шиповника собрал второй и сколько третий сборщик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3276720"/>
            <a:ext cx="0" cy="3045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276720"/>
            <a:ext cx="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8480" y="35053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63 к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04920" y="1828800"/>
            <a:ext cx="4876560" cy="2828880"/>
            <a:chOff x="304920" y="1828800"/>
            <a:chExt cx="4876560" cy="2828880"/>
          </a:xfrm>
        </p:grpSpPr>
        <p:sp>
          <p:nvSpPr>
            <p:cNvPr id="303" name=""/>
            <p:cNvSpPr/>
            <p:nvPr/>
          </p:nvSpPr>
          <p:spPr>
            <a:xfrm>
              <a:off x="304920" y="2371680"/>
              <a:ext cx="487656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920" y="3057480"/>
              <a:ext cx="487656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1240" y="18288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160 кг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560" y="2905200"/>
              <a:ext cx="0" cy="16761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2371680"/>
              <a:ext cx="0" cy="1447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920" y="2219400"/>
              <a:ext cx="0" cy="24382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20" y="3591000"/>
              <a:ext cx="121896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33560" y="3591000"/>
              <a:ext cx="144756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920" y="4352760"/>
              <a:ext cx="3428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920" y="26002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1 сб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7080" y="26002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2 сб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15880" y="26002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3 сб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8160" y="3057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3920" y="3895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99"/>
                  </a:solidFill>
                  <a:latin typeface="Times New Roman"/>
                </a:rPr>
                <a:t>112 кг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257800" y="22860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)160 – 112 = 48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2) 112 – 63 = 49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350532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920" y="4638600"/>
            <a:ext cx="415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60 – 63 = 97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2) 112 – 63 = 49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3) 97 – 49 = 48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3280" y="4724280"/>
            <a:ext cx="442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60 – 112 = 48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2) 48 + 63 = 111 (к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3) 160 – 111 = 49 (кг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На пошив 8 одинаковых пальто израсходовано 24 м ткани. Сколько ткани потребуется на 2 таких же пальт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57200" y="2852640"/>
          <a:ext cx="8229600" cy="3273120"/>
        </p:xfrm>
        <a:graphic>
          <a:graphicData uri="http://schemas.openxmlformats.org/drawingml/2006/table">
            <a:tbl>
              <a:tblPr/>
              <a:tblGrid>
                <a:gridCol w="2965320"/>
                <a:gridCol w="2633760"/>
                <a:gridCol w="2630520"/>
              </a:tblGrid>
              <a:tr h="15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ход на 1 издел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 издел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щий расход ткан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динаковый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пальт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пальт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50920" y="333360"/>
          <a:ext cx="8892720" cy="5533560"/>
        </p:xfrm>
        <a:graphic>
          <a:graphicData uri="http://schemas.openxmlformats.org/drawingml/2006/table">
            <a:tbl>
              <a:tblPr/>
              <a:tblGrid>
                <a:gridCol w="1375920"/>
                <a:gridCol w="623520"/>
                <a:gridCol w="623520"/>
                <a:gridCol w="623520"/>
                <a:gridCol w="623520"/>
                <a:gridCol w="623160"/>
                <a:gridCol w="622800"/>
                <a:gridCol w="623520"/>
                <a:gridCol w="623520"/>
                <a:gridCol w="623520"/>
                <a:gridCol w="623520"/>
                <a:gridCol w="622800"/>
                <a:gridCol w="659880"/>
              </a:tblGrid>
              <a:tr h="569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т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и (м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e5ff"/>
                </a:solidFill>
                <a:latin typeface="Garamond"/>
              </a:rPr>
              <a:t>Методические приемы обучения младших школьников решению задач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)  Выбор схе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бор вопро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бор выраже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бор условия к данному вопрос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5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бор дан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6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зменение текста задачи в соответствии с данным реш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7) Постановка вопроса, соответствующего данной схе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8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ъяснение выражений, составленных по данному услов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9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бор решения задач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ржит информацию о какой-либо области действительности (условие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ребование вывести, получить новую информацию, построить новый объект, способ действия , закономерность, свойство, подтвердить или опровергнуть утверждение (вопрос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Garamond"/>
              </a:rPr>
              <a:t>Этапы решения задач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Восприятие и осмысление зада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//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Поиск плана реш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///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Выполнение плана реш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Проверка реш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ормулировка ответа на вопрос 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задачи (вывода о выполнении 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ребования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VI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Исследование реш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Garamond"/>
              </a:rPr>
              <a:t>Умения и навык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выки чтения (умение не только слушать внимательно текст, но и правильно представлять описанную ситуацию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своение конкретного смысла действий сложения и вычит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ование у учащихся основных познавательных действий (наблюдение, сравнение, измерение, моделирование), представлений об отношениях целого и части, равенства и неравенства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обретение опыта в соотнесении предметных, словесных, схематических и символических модел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комство со схемой как способом моделирован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Garamond"/>
              </a:rPr>
              <a:t>Предметные действия с совокупностями, соответствующие действию слож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величение на несколько элементов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бъединен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Garamond"/>
              </a:rPr>
              <a:t>Предметные действия с совокупностями, соответствующие действию вычита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даление части совокупности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меньшение совокупности на несколько единиц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меньшение на несколько единиц совокупности сравниваемой с дан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ностное сравнение двух совокупносте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Garamond"/>
              </a:rPr>
              <a:t>Нетиповые тексты задач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 Вся задача сформулирована одним предложение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Требование выражено повествовательным предложением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Условие разделено на два предложе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Условие разделено на две части, одна из частей сформулирована в вопросе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5.Тексты с недостающими данны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6.Тексты с лишними данны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60680" y="34596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049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57200"/>
            <a:ext cx="84582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… рисунки, схемы и чертежи не только помогают учащимся  в сознательном выявлении скрытых зависимостей между величинами, но и побуждают активно мыслить, искать наиболее рациональные пути решения задач, помогают не только усваивать знания, но и овладевать умением применять их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Л. Ш. Левенберг)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292640"/>
            <a:ext cx="86104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. Л. Рубинштейн характеризовал решение задач человеком как процесс переформулирования 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тором непрерывно производится анализ условий и требований задачи через синтетический акт их соотнесен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Garamond"/>
              </a:rPr>
              <a:t>Виды модел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125360"/>
          <a:ext cx="9144000" cy="3672000"/>
        </p:xfrm>
        <a:graphic>
          <a:graphicData uri="http://schemas.openxmlformats.org/drawingml/2006/table">
            <a:tbl>
              <a:tblPr/>
              <a:tblGrid>
                <a:gridCol w="2411280"/>
                <a:gridCol w="2160720"/>
                <a:gridCol w="2448000"/>
                <a:gridCol w="2124000"/>
              </a:tblGrid>
              <a:tr h="65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хематизирова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нак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ещ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фическ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естественном язы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математическом язы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049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. Модель, которая иллюстрирует взаимосвязь между данными и искомы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43828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0" cy="304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362320"/>
            <a:ext cx="0" cy="3045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362320"/>
            <a:ext cx="0" cy="3045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43828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27672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657600"/>
            <a:ext cx="35798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41972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50532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57200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3240" y="1295280"/>
            <a:ext cx="7930440" cy="4114800"/>
            <a:chOff x="453240" y="1295280"/>
            <a:chExt cx="7930440" cy="4114800"/>
          </a:xfrm>
        </p:grpSpPr>
        <p:grpSp>
          <p:nvGrpSpPr>
            <p:cNvPr id="130" name=""/>
            <p:cNvGrpSpPr/>
            <p:nvPr/>
          </p:nvGrpSpPr>
          <p:grpSpPr>
            <a:xfrm>
              <a:off x="453240" y="1295280"/>
              <a:ext cx="3586680" cy="1371600"/>
              <a:chOff x="453240" y="1295280"/>
              <a:chExt cx="3586680" cy="1371600"/>
            </a:xfrm>
          </p:grpSpPr>
          <p:sp>
            <p:nvSpPr>
              <p:cNvPr id="131" name=""/>
              <p:cNvSpPr/>
              <p:nvPr/>
            </p:nvSpPr>
            <p:spPr>
              <a:xfrm>
                <a:off x="458640" y="2438280"/>
                <a:ext cx="358128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350200">
                <a:off x="1981440" y="376920"/>
                <a:ext cx="528480" cy="3578040"/>
              </a:xfrm>
              <a:custGeom>
                <a:avLst/>
                <a:gdLst>
                  <a:gd name="textAreaLeft" fmla="*/ 155160 w 528480"/>
                  <a:gd name="textAreaRight" fmla="*/ 528840 w 528480"/>
                  <a:gd name="textAreaTop" fmla="*/ 149040 h 3578040"/>
                  <a:gd name="textAreaBottom" fmla="*/ 3429000 h 357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16040" y="2286000"/>
                <a:ext cx="0" cy="38088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30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3640" y="198108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в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35160" y="12952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8640" y="2286000"/>
                <a:ext cx="0" cy="30492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39920" y="2286000"/>
                <a:ext cx="0" cy="30492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799880" y="1600200"/>
              <a:ext cx="3583800" cy="1981080"/>
              <a:chOff x="4799880" y="1600200"/>
              <a:chExt cx="3583800" cy="1981080"/>
            </a:xfrm>
          </p:grpSpPr>
          <p:sp>
            <p:nvSpPr>
              <p:cNvPr id="140" name=""/>
              <p:cNvSpPr/>
              <p:nvPr/>
            </p:nvSpPr>
            <p:spPr>
              <a:xfrm>
                <a:off x="4800600" y="2514600"/>
                <a:ext cx="358128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392800">
                <a:off x="6399720" y="534240"/>
                <a:ext cx="384120" cy="3583080"/>
              </a:xfrm>
              <a:custGeom>
                <a:avLst/>
                <a:gdLst>
                  <a:gd name="textAreaLeft" fmla="*/ 112680 w 384120"/>
                  <a:gd name="textAreaRight" fmla="*/ 384480 w 384120"/>
                  <a:gd name="textAreaTop" fmla="*/ 149040 h 3583080"/>
                  <a:gd name="textAreaBottom" fmla="*/ 3434040 h 358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05720" y="274320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304812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00600" y="3352680"/>
                <a:ext cx="190512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32400">
                <a:off x="7427520" y="1789920"/>
                <a:ext cx="228600" cy="167652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69840 h 1676520"/>
                  <a:gd name="textAreaBottom" fmla="*/ 16066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00600" y="297180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00600" y="335268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50320" y="160020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06080" y="265752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в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62720" y="2895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08760" y="2743200"/>
              <a:ext cx="3582360" cy="1905120"/>
              <a:chOff x="608760" y="2743200"/>
              <a:chExt cx="3582360" cy="1905120"/>
            </a:xfrm>
          </p:grpSpPr>
          <p:sp>
            <p:nvSpPr>
              <p:cNvPr id="152" name=""/>
              <p:cNvSpPr/>
              <p:nvPr/>
            </p:nvSpPr>
            <p:spPr>
              <a:xfrm rot="5392800">
                <a:off x="2207880" y="1677960"/>
                <a:ext cx="384120" cy="3581640"/>
              </a:xfrm>
              <a:custGeom>
                <a:avLst/>
                <a:gdLst>
                  <a:gd name="textAreaLeft" fmla="*/ 112680 w 384120"/>
                  <a:gd name="textAreaRight" fmla="*/ 384480 w 384120"/>
                  <a:gd name="textAreaTop" fmla="*/ 149040 h 3581640"/>
                  <a:gd name="textAreaBottom" fmla="*/ 3432600 h 35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13160" y="388620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13160" y="419112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480" y="4495680"/>
                <a:ext cx="190368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6232400">
                <a:off x="3234960" y="2932920"/>
                <a:ext cx="228600" cy="167652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69840 h 1676520"/>
                  <a:gd name="textAreaBottom" fmla="*/ 16066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9480" y="411480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58840" y="2743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13160" y="380052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в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371600" y="4038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9480" y="380988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14600" y="441972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572000" y="3581280"/>
              <a:ext cx="3581640" cy="1828800"/>
              <a:chOff x="4572000" y="3581280"/>
              <a:chExt cx="3581640" cy="1828800"/>
            </a:xfrm>
          </p:grpSpPr>
          <p:sp>
            <p:nvSpPr>
              <p:cNvPr id="164" name=""/>
              <p:cNvSpPr/>
              <p:nvPr/>
            </p:nvSpPr>
            <p:spPr>
              <a:xfrm rot="5392800">
                <a:off x="6208560" y="2554200"/>
                <a:ext cx="384120" cy="3504960"/>
              </a:xfrm>
              <a:custGeom>
                <a:avLst/>
                <a:gdLst>
                  <a:gd name="textAreaLeft" fmla="*/ 112680 w 384120"/>
                  <a:gd name="textAreaRight" fmla="*/ 384480 w 384120"/>
                  <a:gd name="textAreaTop" fmla="*/ 145800 h 3504960"/>
                  <a:gd name="textAreaBottom" fmla="*/ 3359160 h 350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77120" y="487692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48320" y="5334120"/>
                <a:ext cx="182880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32400">
                <a:off x="7199640" y="3770280"/>
                <a:ext cx="227160" cy="1676520"/>
              </a:xfrm>
              <a:custGeom>
                <a:avLst/>
                <a:gdLst>
                  <a:gd name="textAreaLeft" fmla="*/ 66600 w 227160"/>
                  <a:gd name="textAreaRight" fmla="*/ 227520 w 227160"/>
                  <a:gd name="textAreaTop" fmla="*/ 69840 h 1676520"/>
                  <a:gd name="textAreaBottom" fmla="*/ 16066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8320" y="487692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67800" y="35812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91160" y="4638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94240" y="4876920"/>
                <a:ext cx="41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99"/>
                    </a:solidFill>
                    <a:latin typeface="Times New Roman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48320" y="449568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518148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2000" y="4495680"/>
                <a:ext cx="357984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48320" y="5181480"/>
                <a:ext cx="0" cy="228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лисов</cp:lastModifiedBy>
  <dcterms:modified xsi:type="dcterms:W3CDTF">2007-12-18T16:53:49Z</dcterms:modified>
  <cp:revision>3</cp:revision>
  <dc:subject/>
  <dc:title>PowerPoint Presentation</dc:title>
</cp:coreProperties>
</file>