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EA5-DE2A-46DD-9DF6-AE644DF2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D32-C1D6-4047-9EFB-6EAF90FC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F3B-12B5-465E-9708-BDCEA747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1FB-3B16-4BC5-8B2F-96A037CD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B7B2-E5EE-4E51-A3CD-916E7584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1A63-7BC7-4E8A-8CA6-8F2A9AA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CBA6-AAF1-4754-899B-B9ECFEC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0B46-433A-4094-89DA-71A1F03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C4C6-26A2-4100-9C40-03EE31AD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7942-E5F5-4D6C-BC11-E8A0C5E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5109-9B7C-4C2B-BBBA-3002753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EF4-204C-4E24-93D9-ED6A5EEB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139-7E86-4950-BED0-6E6F206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35DF-D4B3-41C1-B630-1270F9E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505E-7FD2-4430-BA3F-CD68B6D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0F5-5157-4A60-8795-7A4FAD1E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AD81-2B77-4FEB-9225-568EF459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36B-7B8A-490B-8860-E40373B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440-8B6A-4A52-80E5-EB0021E9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A72-8D5D-4AEB-BCF4-9C40C723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0BE-F68D-4D8E-9E08-9FB3DBF6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27D-0F33-4A3F-BBE9-4FAECF4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B10-5305-4593-BE61-3619718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AE5-2F26-482B-9E94-3029B614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08D1-8F6B-4817-9E7C-D15772AB4B1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2BB-AE11-4847-A2EF-8F3F2BF3DC7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Экологическая сказк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спитатель: Образенко Т.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ДОУ «Детский сад №3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 превратил Ягу в красивую бабочк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36720" y="2549520"/>
            <a:ext cx="4238640" cy="3200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04036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 тех пор все жили счастливо. А бабочка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еперь радует всех своей красото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 rot="18186000">
            <a:off x="2269800" y="2837880"/>
            <a:ext cx="3372120" cy="3200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 rot="3075000">
            <a:off x="1317240" y="1785960"/>
            <a:ext cx="3371760" cy="3200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 rot="18968400">
            <a:off x="3708000" y="2492280"/>
            <a:ext cx="3371760" cy="3200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7273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2148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днажды в шляпу Волшебника попа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242100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Расчёс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4720" y="134136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Зерка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5080" y="407664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Моне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1984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521080" cy="188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1944720" cy="18986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Были у Волшебника помощник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вочка Ан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 мальчик Ван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И вот как-то раз собирался Волшебник в г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- Аня! Принеси мне шляпу – попросил о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Девочка принесла шляпу и Волшебник заметил в ней расчёску, зеркало и монету. Задумался Волшебни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995640" y="4149720"/>
            <a:ext cx="32194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 А давайте, превратим расчёску в лес – предложил Ваня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4608360" cy="343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 Да! А зеркало в озеро! – воскликнула Ан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608720" cy="3448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698508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Монету в солнце и луну – сказал Волшебни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936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47236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Так  и сдела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Но вот одна проблема. Каждую ночь прилетала Баба яга и делала в лесу всякие гад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492360" y="189000"/>
            <a:ext cx="4248360" cy="3200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42386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огда Волшебник взял Волшебную палочк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540072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1:06:49Z</dcterms:created>
  <dc:creator>Пользователь</dc:creator>
  <dc:description/>
  <dc:language>en-US</dc:language>
  <cp:lastModifiedBy>Пользователь</cp:lastModifiedBy>
  <dcterms:modified xsi:type="dcterms:W3CDTF">2003-01-01T04:28:36Z</dcterms:modified>
  <cp:revision>3</cp:revision>
  <dc:subject/>
  <dc:title>Слайд 1</dc:title>
</cp:coreProperties>
</file>