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124-53FC-4085-BB2B-DAEA3AF8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D7F-572C-473A-9D0C-B428B97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F36-07BA-43FC-A347-B52FC4D4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BA9-F016-4DA9-98AA-B4F02C95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24BE-8D2F-41FE-87D8-8D918708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35A-4949-487A-BFA9-839F0DD9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94DB-2EF7-4F89-8837-2A92D047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137A-A28C-41B4-B8F2-C2F6C3CE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610-32BC-43C7-9F62-60D3D6C2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0B62-666C-4F12-B638-BC7A5B9B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EFB-1611-44EE-B826-09F6E258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42F-4B69-4980-AB7A-31B8FC22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09C-9D60-4E1E-9FCD-4563ACC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380-C0B0-4A0C-A33C-F7AEB27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0BD9-F154-4352-89FA-2B3EDCB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3E76-433A-48CA-8BFF-89D9C67C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8312-2B1F-469B-88D7-037BBF1B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DF3-D261-4D81-8A63-30F4D2F5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DAF-E6E3-4A2C-9DB0-7A9FBF3E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E26-4301-452B-AE94-DDE6E3DC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59D-5058-4D82-A4AA-A0A73798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7CA-407C-4609-986D-822D0EF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019-FC88-4A04-8CDC-CD2968C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4EC-2DF9-4E67-B25C-B96779D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52C-090C-4355-A566-9D1472CC04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DB2-B4A7-4BD0-9B94-0D54FC4DA9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29528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храним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изнь себе и детя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90720" y="350532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 преподаватель – организатор ОБЖ МБОУ СОШ №1 г. Михайлов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зырев Александр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лная статистика ДТП за 2011 и 2012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47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600200"/>
          <a:ext cx="8381880" cy="45259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397160"/>
                <a:gridCol w="1396800"/>
                <a:gridCol w="1397160"/>
              </a:tblGrid>
              <a:tr h="14986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ДТП, число погибших и раненых за 2010 и 2011 года в Ро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иб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 8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59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9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 8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станов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орожно-транспортным происшествиям в Ставропольском кра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371600"/>
          <a:ext cx="8381880" cy="47545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397160"/>
                <a:gridCol w="1396800"/>
                <a:gridCol w="1397160"/>
              </a:tblGrid>
              <a:tr h="1819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ДТП, число погибших и раненых за 2011 и 2012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иб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9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11 году  дорожно-транспортная обстановка в Ставропольском крае характериз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ом 3018 дорожно-транспортными происшествиями, в результате которых  пострадало 2553 человека, из них  279 погибло. Спасено 2256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99"/>
                </a:solidFill>
                <a:uFillTx/>
                <a:latin typeface="Arial"/>
              </a:rPr>
              <a:t>Основными причинами ДТП  в  2011 году, от общего количества яв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грубое нарушение правил дорожного движения - 95 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исправность автотранспортных средств - 1 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качественное дорожное покрытие – 1 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годные условия – 3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удьте счастливы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Дорога…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 похожи два эти понятия! Дорога жизни. Жизненный пу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 близки они друг дру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i"/>
          <p:cNvPicPr/>
          <p:nvPr/>
        </p:nvPicPr>
        <p:blipFill>
          <a:blip r:embed="rId1"/>
          <a:stretch/>
        </p:blipFill>
        <p:spPr>
          <a:xfrm>
            <a:off x="4648320" y="1600200"/>
            <a:ext cx="3962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6259.0.123915._original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29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228600" y="304920"/>
            <a:ext cx="8686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наш век бешеных скоростей и загруженных трасс легко попасть в пробку или зайти в тупик, еще сложнее избежать столкновения. И тогда очень важно знать, что есть люди, готовые прийти на помощь; и помнить, что тебя ждут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 сложно порой бывает сориентироваться в ситуаци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, попав в интенсивный дорожный или жизненный поток, суметь найти свою нишу, идти в ногу со временем, соблюдать скоростной режи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 часто, в силу своей беспечности, мы бываем незащищены перед опасностью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собенно сложно, конечно,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"/>
          <p:cNvPicPr/>
          <p:nvPr/>
        </p:nvPicPr>
        <p:blipFill>
          <a:blip r:embed="rId1"/>
          <a:stretch/>
        </p:blipFill>
        <p:spPr>
          <a:xfrm>
            <a:off x="228600" y="304920"/>
            <a:ext cx="1266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5" descr="93946.jpg"/>
          <p:cNvPicPr/>
          <p:nvPr/>
        </p:nvPicPr>
        <p:blipFill>
          <a:blip r:embed="rId1"/>
          <a:srcRect l="0" t="0" r="9506" b="0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50920" y="260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а… Это целая жизнь. Как удивительно похожи жизненные и дорожные ситуаци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товить к ним себя и своих детей нужно с дет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030560" y="4869000"/>
            <a:ext cx="5113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ть терпимым, уверенным в себе, не бояться трудностей, соблюдать правила – вот то, что поможет найти выход из люб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69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6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"/>
          <p:cNvPicPr/>
          <p:nvPr/>
        </p:nvPicPr>
        <p:blipFill>
          <a:blip r:embed="rId1"/>
          <a:stretch/>
        </p:blipFill>
        <p:spPr>
          <a:xfrm>
            <a:off x="6934320" y="0"/>
            <a:ext cx="190476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ешеход и ГИБДД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из нас является пешеходом, т.к. постоянно бывает на улице, ходит по тротуарам, переходит доро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же самые заядлые автомобилисты на время становятся пешеходами, когда им нужно от дома дойти до своего автомоби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ff"/>
                </a:solidFill>
                <a:latin typeface="Arial"/>
              </a:rPr>
              <a:t>Пешеход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шеход является частью дорожного движения, поэтому он обязан соблюдать ПДД, в противном случае будет оштрафов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"/>
          <p:cNvPicPr/>
          <p:nvPr/>
        </p:nvPicPr>
        <p:blipFill>
          <a:blip r:embed="rId1"/>
          <a:stretch/>
        </p:blipFill>
        <p:spPr>
          <a:xfrm>
            <a:off x="4648320" y="160020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лучаи, когда пешехода могут оштрафовать за нарушение ПДД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 данный момент КоАП РФ предусматривает штра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мере 500 рублей за переход проезжей части в неположенном месте и переход на красный св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ействия пешехода создали помехи для движения ТС, то штраф будет 1000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и нарушении ПДД пешеход причинил легкий вред здоровью потерпевшему, то штраф уже будет от 2500 до 5000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едительно просим Вас соблюдать ПД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возможных штрафов и их наказания не столь вел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, это не повод нарушать ПД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казывает практика, из-за нарушений ПДД пешеходом случается очень много ДТП, аварий и несчастных случ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тельно просим Вас соблюдать ПДД, переходить дорогу по пешеходным переходам, на зеленый свет (там где есть светоф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Уважайте себя, других пешеходов и автомоби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A</cp:lastModifiedBy>
  <dcterms:modified xsi:type="dcterms:W3CDTF">2013-10-05T10:34:1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