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6BE-14CB-4D46-BBAE-1698A782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19D-6722-45D2-9276-0F8D4973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4DD-0C32-47AD-972A-1C19B5B8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A38-B772-4162-B3E4-15A0E96F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5117-4AB1-492F-8EBD-78DD94FF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65FE-9E7B-47FA-84EB-0AC71883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A8C6-934C-40FB-8120-0CAEB443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277E-C017-40A4-BFC2-9189373A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E5F6-3F3E-43F5-9D4B-F7C9CF66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EF32-98C2-4CED-83CF-489D530D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DA2A-C376-4AE2-B454-1181556A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AB3-A818-495E-B172-DB099287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E2F4-9DA6-41A1-9F7D-6DAEA068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2F43-4140-4D5B-BE02-91DBCDA8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1839-80BD-4112-BF03-28CB2F05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7B2E-0812-424E-A569-946EE440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8BFF-B51D-4217-BED1-4C0BFED4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9F2-72EC-4236-9EDB-BC5F400C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56B-E42E-4C8F-8761-6C78DC8D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7B0-E838-4CA2-93D8-8523EC9B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438-6245-4F57-93C7-1070B40A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0D7-DCAD-4DE0-A900-25C146B6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035-A82B-40CE-ADCA-0DF5FD8A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903-3CA5-486E-863A-2824C3D2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F351-82C0-4B3B-BF95-03CD738A1103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A123-56B3-45F5-876C-0956F5798D8E}" type="slidenum">
              <a:rPr b="0" lang="en-US" sz="1400" spc="-1" strike="noStrike">
                <a:solidFill>
                  <a:srgbClr val="272776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Сжатие информации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ourier New"/>
              </a:rPr>
              <a:t>Алгоритм Хаффмана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Алгоритм Хаффмана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0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Courier New"/>
              </a:rPr>
              <a:t>Алгоритм Хаффмана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 — адаптивный алгоритм оптимального       префиксного кодирования алфавита с минимальной избыточностью.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Был разработан 1952 году аспирантом Массачусетского технологического института Дэвидом Хаффманом при написании им курсовой работы. В настоящее время используется во многих программах сжатия данных.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1. Символы исходного алфавита образуют вершины. Вес каждой вершины вес равен количеству вхождений данного символа в сжимаемое сообщение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2. Среди вершин выбираются две с наименьшими весами (если таких пар несколько, выбирается любая из них)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3. Создается следующая вершина графа, из которой выходят две дуги к выбранным вершинам; одна дуга помечается цифрой 0, другая — символом 1. 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Вес созданной вершины равен сумме весов, выбранных на втором шаге вершин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4. К новым вершинам применяются шаги 2 и 3 до тех пор, пока не останется одна вершина с весом, равным сумме весов исходных символов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ourier New"/>
              </a:rPr>
              <a:t>НА_ДВОРЕ_ТРАВА,_НА_ТРАВЕ_ДРОВА 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48309" r="0" b="0"/>
          <a:stretch/>
        </p:blipFill>
        <p:spPr>
          <a:xfrm>
            <a:off x="1403280" y="2276640"/>
            <a:ext cx="6048360" cy="215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042920" y="1268280"/>
          <a:ext cx="6934320" cy="1035360"/>
        </p:xfrm>
        <a:graphic>
          <a:graphicData uri="http://schemas.openxmlformats.org/drawingml/2006/table">
            <a:tbl>
              <a:tblPr/>
              <a:tblGrid>
                <a:gridCol w="692280"/>
                <a:gridCol w="695160"/>
                <a:gridCol w="692280"/>
                <a:gridCol w="695160"/>
                <a:gridCol w="692280"/>
                <a:gridCol w="692280"/>
                <a:gridCol w="695160"/>
                <a:gridCol w="692280"/>
                <a:gridCol w="695160"/>
                <a:gridCol w="69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а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в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д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,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е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н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_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6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4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4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5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332000" y="5137200"/>
            <a:ext cx="6553080" cy="1244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50640" y="452772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Составим таблицу кодов символов: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11280" y="374760"/>
            <a:ext cx="79930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Найдем объем сообщения после кодирования кодом Хаффмана: 2·6 + 3·4 + 4·2 + 4·1 + 4·2 + 4·2 + 3·4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4·2 + 4·2 + 3·5 = 95 бит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Теперь подсчитаем объем этого сообщения, если каждый его символ кодировать цепочкой из 0 и 1 равной длины. Т.к. в сообщении 10 различных символов вес одного символа 4 бита. Поэтому после кодирования получится сообщение объемом 4·3 = 120 бит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Коэффициент сжатия равен 120/95 =1,26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Сообщение в памяти компьютера закодировано с помощью ASCII-кодов, каждый символ весит 8 бит. Значит, объем исходного сообщения 240 бит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Коэффициент сжатия равен 240/95 = 2,53. 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11280" y="156204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Математики доказали, что среди алгоритмов, кодирующих каждый символ по отдельности и целым количеством бит, алгоритм Хаффмана обеспечивает наилучшее сжатие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1197000"/>
            <a:ext cx="8280360" cy="49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Для кодирования сообщения, состоящего из букв А, Б, В, Г и Д, используется неравномерный двоичный код, позволяющий однозначно декодировать полученную двоичную последовательность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А–00, Б–010, В–011, Г–101, Д–111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Можно ли сократить для одной из букв длину кодового слова так, чтобы код по-прежнему можно было декодировать однозначно?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Выберите правильный вариант ответа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1) для буквы Б – 01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2) это невозможно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3) для буквы В – 01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4) для буквы Г – 01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Задача А9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271520" y="3789360"/>
            <a:ext cx="6350040" cy="2450880"/>
            <a:chOff x="1271520" y="3789360"/>
            <a:chExt cx="6350040" cy="2450880"/>
          </a:xfrm>
        </p:grpSpPr>
        <p:sp>
          <p:nvSpPr>
            <p:cNvPr id="118" name=""/>
            <p:cNvSpPr/>
            <p:nvPr/>
          </p:nvSpPr>
          <p:spPr>
            <a:xfrm>
              <a:off x="1293840" y="5540400"/>
              <a:ext cx="966600" cy="6998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70080" y="5540400"/>
              <a:ext cx="966960" cy="6998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48120" y="5540400"/>
              <a:ext cx="966960" cy="6998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6160" y="5540400"/>
              <a:ext cx="966960" cy="6998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73360" y="4829040"/>
              <a:ext cx="1780920" cy="70020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2320" y="4829040"/>
              <a:ext cx="1781280" cy="70020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5440" y="4143240"/>
              <a:ext cx="3557520" cy="70020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70400" y="4089240"/>
              <a:ext cx="1303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25960" y="4243320"/>
              <a:ext cx="234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62000" y="4987800"/>
              <a:ext cx="235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7152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7008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34080" y="5740200"/>
              <a:ext cx="2332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1816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3876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8648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5092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3688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03560" y="4987800"/>
              <a:ext cx="235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00800" y="4987800"/>
              <a:ext cx="234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80160" y="4987800"/>
              <a:ext cx="2332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45200" y="4243320"/>
              <a:ext cx="234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87840" y="3789360"/>
              <a:ext cx="15033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72776"/>
                  </a:solidFill>
                  <a:latin typeface="Courier New"/>
                </a:rPr>
                <a:t>корень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Задача А9. Решение.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217520"/>
            <a:ext cx="831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Построим двоичное дерево, в котором от каждого узла отходит две ветки: 0 или 1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Разместим на дереве буквы А, Б, В, Г и Д так, чтобы их код получался как последовательность чисел на рёбрах: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547640" y="5013360"/>
            <a:ext cx="6256440" cy="1147680"/>
            <a:chOff x="1547640" y="5013360"/>
            <a:chExt cx="6256440" cy="1147680"/>
          </a:xfrm>
        </p:grpSpPr>
        <p:sp>
          <p:nvSpPr>
            <p:cNvPr id="144" name=""/>
            <p:cNvSpPr/>
            <p:nvPr/>
          </p:nvSpPr>
          <p:spPr>
            <a:xfrm>
              <a:off x="1547640" y="5013360"/>
              <a:ext cx="425520" cy="41904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А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3280" y="5742000"/>
              <a:ext cx="423720" cy="41904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Б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17800" y="5742000"/>
              <a:ext cx="424080" cy="41904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В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08800" y="5742000"/>
              <a:ext cx="426960" cy="41904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Г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78560" y="5742000"/>
              <a:ext cx="425520" cy="41904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Д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Задача А9. Решение.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0" name=""/>
          <p:cNvSpPr/>
          <p:nvPr/>
        </p:nvSpPr>
        <p:spPr>
          <a:xfrm>
            <a:off x="793800" y="1341360"/>
            <a:ext cx="788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По дереву определим, что для букв Г и Д код можно сократить. Выберем ответ из предложенных вариантов: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1) для буквы Б – 01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2) это невозможно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3) для буквы В – 01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4) для буквы Г – 01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94680" y="3284640"/>
            <a:ext cx="7307640" cy="3115080"/>
            <a:chOff x="994680" y="3284640"/>
            <a:chExt cx="7307640" cy="3115080"/>
          </a:xfrm>
        </p:grpSpPr>
        <p:sp>
          <p:nvSpPr>
            <p:cNvPr id="152" name=""/>
            <p:cNvSpPr/>
            <p:nvPr/>
          </p:nvSpPr>
          <p:spPr>
            <a:xfrm>
              <a:off x="5284440" y="5051880"/>
              <a:ext cx="475560" cy="4845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19880" y="5312160"/>
              <a:ext cx="1080360" cy="8096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07440" y="5312160"/>
              <a:ext cx="1080360" cy="8096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96440" y="5312160"/>
              <a:ext cx="1080360" cy="8096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85800" y="5312160"/>
              <a:ext cx="1080360" cy="8096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55200" y="4488120"/>
              <a:ext cx="1993320" cy="81000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37880" y="4488120"/>
              <a:ext cx="1993320" cy="81000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3120" y="3694320"/>
              <a:ext cx="3980160" cy="81000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61120" y="3631320"/>
              <a:ext cx="145080" cy="14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81320" y="3810240"/>
              <a:ext cx="2624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66160" y="4671360"/>
              <a:ext cx="262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94680" y="5542920"/>
              <a:ext cx="262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07440" y="5542920"/>
              <a:ext cx="262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79160" y="5542920"/>
              <a:ext cx="26064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56840" y="5542920"/>
              <a:ext cx="26244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99480" y="5542920"/>
              <a:ext cx="262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836480" y="5542920"/>
              <a:ext cx="262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66600" y="5542920"/>
              <a:ext cx="262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63520" y="5542920"/>
              <a:ext cx="262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4160" y="4671360"/>
              <a:ext cx="262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25440" y="4671360"/>
              <a:ext cx="262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45920" y="4671360"/>
              <a:ext cx="260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39240" y="3810240"/>
              <a:ext cx="2628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23360" y="5072040"/>
              <a:ext cx="475560" cy="48420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А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52200" y="5915160"/>
              <a:ext cx="475560" cy="48456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Б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42280" y="5915160"/>
              <a:ext cx="475560" cy="48456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В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47480" y="5915160"/>
              <a:ext cx="477360" cy="48456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Г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26760" y="5915160"/>
              <a:ext cx="475560" cy="48456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Д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97200" y="3284640"/>
              <a:ext cx="16819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658560" y="3429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Ответ: 4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98560" y="1557360"/>
            <a:ext cx="7705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Для передачи по каналу связи сообщения, состоящего только из букв А, Б, В, Г, решили использовать неравномерный по длине код: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A=0, Б=10, В=110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Как нужно закодировать букву Г, чтобы длина кода была минимальной и допускалось однозначное разбиение кодированного сообщения на буквы?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1) 1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2) 1110 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3) 111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4) 11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2776"/>
                </a:solidFill>
                <a:latin typeface="Courier New"/>
              </a:rPr>
              <a:t>Для самостоятельной работы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12682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2776"/>
                </a:solidFill>
                <a:latin typeface="Courier New"/>
              </a:rPr>
              <a:t>Для 5 букв латинского алфавита заданы их двоичные коды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2776"/>
                </a:solidFill>
                <a:latin typeface="Courier New"/>
              </a:rPr>
              <a:t>Эти  коды представлены в таблице: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Задача А9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00000" y="2768760"/>
          <a:ext cx="7715160" cy="1380960"/>
        </p:xfrm>
        <a:graphic>
          <a:graphicData uri="http://schemas.openxmlformats.org/drawingml/2006/table">
            <a:tbl>
              <a:tblPr/>
              <a:tblGrid>
                <a:gridCol w="1542960"/>
                <a:gridCol w="1544760"/>
                <a:gridCol w="1539720"/>
                <a:gridCol w="1544760"/>
                <a:gridCol w="1542960"/>
              </a:tblGrid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A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B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D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E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000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01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100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011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26920" y="443700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Определить, какой набор букв закодирован двоичной строкой 0110100011000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Сжатие информации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4760" y="4508640"/>
            <a:ext cx="75819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Courier New"/>
              </a:rPr>
              <a:t>Сжатие данных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 – сокращение объема данных при сохранении закодированного в них содержания.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11280" y="1555920"/>
            <a:ext cx="40323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98560" y="1557360"/>
            <a:ext cx="77058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2776"/>
                </a:solidFill>
                <a:latin typeface="Courier New"/>
              </a:rPr>
              <a:t>Для передачи по каналу связи сообщения, состоящего только из букв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 </a:t>
            </a:r>
            <a:r>
              <a:rPr b="0" lang="ru-RU" sz="2800" spc="-1" strike="noStrike">
                <a:solidFill>
                  <a:srgbClr val="272776"/>
                </a:solidFill>
                <a:latin typeface="Courier New"/>
              </a:rPr>
              <a:t> А, Б, В, Г, решили использовать неравномерный по длине код: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2776"/>
                </a:solidFill>
                <a:latin typeface="Courier New"/>
              </a:rPr>
              <a:t>A=0, Б=10, В=110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2776"/>
                </a:solidFill>
                <a:latin typeface="Courier New"/>
              </a:rPr>
              <a:t>Как нужно закодировать букву Г, чтобы длина кода была минимальной и допускалось однозначное разбиение кодированного сообщения на буквы?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Задача А9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Сжатие информации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Сжатие происходит за счет устранения избыточности кода, например, за счет упрощения кодов, исключения из них постоянных битов или представления повторяющихся символов в виде коэффициента повторения.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Важнейшая характеристика процесса сжатия – коэффициент сжатия.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Courier New"/>
              </a:rPr>
              <a:t>Коэффициент сжатия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 – отношение объема исходного сообщения к объему сжатого.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Алгоритмы сжатия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341360"/>
            <a:ext cx="7777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1. Равномерное сжатие с использованием кодов одной длины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Этот метод используется, если в записи сообщения присутствует небольшая часть алфавита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2. Сжатие с использованием кодов переменной длины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Сокращение объёма данных достигается за счёт замены часто встречающихся данных короткими кодовыми словами, а редких — длинными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2776"/>
                </a:solidFill>
                <a:latin typeface="Courier New"/>
              </a:rPr>
              <a:t>Сжатие с использованием кодов переменной длины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1581120"/>
            <a:ext cx="78487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В этом случае возникает проблема отделения кодов символов друг от друга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Решить эту проблему позволяет условие, достаточное для однозначного декодирования сообщений с переменной длиной кодовых слов, </a:t>
            </a:r>
            <a:r>
              <a:rPr b="0" i="1" lang="ru-RU" sz="2400" spc="-1" strike="noStrike">
                <a:solidFill>
                  <a:srgbClr val="272776"/>
                </a:solidFill>
                <a:latin typeface="Courier New"/>
              </a:rPr>
              <a:t>условие Фано</a:t>
            </a: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Никакое кодовое слово не является началом другого кодового слова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По-другому условие Фано называют </a:t>
            </a:r>
            <a:r>
              <a:rPr b="0" i="1" lang="ru-RU" sz="2400" spc="-1" strike="noStrike">
                <a:solidFill>
                  <a:srgbClr val="272776"/>
                </a:solidFill>
                <a:latin typeface="Courier New"/>
              </a:rPr>
              <a:t>свойством префиксности</a:t>
            </a: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, а код, удовлетворяющий этому условию, называют </a:t>
            </a:r>
            <a:r>
              <a:rPr b="0" i="1" lang="ru-RU" sz="2400" spc="-1" strike="noStrike">
                <a:solidFill>
                  <a:srgbClr val="272776"/>
                </a:solidFill>
                <a:latin typeface="Courier New"/>
              </a:rPr>
              <a:t>префиксным кодом</a:t>
            </a: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Префиксные коды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577880"/>
            <a:ext cx="7704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Чтобы понять, как строятся префиксные коды, рассмотрим, как построить ориентированный граф, определяющий этот код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Например, кодовые слова 00, 01, 10, 011, 100, 101, 1001, 1010, 1111, кодируют соответственно буквы: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d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e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f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g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h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 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Префиксные коды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677960"/>
            <a:ext cx="7704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Построим граф этого кода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Из начальной вершины выходят две дуги, помеченные 0 и 1. Затем из конца каждой такой дуги входят новые дуги, помеченные 0 и 1 так, чтобы, идя по этим дугам от корня, читалось начало какого-либо кодового слова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Префиксные коды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484280"/>
            <a:ext cx="4392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72776"/>
                </a:solidFill>
                <a:latin typeface="Courier New"/>
              </a:rPr>
              <a:t>Если при этом какое-то последовательность оказывается прочитанным полностью, то у конца последней дуги пишется кодируемый символ. </a:t>
            </a:r>
            <a:endParaRPr b="0" lang="en-US" sz="26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025880" cy="2747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4546440"/>
            <a:ext cx="7848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72776"/>
                </a:solidFill>
                <a:latin typeface="Courier New"/>
              </a:rPr>
              <a:t>Из получившихся вершин снова проводятся дуги — и так далее, до тех пор, пока не будут исчерпаны все коды. </a:t>
            </a:r>
            <a:endParaRPr b="0" lang="en-US" sz="2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Префиксные коды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268280"/>
            <a:ext cx="8137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Если известен граф, созданный по префиксному коду, то по этому графу легко восстанавливается код каждого символа — надо просто, идя от корня к листу, помеченному данным символом, выписать 0 и 1 в порядке их прочтения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Идея префиксного кодирования была использована американским ученым Д.Хаффманом для создания эффективного алгоритма сжатия символьной информации. 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5:57:29Z</dcterms:created>
  <dc:creator>Serg</dc:creator>
  <dc:description/>
  <dc:language>en-US</dc:language>
  <cp:lastModifiedBy>Serg</cp:lastModifiedBy>
  <dcterms:modified xsi:type="dcterms:W3CDTF">2013-10-05T16:45:15Z</dcterms:modified>
  <cp:revision>28</cp:revision>
  <dc:subject/>
  <dc:title>Сжатие информации</dc:title>
</cp:coreProperties>
</file>