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22.gif" ContentType="image/gif"/>
  <Override PartName="/ppt/media/image2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897-13BF-48C8-9F56-58DC8BA7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D9C-E541-4F11-BDB4-DF42226E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679-0432-4A5E-8184-D0998ABB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567-CEF8-41FE-BB51-4D9E2C08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83DC-7753-4504-B1CF-37B984C5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65E9-17BC-4E4E-96F4-B6A61817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EF03-A0E9-4ED1-A1CF-D51CFB6B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820A-CA42-40DC-B493-6D19146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76A-5079-480C-8217-96AC59C3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1653-A202-4083-9429-5EBB79E6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2FFD-1587-4E8D-B643-ACCFCDD5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53E-7B79-4F1A-8203-305B2203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596C-A9B5-471E-B6DD-5BEA796E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99FC-9C2B-4069-B8A7-14DB74CD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E79B-EE8D-4FC7-8B40-CCBDEF1E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45E1-55F4-4517-9FDB-E947C290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83A0-6C3E-473C-9485-EF376106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848-8DA4-4C0F-B351-A8D8DE88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002-9679-4E26-A0C0-AD32D433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2F8-83A9-4AE7-A7A2-B5A42BAB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45D-9C52-4682-9812-5082BFD0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98E-8C9D-4855-BCC3-DE128DD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863-57BC-41C1-9B6B-D68B034A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2AC-4E8F-45F9-A560-36BFA3B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996633"/>
                  </a:buClr>
                  <a:buSzPct val="95000"/>
                  <a:buFont typeface="Wingdings" charset="2"/>
                  <a:buChar char="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996633"/>
                  </a:buClr>
                  <a:buSzPct val="95000"/>
                  <a:buFont typeface="Wingdings" charset="2"/>
                  <a:buChar char="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49C1-2C75-4598-AF07-66054F1DBB1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996633"/>
                  </a:buClr>
                  <a:buSzPct val="95000"/>
                  <a:buFont typeface="Wingdings" charset="2"/>
                  <a:buChar char="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996633"/>
                  </a:buClr>
                  <a:buSzPct val="95000"/>
                  <a:buFont typeface="Wingdings" charset="2"/>
                  <a:buChar char="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6545-4A4D-446D-BACF-72F689D8CCAC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523880" y="228600"/>
            <a:ext cx="746784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«Средняя общеобразовательная школа №3 г. Юрьев - Польский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ладимирская обла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71600" y="1981080"/>
            <a:ext cx="801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Тех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выпол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                         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творческог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                                       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роек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886200" y="5334120"/>
            <a:ext cx="5715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Учитель технологии высш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квалификационной категории Гарьянова И. 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962520" y="6400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914400" y="57150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80880" y="228600"/>
            <a:ext cx="8458200" cy="65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41904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1904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       Аргументированность выбора темы, обоснование потребности, практическая направленность и значимость выполнения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1904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       Объем и полнота разработок, выполнение принятых этапов проектирования, самостоятельность, законченность, подготовленность к восприятию проекта другими людьми, материальное воплощение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1904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       Аргументированность предлагаемых решений, подходов, выводов, полнота библиографии, цитируем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1904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.       Уровень творчества, оригинальность темы, подходов, найденных решений, предлагаемых аргументов; оригинальность материального воплощения и представления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1904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5.       Качество записки: оформление, соответствие стандартным требованиям, рубрицирование и структура текста, качество эскизов, схем, рисунков; качество и полнота реценз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1904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6.       Качество изделия, соответствие стандартам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ригиналь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1904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1904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1981080" y="2590920"/>
            <a:ext cx="6705720" cy="27432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438280" y="3429000"/>
            <a:ext cx="5791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Желаю удачи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057400" y="2286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56" h="21600">
                <a:moveTo>
                  <a:pt x="1397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956" h="21600">
                <a:moveTo>
                  <a:pt x="1397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956" h="21600">
                <a:moveTo>
                  <a:pt x="11402" y="8224"/>
                </a:moveTo>
                <a:lnTo>
                  <a:pt x="15266" y="8224"/>
                </a:lnTo>
                <a:lnTo>
                  <a:pt x="15266" y="15221"/>
                </a:lnTo>
                <a:lnTo>
                  <a:pt x="16554" y="15221"/>
                </a:lnTo>
                <a:lnTo>
                  <a:pt x="16554" y="16144"/>
                </a:lnTo>
                <a:lnTo>
                  <a:pt x="11402" y="16144"/>
                </a:lnTo>
                <a:lnTo>
                  <a:pt x="11402" y="15221"/>
                </a:lnTo>
                <a:lnTo>
                  <a:pt x="12690" y="15221"/>
                </a:lnTo>
                <a:lnTo>
                  <a:pt x="12690" y="9129"/>
                </a:lnTo>
                <a:lnTo>
                  <a:pt x="11402" y="912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ag00381_"/>
          <p:cNvPicPr/>
          <p:nvPr/>
        </p:nvPicPr>
        <p:blipFill>
          <a:blip r:embed="rId3"/>
          <a:stretch/>
        </p:blipFill>
        <p:spPr>
          <a:xfrm>
            <a:off x="0" y="3200400"/>
            <a:ext cx="2784600" cy="33829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/>
          <p:cNvSpPr/>
          <p:nvPr/>
        </p:nvSpPr>
        <p:spPr>
          <a:xfrm>
            <a:off x="6934320" y="228600"/>
            <a:ext cx="1600200" cy="1295280"/>
          </a:xfrm>
          <a:custGeom>
            <a:avLst/>
            <a:gdLst>
              <a:gd name="textAreaLeft" fmla="*/ 83880 w 1600200"/>
              <a:gd name="textAreaRight" fmla="*/ 1516320 w 16002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6683" h="21600">
                <a:moveTo>
                  <a:pt x="0" y="0"/>
                </a:moveTo>
                <a:lnTo>
                  <a:pt x="26683" y="0"/>
                </a:lnTo>
                <a:lnTo>
                  <a:pt x="26683" y="21600"/>
                </a:lnTo>
                <a:lnTo>
                  <a:pt x="0" y="21600"/>
                </a:lnTo>
                <a:close/>
              </a:path>
              <a:path fill="lightenLess" w="26683" h="21600">
                <a:moveTo>
                  <a:pt x="0" y="0"/>
                </a:moveTo>
                <a:lnTo>
                  <a:pt x="26683" y="0"/>
                </a:lnTo>
                <a:lnTo>
                  <a:pt x="25283" y="1400"/>
                </a:lnTo>
                <a:lnTo>
                  <a:pt x="1400" y="1400"/>
                </a:lnTo>
                <a:close/>
              </a:path>
              <a:path fill="darken" w="26683" h="21600">
                <a:moveTo>
                  <a:pt x="26683" y="0"/>
                </a:moveTo>
                <a:lnTo>
                  <a:pt x="26683" y="21600"/>
                </a:lnTo>
                <a:lnTo>
                  <a:pt x="25283" y="20200"/>
                </a:lnTo>
                <a:lnTo>
                  <a:pt x="25283" y="1400"/>
                </a:lnTo>
                <a:close/>
              </a:path>
              <a:path fill="darkenLess" w="26683" h="21600">
                <a:moveTo>
                  <a:pt x="26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83" y="20200"/>
                </a:lnTo>
                <a:close/>
              </a:path>
              <a:path fill="lighten" w="26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83" h="21600">
                <a:moveTo>
                  <a:pt x="1334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683" h="21600">
                <a:moveTo>
                  <a:pt x="1334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683" h="21600">
                <a:moveTo>
                  <a:pt x="10765" y="8224"/>
                </a:moveTo>
                <a:lnTo>
                  <a:pt x="14630" y="8224"/>
                </a:lnTo>
                <a:lnTo>
                  <a:pt x="14630" y="15221"/>
                </a:lnTo>
                <a:lnTo>
                  <a:pt x="15918" y="15221"/>
                </a:lnTo>
                <a:lnTo>
                  <a:pt x="15918" y="16144"/>
                </a:lnTo>
                <a:lnTo>
                  <a:pt x="10765" y="16144"/>
                </a:lnTo>
                <a:lnTo>
                  <a:pt x="10765" y="15221"/>
                </a:lnTo>
                <a:lnTo>
                  <a:pt x="12054" y="15221"/>
                </a:lnTo>
                <a:lnTo>
                  <a:pt x="12054" y="9129"/>
                </a:lnTo>
                <a:lnTo>
                  <a:pt x="10765" y="912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5"/>
          <p:cNvSpPr/>
          <p:nvPr/>
        </p:nvSpPr>
        <p:spPr>
          <a:xfrm>
            <a:off x="2514600" y="0"/>
            <a:ext cx="5638680" cy="1752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34784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666880" y="3049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лан работы над проек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7760" y="20574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ыберите тему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пределите цели и 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знакомьтесь с требованиями к изделию, пояснительной запис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бсудите план работы над проект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Самостоятельная работа над индивидуальным проектом (начните с изучения истории, традиций и конкретного издел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5105520" y="27432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320040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666880" y="2514600"/>
            <a:ext cx="2895840" cy="1905120"/>
          </a:xfrm>
          <a:custGeom>
            <a:avLst/>
            <a:gdLst>
              <a:gd name="textAreaLeft" fmla="*/ 424080 w 2895840"/>
              <a:gd name="textAreaRight" fmla="*/ 2471760 w 289584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5181480" y="358128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DD01352_"/>
          <p:cNvPicPr/>
          <p:nvPr/>
        </p:nvPicPr>
        <p:blipFill>
          <a:blip r:embed="rId1"/>
          <a:stretch/>
        </p:blipFill>
        <p:spPr>
          <a:xfrm>
            <a:off x="4648320" y="3048120"/>
            <a:ext cx="1676160" cy="16142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9"/>
          <p:cNvSpPr/>
          <p:nvPr/>
        </p:nvSpPr>
        <p:spPr>
          <a:xfrm>
            <a:off x="2666880" y="685800"/>
            <a:ext cx="5486400" cy="685800"/>
          </a:xfrm>
          <a:custGeom>
            <a:avLst/>
            <a:gdLst>
              <a:gd name="textAreaLeft" fmla="*/ 1371600 w 5486400"/>
              <a:gd name="textAreaRight" fmla="*/ 4114800 w 5486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057400" y="228600"/>
            <a:ext cx="6629400" cy="12952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2209680" y="152280"/>
            <a:ext cx="6019920" cy="13716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2362320" y="304920"/>
            <a:ext cx="5790960" cy="12952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981080" y="0"/>
            <a:ext cx="6324840" cy="167652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2286000" y="0"/>
            <a:ext cx="6324480" cy="1600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590920" y="45720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Звездочка обдумы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124080" y="1981080"/>
            <a:ext cx="28195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5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4572000" y="1905120"/>
            <a:ext cx="4114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1.Проблема (осознание проблемной област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5943600" y="2438280"/>
            <a:ext cx="342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2. Определение конкретной задачи и ее формулир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6324480" y="3200400"/>
            <a:ext cx="350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3. Выявление основных методов и ограни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5791320" y="419112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4. Выработка идеи, вариантов, альтернат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5334120" y="502920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5. Анализ и синтез идеи, выбор оптимального вариа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5410080" y="5867280"/>
            <a:ext cx="373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6. Выбор материалов, инструментов, оборуд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2666880" y="6216480"/>
            <a:ext cx="3353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7. Разработка технологического проце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600200" y="5486400"/>
            <a:ext cx="29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8. Организация рабочего мес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1981080" y="4648320"/>
            <a:ext cx="3657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9. Экономическое и экологическое обосн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1371600" y="3886200"/>
            <a:ext cx="388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10. Выполнение технологических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2057400" y="33526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11. Контроль ка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1752480" y="28195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12. Рекламный брен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2286000" y="22860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13. Оформ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1828800" y="190512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14. Защи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75"/>
                            </p:stCondLst>
                            <p:childTnLst>
                              <p:par>
                                <p:cTn id="5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75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75"/>
                            </p:stCondLst>
                            <p:childTnLst>
                              <p:par>
                                <p:cTn id="64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75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75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575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075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75"/>
                            </p:stCondLst>
                            <p:childTnLst>
                              <p:par>
                                <p:cTn id="84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75"/>
                            </p:stCondLst>
                            <p:childTnLst>
                              <p:par>
                                <p:cTn id="88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6575"/>
                            </p:stCondLst>
                            <p:childTnLst>
                              <p:par>
                                <p:cTn id="92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75"/>
                            </p:stCondLst>
                            <p:childTnLst>
                              <p:par>
                                <p:cTn id="96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3575"/>
                            </p:stCondLst>
                            <p:childTnLst>
                              <p:par>
                                <p:cTn id="100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7075"/>
                            </p:stCondLst>
                            <p:childTnLst>
                              <p:par>
                                <p:cTn id="104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575"/>
                            </p:stCondLst>
                            <p:childTnLst>
                              <p:par>
                                <p:cTn id="108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4075"/>
                            </p:stCondLst>
                            <p:childTnLst>
                              <p:par>
                                <p:cTn id="112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7575"/>
                            </p:stCondLst>
                            <p:childTnLst>
                              <p:par>
                                <p:cTn id="116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/>
          <p:cNvSpPr/>
          <p:nvPr/>
        </p:nvSpPr>
        <p:spPr>
          <a:xfrm>
            <a:off x="2286000" y="0"/>
            <a:ext cx="594360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2590920" y="304920"/>
            <a:ext cx="5333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сновные требования к проектированию издел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8"/>
          <p:cNvSpPr/>
          <p:nvPr/>
        </p:nvSpPr>
        <p:spPr>
          <a:xfrm>
            <a:off x="1523880" y="1905120"/>
            <a:ext cx="3353040" cy="9903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1905120" y="2133720"/>
            <a:ext cx="259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Технологи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3733920" y="2438280"/>
            <a:ext cx="2819160" cy="1143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3886200" y="266688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Экономи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33"/>
          <p:cNvSpPr/>
          <p:nvPr/>
        </p:nvSpPr>
        <p:spPr>
          <a:xfrm>
            <a:off x="5943600" y="1905120"/>
            <a:ext cx="2666880" cy="10666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6019920" y="220968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1523880" y="2971800"/>
            <a:ext cx="304812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1752480" y="3200400"/>
            <a:ext cx="25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5105520" y="3200400"/>
            <a:ext cx="3809880" cy="1066680"/>
          </a:xfrm>
          <a:prstGeom prst="ellipse">
            <a:avLst/>
          </a:prstGeom>
          <a:gradFill rotWithShape="0">
            <a:gsLst>
              <a:gs pos="0">
                <a:srgbClr val="9933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5638680" y="3505320"/>
            <a:ext cx="2819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Эргономи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9"/>
          <p:cNvSpPr/>
          <p:nvPr/>
        </p:nvSpPr>
        <p:spPr>
          <a:xfrm>
            <a:off x="2819520" y="3733920"/>
            <a:ext cx="3124080" cy="99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3124080" y="3962520"/>
            <a:ext cx="23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истем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4800600" y="4343400"/>
            <a:ext cx="4343400" cy="1143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4952880" y="4724280"/>
            <a:ext cx="419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ворческая направленность и занима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43"/>
          <p:cNvSpPr/>
          <p:nvPr/>
        </p:nvSpPr>
        <p:spPr>
          <a:xfrm>
            <a:off x="1447920" y="4495680"/>
            <a:ext cx="3581280" cy="99072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1600200" y="4724280"/>
            <a:ext cx="327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Поси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45"/>
          <p:cNvSpPr/>
          <p:nvPr/>
        </p:nvSpPr>
        <p:spPr>
          <a:xfrm>
            <a:off x="4876920" y="5257800"/>
            <a:ext cx="403848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4876920" y="541008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ие требованиям дизай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47"/>
          <p:cNvSpPr/>
          <p:nvPr/>
        </p:nvSpPr>
        <p:spPr>
          <a:xfrm>
            <a:off x="1600200" y="5410080"/>
            <a:ext cx="3505320" cy="106704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1981080" y="5715000"/>
            <a:ext cx="2819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нач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0"/>
          <p:cNvSpPr/>
          <p:nvPr/>
        </p:nvSpPr>
        <p:spPr>
          <a:xfrm>
            <a:off x="6858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1588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752">
                <a:moveTo>
                  <a:pt x="11905" y="15357"/>
                </a:moveTo>
                <a:lnTo>
                  <a:pt x="11905" y="13399"/>
                </a:lnTo>
                <a:cubicBezTo>
                  <a:pt x="11905" y="12572"/>
                  <a:pt x="12236" y="11876"/>
                  <a:pt x="12837" y="11876"/>
                </a:cubicBezTo>
                <a:cubicBezTo>
                  <a:pt x="13968" y="11876"/>
                  <a:pt x="14865" y="10509"/>
                  <a:pt x="14865" y="8925"/>
                </a:cubicBezTo>
                <a:cubicBezTo>
                  <a:pt x="14865" y="6610"/>
                  <a:pt x="13011" y="4869"/>
                  <a:pt x="10800" y="4869"/>
                </a:cubicBezTo>
                <a:cubicBezTo>
                  <a:pt x="8589" y="4869"/>
                  <a:pt x="6918" y="6610"/>
                  <a:pt x="6918" y="8925"/>
                </a:cubicBezTo>
                <a:lnTo>
                  <a:pt x="8772" y="8925"/>
                </a:lnTo>
                <a:cubicBezTo>
                  <a:pt x="8772" y="7785"/>
                  <a:pt x="9695" y="6897"/>
                  <a:pt x="10800" y="6897"/>
                </a:cubicBezTo>
                <a:cubicBezTo>
                  <a:pt x="11905" y="6897"/>
                  <a:pt x="12837" y="7785"/>
                  <a:pt x="12837" y="8925"/>
                </a:cubicBezTo>
                <a:cubicBezTo>
                  <a:pt x="12837" y="9665"/>
                  <a:pt x="12367" y="10396"/>
                  <a:pt x="11905" y="10396"/>
                </a:cubicBezTo>
                <a:cubicBezTo>
                  <a:pt x="10800" y="10396"/>
                  <a:pt x="9695" y="11876"/>
                  <a:pt x="9695" y="13399"/>
                </a:cubicBezTo>
                <a:lnTo>
                  <a:pt x="9695" y="15357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23520" y="2209680"/>
            <a:ext cx="419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Технологическ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жность констру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Оригинальность и рациональность в применении матери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Экономный рас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авильность, сложность выполнения технологических опер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BS00580_"/>
          <p:cNvPicPr/>
          <p:nvPr/>
        </p:nvPicPr>
        <p:blipFill>
          <a:blip r:embed="rId1"/>
          <a:stretch/>
        </p:blipFill>
        <p:spPr>
          <a:xfrm>
            <a:off x="5791320" y="3809880"/>
            <a:ext cx="3352680" cy="28242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1905120" y="0"/>
            <a:ext cx="6858000" cy="1600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33720" y="533520"/>
            <a:ext cx="662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ритерии оценки проектного издел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7621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9758"/>
                </a:moveTo>
                <a:lnTo>
                  <a:pt x="8224" y="9758"/>
                </a:lnTo>
                <a:lnTo>
                  <a:pt x="12645" y="5145"/>
                </a:lnTo>
                <a:lnTo>
                  <a:pt x="12645" y="19158"/>
                </a:lnTo>
                <a:lnTo>
                  <a:pt x="8224" y="14545"/>
                </a:lnTo>
                <a:lnTo>
                  <a:pt x="3794" y="14545"/>
                </a:lnTo>
                <a:close/>
              </a:path>
              <a:path fill="darken" w="21600" h="24303">
                <a:moveTo>
                  <a:pt x="14299" y="12152"/>
                </a:moveTo>
                <a:lnTo>
                  <a:pt x="17806" y="12152"/>
                </a:lnTo>
              </a:path>
              <a:path fill="darken" w="21600" h="24303">
                <a:moveTo>
                  <a:pt x="14299" y="9758"/>
                </a:moveTo>
                <a:lnTo>
                  <a:pt x="17806" y="6990"/>
                </a:lnTo>
              </a:path>
              <a:path fill="darken" w="21600" h="24303">
                <a:moveTo>
                  <a:pt x="14299" y="14545"/>
                </a:moveTo>
                <a:lnTo>
                  <a:pt x="17806" y="17313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28600" y="22860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Конструктивны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419720" y="228600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267080" y="2209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609480" y="990720"/>
            <a:ext cx="44197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чность, надеж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добство в исполь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оответствие на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4952880" y="2590920"/>
            <a:ext cx="373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Экологическ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257800" y="3581280"/>
            <a:ext cx="4343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озможность использования отходов произво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озможность использования деталей  по окончании срока службы изд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37160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6" descr="Изображение 107"/>
          <p:cNvPicPr/>
          <p:nvPr/>
        </p:nvPicPr>
        <p:blipFill>
          <a:blip r:embed="rId1"/>
          <a:stretch/>
        </p:blipFill>
        <p:spPr>
          <a:xfrm>
            <a:off x="304920" y="2514600"/>
            <a:ext cx="4876560" cy="36543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1"/>
          <p:cNvGrpSpPr/>
          <p:nvPr/>
        </p:nvGrpSpPr>
        <p:grpSpPr>
          <a:xfrm>
            <a:off x="6172200" y="457200"/>
            <a:ext cx="8429400" cy="1978200"/>
            <a:chOff x="6172200" y="457200"/>
            <a:chExt cx="8429400" cy="1978200"/>
          </a:xfrm>
        </p:grpSpPr>
        <p:pic>
          <p:nvPicPr>
            <p:cNvPr id="184" name="Picture 22" descr="READ"/>
            <p:cNvPicPr/>
            <p:nvPr/>
          </p:nvPicPr>
          <p:blipFill>
            <a:blip r:embed="rId2"/>
            <a:stretch/>
          </p:blipFill>
          <p:spPr>
            <a:xfrm>
              <a:off x="6172200" y="457200"/>
              <a:ext cx="158112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3" descr="WRITE"/>
            <p:cNvPicPr/>
            <p:nvPr/>
          </p:nvPicPr>
          <p:blipFill>
            <a:blip r:embed="rId3"/>
            <a:stretch/>
          </p:blipFill>
          <p:spPr>
            <a:xfrm>
              <a:off x="13002840" y="533520"/>
              <a:ext cx="1598760" cy="1901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trips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267080" y="68580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Эстетическ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5268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BS00554_"/>
          <p:cNvPicPr/>
          <p:nvPr/>
        </p:nvPicPr>
        <p:blipFill>
          <a:blip r:embed="rId1"/>
          <a:stretch/>
        </p:blipFill>
        <p:spPr>
          <a:xfrm>
            <a:off x="838080" y="533520"/>
            <a:ext cx="2590920" cy="2260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4419720" y="1600200"/>
            <a:ext cx="4572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ригинальность 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мпозиционная заверш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спользование традиций национальной куль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Цветовое 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" y="4267080"/>
            <a:ext cx="43434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Доступ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Личная и общественная потребность в изде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PE02032_"/>
          <p:cNvPicPr/>
          <p:nvPr/>
        </p:nvPicPr>
        <p:blipFill>
          <a:blip r:embed="rId2"/>
          <a:stretch/>
        </p:blipFill>
        <p:spPr>
          <a:xfrm>
            <a:off x="5105520" y="4722840"/>
            <a:ext cx="2971800" cy="2135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2209680" y="0"/>
            <a:ext cx="6172200" cy="1600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514600" y="304920"/>
            <a:ext cx="5638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ритерии оценивания защиты выполненного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1523880" y="3048120"/>
            <a:ext cx="3276720" cy="1904760"/>
          </a:xfrm>
          <a:custGeom>
            <a:avLst/>
            <a:gdLst>
              <a:gd name="textAreaLeft" fmla="*/ 748080 w 3276720"/>
              <a:gd name="textAreaRight" fmla="*/ 2528640 w 327672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4191120" y="1905120"/>
            <a:ext cx="3276360" cy="175248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5638680" y="3809880"/>
            <a:ext cx="3276720" cy="1752840"/>
          </a:xfrm>
          <a:custGeom>
            <a:avLst/>
            <a:gdLst>
              <a:gd name="textAreaLeft" fmla="*/ 748080 w 3276720"/>
              <a:gd name="textAreaRight" fmla="*/ 2528640 w 327672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2971800" y="5029200"/>
            <a:ext cx="3276720" cy="1676520"/>
          </a:xfrm>
          <a:custGeom>
            <a:avLst/>
            <a:gdLst>
              <a:gd name="textAreaLeft" fmla="*/ 748080 w 3276720"/>
              <a:gd name="textAreaRight" fmla="*/ 2528640 w 3276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4648320" y="2286000"/>
            <a:ext cx="236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ачество докл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6019920" y="4419720"/>
            <a:ext cx="25905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Объем и глубина знаний по те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3429000" y="5638680"/>
            <a:ext cx="25146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едагогическая ориен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2133720" y="358128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веты на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2"/>
          <p:cNvSpPr/>
          <p:nvPr/>
        </p:nvSpPr>
        <p:spPr>
          <a:xfrm>
            <a:off x="762120" y="58672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Less" w="21600" h="24003">
                <a:moveTo>
                  <a:pt x="5273" y="5186"/>
                </a:moveTo>
                <a:lnTo>
                  <a:pt x="12271" y="5186"/>
                </a:lnTo>
                <a:lnTo>
                  <a:pt x="16327" y="8685"/>
                </a:lnTo>
                <a:lnTo>
                  <a:pt x="16327" y="18816"/>
                </a:lnTo>
                <a:lnTo>
                  <a:pt x="5273" y="18816"/>
                </a:lnTo>
                <a:close/>
              </a:path>
              <a:path fill="darken" w="21600" h="24003">
                <a:moveTo>
                  <a:pt x="12271" y="5186"/>
                </a:moveTo>
                <a:lnTo>
                  <a:pt x="16327" y="8685"/>
                </a:lnTo>
                <a:lnTo>
                  <a:pt x="12271" y="868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8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2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134784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Изображение 071"/>
          <p:cNvPicPr/>
          <p:nvPr/>
        </p:nvPicPr>
        <p:blipFill>
          <a:blip r:embed="rId1"/>
          <a:stretch/>
        </p:blipFill>
        <p:spPr>
          <a:xfrm>
            <a:off x="1676520" y="2209680"/>
            <a:ext cx="7086600" cy="36338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4"/>
          <p:cNvSpPr/>
          <p:nvPr/>
        </p:nvSpPr>
        <p:spPr>
          <a:xfrm>
            <a:off x="1905120" y="0"/>
            <a:ext cx="6705360" cy="1600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7400" y="304920"/>
            <a:ext cx="6477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Критерии оценивания выполненных прое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5943600" y="4952880"/>
            <a:ext cx="2819520" cy="16002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214200 h 1600200"/>
              <a:gd name="textAreaBottom" fmla="*/ 1386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9">
            <a:hlinkClick r:id="" action="ppaction://hlinkshowjump?jump=nextslide"/>
          </p:cNvPr>
          <p:cNvSpPr/>
          <p:nvPr/>
        </p:nvSpPr>
        <p:spPr>
          <a:xfrm>
            <a:off x="6705720" y="58672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" w="21600" h="25532">
                <a:moveTo>
                  <a:pt x="10800" y="576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5532">
                <a:moveTo>
                  <a:pt x="10800" y="613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5532">
                <a:moveTo>
                  <a:pt x="8224" y="10190"/>
                </a:moveTo>
                <a:lnTo>
                  <a:pt x="12088" y="10190"/>
                </a:lnTo>
                <a:lnTo>
                  <a:pt x="12088" y="17188"/>
                </a:lnTo>
                <a:lnTo>
                  <a:pt x="13376" y="17188"/>
                </a:lnTo>
                <a:lnTo>
                  <a:pt x="13376" y="18110"/>
                </a:lnTo>
                <a:lnTo>
                  <a:pt x="8224" y="18110"/>
                </a:lnTo>
                <a:lnTo>
                  <a:pt x="8224" y="17188"/>
                </a:lnTo>
                <a:lnTo>
                  <a:pt x="9512" y="17188"/>
                </a:lnTo>
                <a:lnTo>
                  <a:pt x="9512" y="11095"/>
                </a:lnTo>
                <a:lnTo>
                  <a:pt x="8224" y="1109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0:55:40Z</dcterms:created>
  <dc:creator>Ромео</dc:creator>
  <dc:description/>
  <dc:language>en-US</dc:language>
  <cp:lastModifiedBy>Роман</cp:lastModifiedBy>
  <dcterms:modified xsi:type="dcterms:W3CDTF">2013-10-05T12:28:53Z</dcterms:modified>
  <cp:revision>27</cp:revision>
  <dc:subject/>
  <dc:title>Презентация PowerPoint</dc:title>
</cp:coreProperties>
</file>