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8806-A822-4775-853F-EC2230A8C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02F-C1F5-49A8-AA4A-4DC3D4608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75E-F6AD-4911-BC9A-648742C58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BB9-CD42-40E9-9B42-8DD8E2AC4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621D-D066-494F-89C8-91C0058EB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7F5-06B2-46FE-85C8-C44ECF9AF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8601-3CB6-4470-BE6F-829A311AD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D73-44DE-4B10-BC68-BCEC63966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F43-BB72-44E9-8A9B-916E79E2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9EE-5CB0-4564-A779-A7D51A4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1FF-EAB9-405B-86F8-8560BA8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91D-4170-4738-9CFF-CAEECCEE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922-BB94-4155-A48D-703EAD9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927-CF90-498A-933D-26BFBF9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EA1-C9B5-4653-8649-DD5984AD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B49-F4B4-4A43-AB21-BB00E48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421-B520-402D-97F2-78C15C0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DB1-A222-4AE4-9ADC-31A5C92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960-9CAD-442D-82AF-07EA2EB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34D-F114-487A-9E29-FE8F990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784-ABDE-466C-8C56-1D67A244C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 –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826920" y="4941720"/>
            <a:ext cx="7715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внимательн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24000" y="1484280"/>
            <a:ext cx="468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с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2071800"/>
            <a:ext cx="4572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шибках учат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>
            <a:hlinkClick r:id="" action="ppaction://hlinkshowjump?jump=previousslide"/>
          </p:cNvPr>
          <p:cNvSpPr/>
          <p:nvPr/>
        </p:nvSpPr>
        <p:spPr>
          <a:xfrm>
            <a:off x="2786040" y="4143240"/>
            <a:ext cx="452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 теорию еще раз и вернись к задач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609480" y="152280"/>
            <a:ext cx="78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Times New Roman"/>
              </a:rPr>
              <a:t>Не унывай</a:t>
            </a:r>
            <a:endParaRPr b="1" i="1" lang="en-US" sz="28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AutoShape 6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10800"/>
                </a:moveTo>
                <a:lnTo>
                  <a:pt x="27243" y="3794"/>
                </a:lnTo>
                <a:lnTo>
                  <a:pt x="27243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85880" y="3571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ерную формулировку определения прямоугольного треуголь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990720" y="1676520"/>
            <a:ext cx="4419000" cy="914400"/>
            <a:chOff x="990720" y="1676520"/>
            <a:chExt cx="4419000" cy="914400"/>
          </a:xfrm>
        </p:grpSpPr>
        <p:sp>
          <p:nvSpPr>
            <p:cNvPr id="54" name="Oval 9"/>
            <p:cNvSpPr/>
            <p:nvPr/>
          </p:nvSpPr>
          <p:spPr>
            <a:xfrm>
              <a:off x="990720" y="1676520"/>
              <a:ext cx="441900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1460880" y="1829160"/>
              <a:ext cx="394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реугольник, у которого только два острых уг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1"/>
          <p:cNvGrpSpPr/>
          <p:nvPr/>
        </p:nvGrpSpPr>
        <p:grpSpPr>
          <a:xfrm>
            <a:off x="1143000" y="2666880"/>
            <a:ext cx="4266720" cy="914400"/>
            <a:chOff x="1143000" y="2666880"/>
            <a:chExt cx="4266720" cy="914400"/>
          </a:xfrm>
        </p:grpSpPr>
        <p:sp>
          <p:nvSpPr>
            <p:cNvPr id="57" name="Oval 12"/>
            <p:cNvSpPr/>
            <p:nvPr/>
          </p:nvSpPr>
          <p:spPr>
            <a:xfrm>
              <a:off x="1143000" y="2666880"/>
              <a:ext cx="426672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1596960" y="2819520"/>
              <a:ext cx="381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реугольник с прямыми сторо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4"/>
          <p:cNvGrpSpPr/>
          <p:nvPr/>
        </p:nvGrpSpPr>
        <p:grpSpPr>
          <a:xfrm>
            <a:off x="1143000" y="3809880"/>
            <a:ext cx="4190760" cy="914400"/>
            <a:chOff x="1143000" y="3809880"/>
            <a:chExt cx="4190760" cy="914400"/>
          </a:xfrm>
        </p:grpSpPr>
        <p:sp>
          <p:nvSpPr>
            <p:cNvPr id="60" name="Oval 15"/>
            <p:cNvSpPr/>
            <p:nvPr/>
          </p:nvSpPr>
          <p:spPr>
            <a:xfrm>
              <a:off x="1143000" y="3809880"/>
              <a:ext cx="41907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6"/>
            <p:cNvSpPr/>
            <p:nvPr/>
          </p:nvSpPr>
          <p:spPr>
            <a:xfrm>
              <a:off x="1589040" y="3962520"/>
              <a:ext cx="37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реугольник, у которого все углы пря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7"/>
          <p:cNvGrpSpPr/>
          <p:nvPr/>
        </p:nvGrpSpPr>
        <p:grpSpPr>
          <a:xfrm>
            <a:off x="1066680" y="5257800"/>
            <a:ext cx="4267080" cy="914400"/>
            <a:chOff x="1066680" y="5257800"/>
            <a:chExt cx="4267080" cy="914400"/>
          </a:xfrm>
        </p:grpSpPr>
        <p:sp>
          <p:nvSpPr>
            <p:cNvPr id="63" name="Oval 18"/>
            <p:cNvSpPr/>
            <p:nvPr/>
          </p:nvSpPr>
          <p:spPr>
            <a:xfrm>
              <a:off x="1066680" y="5257800"/>
              <a:ext cx="4267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9"/>
            <p:cNvSpPr/>
            <p:nvPr/>
          </p:nvSpPr>
          <p:spPr>
            <a:xfrm>
              <a:off x="1520640" y="5410440"/>
              <a:ext cx="381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реугольник, у которого один угол прямой, а два других остр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4">
            <a:hlinkClick r:id="rId1" action="ppaction://hlinksldjump"/>
          </p:cNvPr>
          <p:cNvSpPr/>
          <p:nvPr/>
        </p:nvSpPr>
        <p:spPr>
          <a:xfrm>
            <a:off x="6012000" y="407664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>
            <a:hlinkClick r:id="rId2" action="ppaction://hlinksldjump"/>
          </p:cNvPr>
          <p:cNvSpPr/>
          <p:nvPr/>
        </p:nvSpPr>
        <p:spPr>
          <a:xfrm>
            <a:off x="5940360" y="292428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>
            <a:hlinkClick r:id="rId3" action="ppaction://hlinksldjump"/>
          </p:cNvPr>
          <p:cNvSpPr/>
          <p:nvPr/>
        </p:nvSpPr>
        <p:spPr>
          <a:xfrm>
            <a:off x="6012000" y="191628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>
            <a:hlinkClick r:id="rId4" action="ppaction://hlinksldjump"/>
          </p:cNvPr>
          <p:cNvSpPr/>
          <p:nvPr/>
        </p:nvSpPr>
        <p:spPr>
          <a:xfrm>
            <a:off x="5940360" y="5516640"/>
            <a:ext cx="863640" cy="406440"/>
          </a:xfrm>
          <a:custGeom>
            <a:avLst/>
            <a:gdLst>
              <a:gd name="textAreaLeft" fmla="*/ 26280 w 863640"/>
              <a:gd name="textAreaRight" fmla="*/ 837360 w 8636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00040" y="2142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торона прямоугольного треугольника, противолежащая прямому уг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3429000" y="1643040"/>
            <a:ext cx="3735000" cy="547200"/>
            <a:chOff x="3429000" y="1643040"/>
            <a:chExt cx="3735000" cy="547200"/>
          </a:xfrm>
        </p:grpSpPr>
        <p:sp>
          <p:nvSpPr>
            <p:cNvPr id="72" name="Oval 9"/>
            <p:cNvSpPr/>
            <p:nvPr/>
          </p:nvSpPr>
          <p:spPr>
            <a:xfrm>
              <a:off x="3429000" y="1708920"/>
              <a:ext cx="3735000" cy="4813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3826440" y="1643040"/>
              <a:ext cx="333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Осн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3429000" y="2633760"/>
            <a:ext cx="3519360" cy="542520"/>
            <a:chOff x="3429000" y="2633760"/>
            <a:chExt cx="3519360" cy="542520"/>
          </a:xfrm>
        </p:grpSpPr>
        <p:sp>
          <p:nvSpPr>
            <p:cNvPr id="75" name="Oval 12"/>
            <p:cNvSpPr/>
            <p:nvPr/>
          </p:nvSpPr>
          <p:spPr>
            <a:xfrm>
              <a:off x="3429000" y="2694960"/>
              <a:ext cx="3519360" cy="4813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3803400" y="2633760"/>
              <a:ext cx="31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а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3505320" y="3857760"/>
            <a:ext cx="3658680" cy="577440"/>
            <a:chOff x="3505320" y="3857760"/>
            <a:chExt cx="3658680" cy="577440"/>
          </a:xfrm>
        </p:grpSpPr>
        <p:sp>
          <p:nvSpPr>
            <p:cNvPr id="78" name="Oval 15"/>
            <p:cNvSpPr/>
            <p:nvPr/>
          </p:nvSpPr>
          <p:spPr>
            <a:xfrm>
              <a:off x="3505320" y="3954240"/>
              <a:ext cx="3658680" cy="4809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6"/>
            <p:cNvSpPr/>
            <p:nvPr/>
          </p:nvSpPr>
          <p:spPr>
            <a:xfrm>
              <a:off x="3894480" y="3857760"/>
              <a:ext cx="32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Гипотену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3429000" y="5119560"/>
            <a:ext cx="3375000" cy="572760"/>
            <a:chOff x="3429000" y="5119560"/>
            <a:chExt cx="3375000" cy="572760"/>
          </a:xfrm>
        </p:grpSpPr>
        <p:sp>
          <p:nvSpPr>
            <p:cNvPr id="81" name="Oval 18"/>
            <p:cNvSpPr/>
            <p:nvPr/>
          </p:nvSpPr>
          <p:spPr>
            <a:xfrm>
              <a:off x="3429000" y="5212800"/>
              <a:ext cx="3375000" cy="47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3787920" y="5119560"/>
              <a:ext cx="30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Затрудняюсь ответ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" name="AutoShape 20"/>
          <p:cNvCxnSpPr>
            <a:stCxn id="84" idx="2"/>
            <a:endCxn id="84" idx="2"/>
          </p:cNvCxnSpPr>
          <p:nvPr/>
        </p:nvCxnSpPr>
        <p:spPr>
          <a:xfrm flipH="1" rot="16200000">
            <a:off x="304920" y="469404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grpSp>
        <p:nvGrpSpPr>
          <p:cNvPr id="85" name="Group 21"/>
          <p:cNvGrpSpPr/>
          <p:nvPr/>
        </p:nvGrpSpPr>
        <p:grpSpPr>
          <a:xfrm>
            <a:off x="304920" y="1905120"/>
            <a:ext cx="3500280" cy="2775960"/>
            <a:chOff x="304920" y="1905120"/>
            <a:chExt cx="3500280" cy="2775960"/>
          </a:xfrm>
        </p:grpSpPr>
        <p:sp>
          <p:nvSpPr>
            <p:cNvPr id="84" name="Прямоугольный треугольник 8"/>
            <p:cNvSpPr/>
            <p:nvPr/>
          </p:nvSpPr>
          <p:spPr>
            <a:xfrm>
              <a:off x="304920" y="1905120"/>
              <a:ext cx="3500280" cy="2775960"/>
            </a:xfrm>
            <a:prstGeom prst="rtTriangle">
              <a:avLst/>
            </a:prstGeom>
            <a:solidFill>
              <a:srgbClr val="65d7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304920" y="4155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4"/>
            <p:cNvSpPr/>
            <p:nvPr/>
          </p:nvSpPr>
          <p:spPr>
            <a:xfrm>
              <a:off x="685800" y="4155480"/>
              <a:ext cx="0" cy="47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14">
            <a:hlinkClick r:id="rId1" action="ppaction://hlinksldjump"/>
          </p:cNvPr>
          <p:cNvSpPr/>
          <p:nvPr/>
        </p:nvSpPr>
        <p:spPr>
          <a:xfrm>
            <a:off x="7812000" y="1773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>
            <a:hlinkClick r:id="rId2" action="ppaction://hlinksldjump"/>
          </p:cNvPr>
          <p:cNvSpPr/>
          <p:nvPr/>
        </p:nvSpPr>
        <p:spPr>
          <a:xfrm>
            <a:off x="7885080" y="2781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rId3" action="ppaction://hlinksldjump"/>
          </p:cNvPr>
          <p:cNvSpPr/>
          <p:nvPr/>
        </p:nvSpPr>
        <p:spPr>
          <a:xfrm>
            <a:off x="7885080" y="5229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>
            <a:hlinkClick r:id="rId4" action="ppaction://hlinksldjump"/>
          </p:cNvPr>
          <p:cNvSpPr/>
          <p:nvPr/>
        </p:nvSpPr>
        <p:spPr>
          <a:xfrm>
            <a:off x="7740720" y="4005360"/>
            <a:ext cx="934920" cy="406440"/>
          </a:xfrm>
          <a:custGeom>
            <a:avLst/>
            <a:gdLst>
              <a:gd name="textAreaLeft" fmla="*/ 26280 w 934920"/>
              <a:gd name="textAreaRight" fmla="*/ 908640 w 9349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9661" h="21600">
                <a:moveTo>
                  <a:pt x="0" y="0"/>
                </a:moveTo>
                <a:lnTo>
                  <a:pt x="49661" y="0"/>
                </a:lnTo>
                <a:lnTo>
                  <a:pt x="49661" y="21600"/>
                </a:lnTo>
                <a:lnTo>
                  <a:pt x="0" y="21600"/>
                </a:lnTo>
                <a:close/>
              </a:path>
              <a:path fill="lightenLess" w="49661" h="21600">
                <a:moveTo>
                  <a:pt x="0" y="0"/>
                </a:moveTo>
                <a:lnTo>
                  <a:pt x="49661" y="0"/>
                </a:lnTo>
                <a:lnTo>
                  <a:pt x="48261" y="1400"/>
                </a:lnTo>
                <a:lnTo>
                  <a:pt x="1400" y="1400"/>
                </a:lnTo>
                <a:close/>
              </a:path>
              <a:path fill="darken" w="49661" h="21600">
                <a:moveTo>
                  <a:pt x="49661" y="0"/>
                </a:moveTo>
                <a:lnTo>
                  <a:pt x="49661" y="21600"/>
                </a:lnTo>
                <a:lnTo>
                  <a:pt x="48261" y="20200"/>
                </a:lnTo>
                <a:lnTo>
                  <a:pt x="48261" y="1400"/>
                </a:lnTo>
                <a:close/>
              </a:path>
              <a:path fill="darkenLess" w="49661" h="21600">
                <a:moveTo>
                  <a:pt x="49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1" y="20200"/>
                </a:lnTo>
                <a:close/>
              </a:path>
              <a:path fill="lighten" w="49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785880" y="35712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3: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формулиров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стрый угол прямоугольного треугольника равен 30°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762120" y="1752480"/>
            <a:ext cx="4419000" cy="914400"/>
            <a:chOff x="762120" y="1752480"/>
            <a:chExt cx="4419000" cy="914400"/>
          </a:xfrm>
        </p:grpSpPr>
        <p:sp>
          <p:nvSpPr>
            <p:cNvPr id="95" name="Oval 9"/>
            <p:cNvSpPr/>
            <p:nvPr/>
          </p:nvSpPr>
          <p:spPr>
            <a:xfrm>
              <a:off x="762120" y="1752480"/>
              <a:ext cx="441900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1232280" y="190512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атет равен половине гипотену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762120" y="2895480"/>
            <a:ext cx="4419000" cy="914400"/>
            <a:chOff x="762120" y="2895480"/>
            <a:chExt cx="4419000" cy="914400"/>
          </a:xfrm>
        </p:grpSpPr>
        <p:sp>
          <p:nvSpPr>
            <p:cNvPr id="98" name="Oval 12"/>
            <p:cNvSpPr/>
            <p:nvPr/>
          </p:nvSpPr>
          <p:spPr>
            <a:xfrm>
              <a:off x="762120" y="2895480"/>
              <a:ext cx="441900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232280" y="304812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гипотенуза равна кат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609480" y="4191120"/>
            <a:ext cx="4419360" cy="914400"/>
            <a:chOff x="609480" y="4191120"/>
            <a:chExt cx="4419360" cy="914400"/>
          </a:xfrm>
        </p:grpSpPr>
        <p:sp>
          <p:nvSpPr>
            <p:cNvPr id="101" name="Oval 15"/>
            <p:cNvSpPr/>
            <p:nvPr/>
          </p:nvSpPr>
          <p:spPr>
            <a:xfrm>
              <a:off x="609480" y="419112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>
              <a:off x="1079640" y="4343760"/>
              <a:ext cx="394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атет, лежащий против этого угла, равен половине гипотен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838080" y="5562720"/>
            <a:ext cx="4419360" cy="914400"/>
            <a:chOff x="838080" y="5562720"/>
            <a:chExt cx="4419360" cy="914400"/>
          </a:xfrm>
        </p:grpSpPr>
        <p:sp>
          <p:nvSpPr>
            <p:cNvPr id="104" name="Oval 18"/>
            <p:cNvSpPr/>
            <p:nvPr/>
          </p:nvSpPr>
          <p:spPr>
            <a:xfrm>
              <a:off x="838080" y="556272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1308240" y="571536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гипотенуза больше кат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4">
            <a:hlinkClick r:id="rId1" action="ppaction://hlinksldjump"/>
          </p:cNvPr>
          <p:cNvSpPr/>
          <p:nvPr/>
        </p:nvSpPr>
        <p:spPr>
          <a:xfrm>
            <a:off x="5273640" y="196848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>
            <a:hlinkClick r:id="rId2" action="ppaction://hlinksldjump"/>
          </p:cNvPr>
          <p:cNvSpPr/>
          <p:nvPr/>
        </p:nvSpPr>
        <p:spPr>
          <a:xfrm>
            <a:off x="5435640" y="306864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>
            <a:hlinkClick r:id="rId3" action="ppaction://hlinksldjump"/>
          </p:cNvPr>
          <p:cNvSpPr/>
          <p:nvPr/>
        </p:nvSpPr>
        <p:spPr>
          <a:xfrm>
            <a:off x="5651640" y="580536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rId4" action="ppaction://hlinksldjump"/>
          </p:cNvPr>
          <p:cNvSpPr/>
          <p:nvPr/>
        </p:nvSpPr>
        <p:spPr>
          <a:xfrm>
            <a:off x="5435640" y="4365720"/>
            <a:ext cx="1008000" cy="406440"/>
          </a:xfrm>
          <a:custGeom>
            <a:avLst/>
            <a:gdLst>
              <a:gd name="textAreaLeft" fmla="*/ 26280 w 1008000"/>
              <a:gd name="textAreaRight" fmla="*/ 981720 w 10080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3541" h="21600">
                <a:moveTo>
                  <a:pt x="0" y="0"/>
                </a:moveTo>
                <a:lnTo>
                  <a:pt x="53541" y="0"/>
                </a:lnTo>
                <a:lnTo>
                  <a:pt x="53541" y="21600"/>
                </a:lnTo>
                <a:lnTo>
                  <a:pt x="0" y="21600"/>
                </a:lnTo>
                <a:close/>
              </a:path>
              <a:path fill="lightenLess" w="53541" h="21600">
                <a:moveTo>
                  <a:pt x="0" y="0"/>
                </a:moveTo>
                <a:lnTo>
                  <a:pt x="53541" y="0"/>
                </a:lnTo>
                <a:lnTo>
                  <a:pt x="52141" y="1400"/>
                </a:lnTo>
                <a:lnTo>
                  <a:pt x="1400" y="1400"/>
                </a:lnTo>
                <a:close/>
              </a:path>
              <a:path fill="darken" w="53541" h="21600">
                <a:moveTo>
                  <a:pt x="53541" y="0"/>
                </a:moveTo>
                <a:lnTo>
                  <a:pt x="53541" y="21600"/>
                </a:lnTo>
                <a:lnTo>
                  <a:pt x="52141" y="20200"/>
                </a:lnTo>
                <a:lnTo>
                  <a:pt x="52141" y="1400"/>
                </a:lnTo>
                <a:close/>
              </a:path>
              <a:path fill="darkenLess" w="53541" h="21600">
                <a:moveTo>
                  <a:pt x="53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41" y="20200"/>
                </a:lnTo>
                <a:close/>
              </a:path>
              <a:path fill="lighten" w="53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57120" y="2142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треугольник АВС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= 4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уг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ый треугольник 11"/>
          <p:cNvSpPr/>
          <p:nvPr/>
        </p:nvSpPr>
        <p:spPr>
          <a:xfrm flipH="1">
            <a:off x="3643200" y="2500200"/>
            <a:ext cx="4572000" cy="2357640"/>
          </a:xfrm>
          <a:prstGeom prst="rtTriangle">
            <a:avLst/>
          </a:prstGeom>
          <a:solidFill>
            <a:srgbClr val="00b0f0"/>
          </a:solidFill>
          <a:ln w="414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929720" y="2143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3286080" y="4857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8001000" y="4929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8001000" y="4643280"/>
            <a:ext cx="214200" cy="21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228600" y="3124080"/>
            <a:ext cx="1447920" cy="762120"/>
            <a:chOff x="228600" y="3124080"/>
            <a:chExt cx="1447920" cy="762120"/>
          </a:xfrm>
        </p:grpSpPr>
        <p:sp>
          <p:nvSpPr>
            <p:cNvPr id="118" name="Oval 14"/>
            <p:cNvSpPr/>
            <p:nvPr/>
          </p:nvSpPr>
          <p:spPr>
            <a:xfrm>
              <a:off x="228600" y="3124080"/>
              <a:ext cx="144792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382680" y="3251160"/>
              <a:ext cx="12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6"/>
          <p:cNvGrpSpPr/>
          <p:nvPr/>
        </p:nvGrpSpPr>
        <p:grpSpPr>
          <a:xfrm>
            <a:off x="380880" y="2133720"/>
            <a:ext cx="1447920" cy="761760"/>
            <a:chOff x="380880" y="2133720"/>
            <a:chExt cx="1447920" cy="761760"/>
          </a:xfrm>
        </p:grpSpPr>
        <p:sp>
          <p:nvSpPr>
            <p:cNvPr id="121" name="Oval 17"/>
            <p:cNvSpPr/>
            <p:nvPr/>
          </p:nvSpPr>
          <p:spPr>
            <a:xfrm>
              <a:off x="380880" y="2133720"/>
              <a:ext cx="14479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534960" y="2260800"/>
              <a:ext cx="12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304920" y="4419720"/>
            <a:ext cx="1447560" cy="761760"/>
            <a:chOff x="304920" y="4419720"/>
            <a:chExt cx="1447560" cy="761760"/>
          </a:xfrm>
        </p:grpSpPr>
        <p:sp>
          <p:nvSpPr>
            <p:cNvPr id="124" name="Oval 20"/>
            <p:cNvSpPr/>
            <p:nvPr/>
          </p:nvSpPr>
          <p:spPr>
            <a:xfrm>
              <a:off x="304920" y="4419720"/>
              <a:ext cx="144756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459000" y="4546800"/>
              <a:ext cx="129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04920" y="5562720"/>
            <a:ext cx="1447560" cy="761760"/>
            <a:chOff x="304920" y="5562720"/>
            <a:chExt cx="1447560" cy="761760"/>
          </a:xfrm>
        </p:grpSpPr>
        <p:sp>
          <p:nvSpPr>
            <p:cNvPr id="127" name="Oval 23"/>
            <p:cNvSpPr/>
            <p:nvPr/>
          </p:nvSpPr>
          <p:spPr>
            <a:xfrm>
              <a:off x="304920" y="5562720"/>
              <a:ext cx="144756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459000" y="5689800"/>
              <a:ext cx="129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14">
            <a:hlinkClick r:id="rId1" action="ppaction://hlinksldjump"/>
          </p:cNvPr>
          <p:cNvSpPr/>
          <p:nvPr/>
        </p:nvSpPr>
        <p:spPr>
          <a:xfrm>
            <a:off x="2268360" y="2349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>
            <a:hlinkClick r:id="rId2" action="ppaction://hlinksldjump"/>
          </p:cNvPr>
          <p:cNvSpPr/>
          <p:nvPr/>
        </p:nvSpPr>
        <p:spPr>
          <a:xfrm>
            <a:off x="2050920" y="450864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>
            <a:hlinkClick r:id="rId3" action="ppaction://hlinksldjump"/>
          </p:cNvPr>
          <p:cNvSpPr/>
          <p:nvPr/>
        </p:nvSpPr>
        <p:spPr>
          <a:xfrm>
            <a:off x="2050920" y="566100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>
            <a:hlinkClick r:id="rId4" action="ppaction://hlinksldjump"/>
          </p:cNvPr>
          <p:cNvSpPr/>
          <p:nvPr/>
        </p:nvSpPr>
        <p:spPr>
          <a:xfrm>
            <a:off x="2124000" y="3357720"/>
            <a:ext cx="1008000" cy="406080"/>
          </a:xfrm>
          <a:custGeom>
            <a:avLst/>
            <a:gdLst>
              <a:gd name="textAreaLeft" fmla="*/ 26280 w 1008000"/>
              <a:gd name="textAreaRight" fmla="*/ 981720 w 100800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3589" h="21600">
                <a:moveTo>
                  <a:pt x="0" y="0"/>
                </a:moveTo>
                <a:lnTo>
                  <a:pt x="53589" y="0"/>
                </a:lnTo>
                <a:lnTo>
                  <a:pt x="53589" y="21600"/>
                </a:lnTo>
                <a:lnTo>
                  <a:pt x="0" y="21600"/>
                </a:lnTo>
                <a:close/>
              </a:path>
              <a:path fill="lightenLess" w="53589" h="21600">
                <a:moveTo>
                  <a:pt x="0" y="0"/>
                </a:moveTo>
                <a:lnTo>
                  <a:pt x="53589" y="0"/>
                </a:lnTo>
                <a:lnTo>
                  <a:pt x="52189" y="1400"/>
                </a:lnTo>
                <a:lnTo>
                  <a:pt x="1400" y="1400"/>
                </a:lnTo>
                <a:close/>
              </a:path>
              <a:path fill="darken" w="53589" h="21600">
                <a:moveTo>
                  <a:pt x="53589" y="0"/>
                </a:moveTo>
                <a:lnTo>
                  <a:pt x="53589" y="21600"/>
                </a:lnTo>
                <a:lnTo>
                  <a:pt x="52189" y="20200"/>
                </a:lnTo>
                <a:lnTo>
                  <a:pt x="52189" y="1400"/>
                </a:lnTo>
                <a:close/>
              </a:path>
              <a:path fill="darkenLess" w="53589" h="21600">
                <a:moveTo>
                  <a:pt x="53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89" y="20200"/>
                </a:lnTo>
                <a:close/>
              </a:path>
              <a:path fill="lighten" w="53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114800" y="1371600"/>
            <a:ext cx="4857480" cy="3893400"/>
            <a:chOff x="4114800" y="1371600"/>
            <a:chExt cx="4857480" cy="3893400"/>
          </a:xfrm>
        </p:grpSpPr>
        <p:grpSp>
          <p:nvGrpSpPr>
            <p:cNvPr id="134" name="Group 3"/>
            <p:cNvGrpSpPr/>
            <p:nvPr/>
          </p:nvGrpSpPr>
          <p:grpSpPr>
            <a:xfrm>
              <a:off x="4544280" y="1746360"/>
              <a:ext cx="4315320" cy="3056040"/>
              <a:chOff x="4544280" y="1746360"/>
              <a:chExt cx="4315320" cy="3056040"/>
            </a:xfrm>
          </p:grpSpPr>
          <p:sp>
            <p:nvSpPr>
              <p:cNvPr id="135" name="Прямоугольный треугольник 8"/>
              <p:cNvSpPr/>
              <p:nvPr/>
            </p:nvSpPr>
            <p:spPr>
              <a:xfrm flipH="1">
                <a:off x="4543920" y="1746360"/>
                <a:ext cx="4315320" cy="3056040"/>
              </a:xfrm>
              <a:prstGeom prst="rtTriangle">
                <a:avLst/>
              </a:prstGeom>
              <a:solidFill>
                <a:srgbClr val="00b0f0"/>
              </a:solidFill>
              <a:ln w="41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Месяц 9"/>
              <p:cNvSpPr/>
              <p:nvPr/>
            </p:nvSpPr>
            <p:spPr>
              <a:xfrm rot="9930600">
                <a:off x="5467320" y="4200840"/>
                <a:ext cx="209520" cy="53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353" y="1992"/>
                      <a:pt x="11105" y="5080"/>
                      <a:pt x="11105" y="10800"/>
                    </a:cubicBezTo>
                    <a:cubicBezTo>
                      <a:pt x="11105" y="16520"/>
                      <a:pt x="16353" y="1960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bbe0e3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оугольник 10"/>
              <p:cNvSpPr/>
              <p:nvPr/>
            </p:nvSpPr>
            <p:spPr>
              <a:xfrm>
                <a:off x="8657640" y="4524480"/>
                <a:ext cx="201960" cy="27792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12"/>
            <p:cNvSpPr/>
            <p:nvPr/>
          </p:nvSpPr>
          <p:spPr>
            <a:xfrm>
              <a:off x="4114800" y="4596840"/>
              <a:ext cx="4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3"/>
            <p:cNvSpPr/>
            <p:nvPr/>
          </p:nvSpPr>
          <p:spPr>
            <a:xfrm>
              <a:off x="8703360" y="4896720"/>
              <a:ext cx="2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3"/>
            <p:cNvSpPr/>
            <p:nvPr/>
          </p:nvSpPr>
          <p:spPr>
            <a:xfrm>
              <a:off x="8416440" y="1371600"/>
              <a:ext cx="2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228600" y="5638680"/>
            <a:ext cx="2209320" cy="779760"/>
            <a:chOff x="228600" y="5638680"/>
            <a:chExt cx="2209320" cy="779760"/>
          </a:xfrm>
        </p:grpSpPr>
        <p:sp>
          <p:nvSpPr>
            <p:cNvPr id="142" name="Oval 12"/>
            <p:cNvSpPr/>
            <p:nvPr/>
          </p:nvSpPr>
          <p:spPr>
            <a:xfrm>
              <a:off x="228600" y="5638680"/>
              <a:ext cx="2209320" cy="779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653400" y="5833440"/>
              <a:ext cx="144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7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8"/>
          <p:cNvGrpSpPr/>
          <p:nvPr/>
        </p:nvGrpSpPr>
        <p:grpSpPr>
          <a:xfrm>
            <a:off x="152280" y="2286000"/>
            <a:ext cx="2210040" cy="762120"/>
            <a:chOff x="152280" y="2286000"/>
            <a:chExt cx="2210040" cy="762120"/>
          </a:xfrm>
        </p:grpSpPr>
        <p:sp>
          <p:nvSpPr>
            <p:cNvPr id="146" name="Oval 19"/>
            <p:cNvSpPr/>
            <p:nvPr/>
          </p:nvSpPr>
          <p:spPr>
            <a:xfrm>
              <a:off x="152280" y="2286000"/>
              <a:ext cx="221004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0"/>
            <p:cNvSpPr/>
            <p:nvPr/>
          </p:nvSpPr>
          <p:spPr>
            <a:xfrm>
              <a:off x="386280" y="2413080"/>
              <a:ext cx="197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6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152280" y="3276720"/>
            <a:ext cx="2286000" cy="761760"/>
            <a:chOff x="152280" y="3276720"/>
            <a:chExt cx="2286000" cy="761760"/>
          </a:xfrm>
        </p:grpSpPr>
        <p:sp>
          <p:nvSpPr>
            <p:cNvPr id="149" name="Oval 22"/>
            <p:cNvSpPr/>
            <p:nvPr/>
          </p:nvSpPr>
          <p:spPr>
            <a:xfrm>
              <a:off x="152280" y="3276720"/>
              <a:ext cx="228600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3"/>
            <p:cNvSpPr/>
            <p:nvPr/>
          </p:nvSpPr>
          <p:spPr>
            <a:xfrm>
              <a:off x="394200" y="3403800"/>
              <a:ext cx="20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12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152280" y="4419720"/>
            <a:ext cx="2057400" cy="761760"/>
            <a:chOff x="152280" y="4419720"/>
            <a:chExt cx="2057400" cy="761760"/>
          </a:xfrm>
        </p:grpSpPr>
        <p:sp>
          <p:nvSpPr>
            <p:cNvPr id="152" name="Oval 25"/>
            <p:cNvSpPr/>
            <p:nvPr/>
          </p:nvSpPr>
          <p:spPr>
            <a:xfrm>
              <a:off x="152280" y="4419720"/>
              <a:ext cx="205740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70080" y="4546800"/>
              <a:ext cx="183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24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1"/>
          <p:cNvSpPr/>
          <p:nvPr/>
        </p:nvSpPr>
        <p:spPr>
          <a:xfrm>
            <a:off x="428760" y="2142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АВС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90 °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30°, ВС = 1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гипотенузы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>
            <a:hlinkClick r:id="rId1" action="ppaction://hlinksldjump"/>
          </p:cNvPr>
          <p:cNvSpPr/>
          <p:nvPr/>
        </p:nvSpPr>
        <p:spPr>
          <a:xfrm>
            <a:off x="2700360" y="342900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>
            <a:hlinkClick r:id="rId2" action="ppaction://hlinksldjump"/>
          </p:cNvPr>
          <p:cNvSpPr/>
          <p:nvPr/>
        </p:nvSpPr>
        <p:spPr>
          <a:xfrm>
            <a:off x="2843280" y="242100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>
            <a:hlinkClick r:id="rId3" action="ppaction://hlinksldjump"/>
          </p:cNvPr>
          <p:cNvSpPr/>
          <p:nvPr/>
        </p:nvSpPr>
        <p:spPr>
          <a:xfrm>
            <a:off x="2843280" y="580536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4" action="ppaction://hlinksldjump"/>
          </p:cNvPr>
          <p:cNvSpPr/>
          <p:nvPr/>
        </p:nvSpPr>
        <p:spPr>
          <a:xfrm>
            <a:off x="2771640" y="4581360"/>
            <a:ext cx="936720" cy="406440"/>
          </a:xfrm>
          <a:custGeom>
            <a:avLst/>
            <a:gdLst>
              <a:gd name="textAreaLeft" fmla="*/ 26280 w 936720"/>
              <a:gd name="textAreaRight" fmla="*/ 910440 w 9367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9756" h="21600">
                <a:moveTo>
                  <a:pt x="0" y="0"/>
                </a:moveTo>
                <a:lnTo>
                  <a:pt x="49756" y="0"/>
                </a:lnTo>
                <a:lnTo>
                  <a:pt x="49756" y="21600"/>
                </a:lnTo>
                <a:lnTo>
                  <a:pt x="0" y="21600"/>
                </a:lnTo>
                <a:close/>
              </a:path>
              <a:path fill="lightenLess" w="49756" h="21600">
                <a:moveTo>
                  <a:pt x="0" y="0"/>
                </a:moveTo>
                <a:lnTo>
                  <a:pt x="49756" y="0"/>
                </a:lnTo>
                <a:lnTo>
                  <a:pt x="48357" y="1400"/>
                </a:lnTo>
                <a:lnTo>
                  <a:pt x="1400" y="1400"/>
                </a:lnTo>
                <a:close/>
              </a:path>
              <a:path fill="darken" w="49756" h="21600">
                <a:moveTo>
                  <a:pt x="49756" y="0"/>
                </a:moveTo>
                <a:lnTo>
                  <a:pt x="49756" y="21600"/>
                </a:lnTo>
                <a:lnTo>
                  <a:pt x="48357" y="20200"/>
                </a:lnTo>
                <a:lnTo>
                  <a:pt x="48357" y="1400"/>
                </a:lnTo>
                <a:close/>
              </a:path>
              <a:path fill="darkenLess" w="49756" h="21600">
                <a:moveTo>
                  <a:pt x="49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57" y="20200"/>
                </a:lnTo>
                <a:close/>
              </a:path>
              <a:path fill="lighten" w="49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57120" y="428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6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АВС с основанием ВС проведена высота А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еличины углов В и С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ая сторона треугольника АС=7 см, а СD=3,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429000" y="2362320"/>
            <a:ext cx="1981080" cy="914400"/>
            <a:chOff x="3429000" y="2362320"/>
            <a:chExt cx="1981080" cy="914400"/>
          </a:xfrm>
        </p:grpSpPr>
        <p:sp>
          <p:nvSpPr>
            <p:cNvPr id="161" name="Oval 5"/>
            <p:cNvSpPr/>
            <p:nvPr/>
          </p:nvSpPr>
          <p:spPr>
            <a:xfrm>
              <a:off x="3429000" y="236232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4114800" y="266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7"/>
          <p:cNvGrpSpPr/>
          <p:nvPr/>
        </p:nvGrpSpPr>
        <p:grpSpPr>
          <a:xfrm>
            <a:off x="838080" y="3276720"/>
            <a:ext cx="1981080" cy="914400"/>
            <a:chOff x="838080" y="3276720"/>
            <a:chExt cx="1981080" cy="914400"/>
          </a:xfrm>
        </p:grpSpPr>
        <p:sp>
          <p:nvSpPr>
            <p:cNvPr id="164" name="Oval 8"/>
            <p:cNvSpPr/>
            <p:nvPr/>
          </p:nvSpPr>
          <p:spPr>
            <a:xfrm>
              <a:off x="838080" y="327672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1523880" y="3581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6400800" y="3048120"/>
            <a:ext cx="1981080" cy="990000"/>
            <a:chOff x="6400800" y="3048120"/>
            <a:chExt cx="1981080" cy="990000"/>
          </a:xfrm>
        </p:grpSpPr>
        <p:sp>
          <p:nvSpPr>
            <p:cNvPr id="167" name="Oval 11"/>
            <p:cNvSpPr/>
            <p:nvPr/>
          </p:nvSpPr>
          <p:spPr>
            <a:xfrm>
              <a:off x="6400800" y="3048120"/>
              <a:ext cx="1981080" cy="9900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7086600" y="3378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3"/>
          <p:cNvGrpSpPr/>
          <p:nvPr/>
        </p:nvGrpSpPr>
        <p:grpSpPr>
          <a:xfrm>
            <a:off x="3581280" y="4648320"/>
            <a:ext cx="1981440" cy="914400"/>
            <a:chOff x="3581280" y="4648320"/>
            <a:chExt cx="1981440" cy="914400"/>
          </a:xfrm>
        </p:grpSpPr>
        <p:sp>
          <p:nvSpPr>
            <p:cNvPr id="170" name="Oval 14"/>
            <p:cNvSpPr/>
            <p:nvPr/>
          </p:nvSpPr>
          <p:spPr>
            <a:xfrm>
              <a:off x="3581280" y="4648320"/>
              <a:ext cx="198144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3962520" y="487692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19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851280" y="342900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3995640" y="5805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116000" y="443700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7020000" y="4149720"/>
            <a:ext cx="936720" cy="406440"/>
          </a:xfrm>
          <a:custGeom>
            <a:avLst/>
            <a:gdLst>
              <a:gd name="textAreaLeft" fmla="*/ 26280 w 936720"/>
              <a:gd name="textAreaRight" fmla="*/ 910440 w 9367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9756" h="21600">
                <a:moveTo>
                  <a:pt x="0" y="0"/>
                </a:moveTo>
                <a:lnTo>
                  <a:pt x="49756" y="0"/>
                </a:lnTo>
                <a:lnTo>
                  <a:pt x="49756" y="21600"/>
                </a:lnTo>
                <a:lnTo>
                  <a:pt x="0" y="21600"/>
                </a:lnTo>
                <a:close/>
              </a:path>
              <a:path fill="lightenLess" w="49756" h="21600">
                <a:moveTo>
                  <a:pt x="0" y="0"/>
                </a:moveTo>
                <a:lnTo>
                  <a:pt x="49756" y="0"/>
                </a:lnTo>
                <a:lnTo>
                  <a:pt x="48357" y="1400"/>
                </a:lnTo>
                <a:lnTo>
                  <a:pt x="1400" y="1400"/>
                </a:lnTo>
                <a:close/>
              </a:path>
              <a:path fill="darken" w="49756" h="21600">
                <a:moveTo>
                  <a:pt x="49756" y="0"/>
                </a:moveTo>
                <a:lnTo>
                  <a:pt x="49756" y="21600"/>
                </a:lnTo>
                <a:lnTo>
                  <a:pt x="48357" y="20200"/>
                </a:lnTo>
                <a:lnTo>
                  <a:pt x="48357" y="1400"/>
                </a:lnTo>
                <a:close/>
              </a:path>
              <a:path fill="darkenLess" w="49756" h="21600">
                <a:moveTo>
                  <a:pt x="49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57" y="20200"/>
                </a:lnTo>
                <a:close/>
              </a:path>
              <a:path fill="lighten" w="49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428760" y="285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7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ом равнобедренном треугольнике гипотенуза  равна 18 см. Определите высоту треугольника, опущенную из вершины прям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ый треугольник 6"/>
          <p:cNvSpPr/>
          <p:nvPr/>
        </p:nvSpPr>
        <p:spPr>
          <a:xfrm rot="8149200">
            <a:off x="4896720" y="2488680"/>
            <a:ext cx="3063960" cy="3025800"/>
          </a:xfrm>
          <a:prstGeom prst="rtTriangle">
            <a:avLst/>
          </a:prstGeom>
          <a:solidFill>
            <a:srgbClr val="65d7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6429240" y="3786120"/>
            <a:ext cx="214560" cy="21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 rot="3049200">
            <a:off x="5281920" y="2543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rot="19100400">
            <a:off x="7271280" y="26244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2"/>
          <p:cNvSpPr/>
          <p:nvPr/>
        </p:nvSpPr>
        <p:spPr>
          <a:xfrm rot="2578800">
            <a:off x="6392520" y="1887120"/>
            <a:ext cx="149040" cy="15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29240" y="1849320"/>
            <a:ext cx="44640" cy="2152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914400" y="1752480"/>
            <a:ext cx="1981080" cy="914400"/>
            <a:chOff x="914400" y="1752480"/>
            <a:chExt cx="1981080" cy="914400"/>
          </a:xfrm>
        </p:grpSpPr>
        <p:sp>
          <p:nvSpPr>
            <p:cNvPr id="185" name="Oval 11"/>
            <p:cNvSpPr/>
            <p:nvPr/>
          </p:nvSpPr>
          <p:spPr>
            <a:xfrm>
              <a:off x="914400" y="175248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160020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838080" y="2743200"/>
            <a:ext cx="1981080" cy="914400"/>
            <a:chOff x="838080" y="2743200"/>
            <a:chExt cx="1981080" cy="914400"/>
          </a:xfrm>
        </p:grpSpPr>
        <p:sp>
          <p:nvSpPr>
            <p:cNvPr id="188" name="Oval 14"/>
            <p:cNvSpPr/>
            <p:nvPr/>
          </p:nvSpPr>
          <p:spPr>
            <a:xfrm>
              <a:off x="838080" y="274320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1523880" y="3048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762120" y="4038480"/>
            <a:ext cx="1981080" cy="914400"/>
            <a:chOff x="762120" y="4038480"/>
            <a:chExt cx="1981080" cy="914400"/>
          </a:xfrm>
        </p:grpSpPr>
        <p:sp>
          <p:nvSpPr>
            <p:cNvPr id="191" name="Oval 17"/>
            <p:cNvSpPr/>
            <p:nvPr/>
          </p:nvSpPr>
          <p:spPr>
            <a:xfrm>
              <a:off x="762120" y="403848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144792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685800" y="5334120"/>
            <a:ext cx="1981080" cy="914400"/>
            <a:chOff x="685800" y="5334120"/>
            <a:chExt cx="1981080" cy="914400"/>
          </a:xfrm>
        </p:grpSpPr>
        <p:sp>
          <p:nvSpPr>
            <p:cNvPr id="194" name="Oval 20"/>
            <p:cNvSpPr/>
            <p:nvPr/>
          </p:nvSpPr>
          <p:spPr>
            <a:xfrm>
              <a:off x="685800" y="533412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1066680" y="556272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25"/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132000" y="4292640"/>
            <a:ext cx="1008360" cy="406440"/>
          </a:xfrm>
          <a:custGeom>
            <a:avLst/>
            <a:gdLst>
              <a:gd name="textAreaLeft" fmla="*/ 26280 w 1008360"/>
              <a:gd name="textAreaRight" fmla="*/ 982080 w 100836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3560" h="21600">
                <a:moveTo>
                  <a:pt x="0" y="0"/>
                </a:moveTo>
                <a:lnTo>
                  <a:pt x="53560" y="0"/>
                </a:lnTo>
                <a:lnTo>
                  <a:pt x="53560" y="21600"/>
                </a:lnTo>
                <a:lnTo>
                  <a:pt x="0" y="21600"/>
                </a:lnTo>
                <a:close/>
              </a:path>
              <a:path fill="lightenLess" w="53560" h="21600">
                <a:moveTo>
                  <a:pt x="0" y="0"/>
                </a:moveTo>
                <a:lnTo>
                  <a:pt x="53560" y="0"/>
                </a:lnTo>
                <a:lnTo>
                  <a:pt x="52160" y="1400"/>
                </a:lnTo>
                <a:lnTo>
                  <a:pt x="1400" y="1400"/>
                </a:lnTo>
                <a:close/>
              </a:path>
              <a:path fill="darken" w="53560" h="21600">
                <a:moveTo>
                  <a:pt x="53560" y="0"/>
                </a:moveTo>
                <a:lnTo>
                  <a:pt x="53560" y="21600"/>
                </a:lnTo>
                <a:lnTo>
                  <a:pt x="52160" y="20200"/>
                </a:lnTo>
                <a:lnTo>
                  <a:pt x="52160" y="1400"/>
                </a:lnTo>
                <a:close/>
              </a:path>
              <a:path fill="darkenLess" w="53560" h="21600">
                <a:moveTo>
                  <a:pt x="53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60" y="20200"/>
                </a:lnTo>
                <a:close/>
              </a:path>
              <a:path fill="lighten" w="53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276720" y="191628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059280" y="299736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3059280" y="558972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914400" y="1852560"/>
          <a:ext cx="380988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52560"/>
                    <a:ext cx="38098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00600" y="2743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ы хорошо поработал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>
            <a:hlinkClick r:id="" action="ppaction://hlinkshowjump?jump=previousslide"/>
          </p:cNvPr>
          <p:cNvSpPr/>
          <p:nvPr/>
        </p:nvSpPr>
        <p:spPr>
          <a:xfrm>
            <a:off x="298440" y="5410080"/>
            <a:ext cx="831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риступай к решению следующей за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609480" y="380880"/>
            <a:ext cx="8077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Times New Roman"/>
              </a:rPr>
              <a:t>МОЛОДЕЦ</a:t>
            </a:r>
            <a:endParaRPr b="1" i="1" lang="en-US" sz="28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AutoShape 6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10800"/>
                </a:moveTo>
                <a:lnTo>
                  <a:pt x="27243" y="3794"/>
                </a:lnTo>
                <a:lnTo>
                  <a:pt x="27243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8:59:09Z</dcterms:created>
  <dc:creator>ЩемероваОВ</dc:creator>
  <dc:description/>
  <dc:language>en-US</dc:language>
  <cp:lastModifiedBy>Щемеровы</cp:lastModifiedBy>
  <dcterms:modified xsi:type="dcterms:W3CDTF">2013-10-05T18:28:58Z</dcterms:modified>
  <cp:revision>6</cp:revision>
  <dc:subject/>
  <dc:title>Слайд 1</dc:title>
</cp:coreProperties>
</file>