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C7E5-4CFB-45E2-A645-2E6BEA3E0C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0CE-D9A9-4A3B-988A-136E2A5DC1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335B-C3A5-44E7-826D-8CD2316638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222-D681-4AA9-9976-E0F136C9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4DC-97B6-4A3E-976C-53F733ED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8A7-EF84-42F2-9021-A0454D4C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03F-35DC-4253-980B-A83CD9B8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27A9-176B-4B3D-9A11-B3E14532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F960-7423-4104-8A90-489EA123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51EC-4811-45A8-8D83-7C9F02A5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EEBB-370D-4BD9-955E-4C664E72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15B7-5122-4C73-BB52-07FF8449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8059-C60A-4972-B8CD-33B53CCB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EC48-C399-45A2-9E7D-0133283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2DD-35B9-43D1-9CB9-17D6F1D6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4CFC-4643-44E7-B5AB-7732F14C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36AA-1062-4666-8B38-ABDF499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369D-DE7E-46BA-BD7F-7AADCFD6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26CD-0842-4315-8DA7-175B590A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F63A-5EE1-4282-A367-626C45AF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324-DBDF-4110-91BE-8FFCAF04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D15-17A1-487C-A8B4-0A0529D7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B14-512A-43F6-AFE5-B9FA0489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247-2579-4F9B-B73B-9000328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944-D5AA-461B-AD90-DC97B657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E12-BFE8-4B04-9624-86969BC0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328-11A2-4ECF-AB53-F2068FAC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CC6F-33C9-4202-9E24-2CF7E631D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F25-48AF-4D97-9068-43342F52F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57200" y="2928960"/>
            <a:ext cx="6400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ариант –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826920" y="4941720"/>
            <a:ext cx="7715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ьте внимательны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2124000" y="1484280"/>
            <a:ext cx="468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ест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99680" y="2214720"/>
            <a:ext cx="46436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шибках учатс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>
            <a:hlinkClick r:id="" action="ppaction://hlinkshowjump?jump=previousslide"/>
          </p:cNvPr>
          <p:cNvSpPr/>
          <p:nvPr/>
        </p:nvSpPr>
        <p:spPr>
          <a:xfrm>
            <a:off x="3357720" y="3786120"/>
            <a:ext cx="452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втори теорию еще раз и вернись к задаче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5"/>
          <p:cNvSpPr txBox="1"/>
          <p:nvPr/>
        </p:nvSpPr>
        <p:spPr>
          <a:xfrm>
            <a:off x="609480" y="152280"/>
            <a:ext cx="7848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Times New Roman"/>
              </a:rPr>
              <a:t>Не унывай</a:t>
            </a:r>
            <a:endParaRPr b="1" i="1" lang="en-US" sz="28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AutoShape 6">
            <a:hlinkClick r:id="" action="ppaction://hlinkshowjump?jump=previousslide"/>
          </p:cNvPr>
          <p:cNvSpPr/>
          <p:nvPr/>
        </p:nvSpPr>
        <p:spPr>
          <a:xfrm>
            <a:off x="7772400" y="60958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10800"/>
                </a:moveTo>
                <a:lnTo>
                  <a:pt x="27243" y="3794"/>
                </a:lnTo>
                <a:lnTo>
                  <a:pt x="27243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00040" y="4287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ли, что сумма острых углов прямоугольного треугольника равна 180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7143840" y="27860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6912720" y="2495520"/>
            <a:ext cx="1807200" cy="3233880"/>
            <a:chOff x="6912720" y="2495520"/>
            <a:chExt cx="1807200" cy="3233880"/>
          </a:xfrm>
        </p:grpSpPr>
        <p:sp>
          <p:nvSpPr>
            <p:cNvPr id="95" name="Прямоугольный треугольник 6"/>
            <p:cNvSpPr/>
            <p:nvPr/>
          </p:nvSpPr>
          <p:spPr>
            <a:xfrm rot="5400000">
              <a:off x="6219360" y="3228840"/>
              <a:ext cx="3214800" cy="1785960"/>
            </a:xfrm>
            <a:prstGeom prst="rtTriangle">
              <a:avLst/>
            </a:prstGeom>
            <a:solidFill>
              <a:srgbClr val="4bacc6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ик 7"/>
            <p:cNvSpPr/>
            <p:nvPr/>
          </p:nvSpPr>
          <p:spPr>
            <a:xfrm rot="5400000">
              <a:off x="6897960" y="2550240"/>
              <a:ext cx="285840" cy="214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Стрелка вправо 8"/>
            <p:cNvSpPr/>
            <p:nvPr/>
          </p:nvSpPr>
          <p:spPr>
            <a:xfrm rot="6445800">
              <a:off x="6846480" y="4278240"/>
              <a:ext cx="938160" cy="30636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Стрелка вправо 9"/>
            <p:cNvSpPr/>
            <p:nvPr/>
          </p:nvSpPr>
          <p:spPr>
            <a:xfrm rot="19198800">
              <a:off x="7467480" y="2895120"/>
              <a:ext cx="928800" cy="331920"/>
            </a:xfrm>
            <a:prstGeom prst="rightArrow">
              <a:avLst>
                <a:gd name="adj1" fmla="val 50000"/>
                <a:gd name="adj2" fmla="val 4998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Месяц 11"/>
            <p:cNvSpPr/>
            <p:nvPr/>
          </p:nvSpPr>
          <p:spPr>
            <a:xfrm rot="6694800">
              <a:off x="6993720" y="4902120"/>
              <a:ext cx="228600" cy="330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Месяц 12"/>
            <p:cNvSpPr/>
            <p:nvPr/>
          </p:nvSpPr>
          <p:spPr>
            <a:xfrm rot="19161600">
              <a:off x="8305920" y="2514240"/>
              <a:ext cx="172800" cy="3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1">
            <a:hlinkClick r:id="rId1" action="ppaction://hlinksldjump"/>
          </p:cNvPr>
          <p:cNvSpPr/>
          <p:nvPr/>
        </p:nvSpPr>
        <p:spPr>
          <a:xfrm>
            <a:off x="5197320" y="3111480"/>
            <a:ext cx="1030320" cy="406440"/>
          </a:xfrm>
          <a:custGeom>
            <a:avLst/>
            <a:gdLst>
              <a:gd name="textAreaLeft" fmla="*/ 26280 w 1030320"/>
              <a:gd name="textAreaRight" fmla="*/ 1004040 w 10303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726" h="21600">
                <a:moveTo>
                  <a:pt x="0" y="0"/>
                </a:moveTo>
                <a:lnTo>
                  <a:pt x="54726" y="0"/>
                </a:lnTo>
                <a:lnTo>
                  <a:pt x="54726" y="21600"/>
                </a:lnTo>
                <a:lnTo>
                  <a:pt x="0" y="21600"/>
                </a:lnTo>
                <a:close/>
              </a:path>
              <a:path fill="lightenLess" w="54726" h="21600">
                <a:moveTo>
                  <a:pt x="0" y="0"/>
                </a:moveTo>
                <a:lnTo>
                  <a:pt x="54726" y="0"/>
                </a:lnTo>
                <a:lnTo>
                  <a:pt x="53326" y="1400"/>
                </a:lnTo>
                <a:lnTo>
                  <a:pt x="1400" y="1400"/>
                </a:lnTo>
                <a:close/>
              </a:path>
              <a:path fill="darken" w="54726" h="21600">
                <a:moveTo>
                  <a:pt x="54726" y="0"/>
                </a:moveTo>
                <a:lnTo>
                  <a:pt x="54726" y="21600"/>
                </a:lnTo>
                <a:lnTo>
                  <a:pt x="53326" y="20200"/>
                </a:lnTo>
                <a:lnTo>
                  <a:pt x="53326" y="1400"/>
                </a:lnTo>
                <a:close/>
              </a:path>
              <a:path fill="darkenLess" w="54726" h="21600">
                <a:moveTo>
                  <a:pt x="54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26" y="20200"/>
                </a:lnTo>
                <a:close/>
              </a:path>
              <a:path fill="lighten" w="54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>
            <a:hlinkClick r:id="rId2" action="ppaction://hlinksldjump"/>
          </p:cNvPr>
          <p:cNvSpPr/>
          <p:nvPr/>
        </p:nvSpPr>
        <p:spPr>
          <a:xfrm>
            <a:off x="5257800" y="59436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>
            <a:hlinkClick r:id="rId3" action="ppaction://hlinksldjump"/>
          </p:cNvPr>
          <p:cNvSpPr/>
          <p:nvPr/>
        </p:nvSpPr>
        <p:spPr>
          <a:xfrm>
            <a:off x="5105520" y="441972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>
            <a:hlinkClick r:id="rId4" action="ppaction://hlinksldjump"/>
          </p:cNvPr>
          <p:cNvSpPr/>
          <p:nvPr/>
        </p:nvSpPr>
        <p:spPr>
          <a:xfrm>
            <a:off x="5273640" y="196848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6"/>
          <p:cNvGrpSpPr/>
          <p:nvPr/>
        </p:nvGrpSpPr>
        <p:grpSpPr>
          <a:xfrm>
            <a:off x="228600" y="1676520"/>
            <a:ext cx="4419360" cy="914400"/>
            <a:chOff x="228600" y="1676520"/>
            <a:chExt cx="4419360" cy="914400"/>
          </a:xfrm>
        </p:grpSpPr>
        <p:sp>
          <p:nvSpPr>
            <p:cNvPr id="107" name="Oval 17"/>
            <p:cNvSpPr/>
            <p:nvPr/>
          </p:nvSpPr>
          <p:spPr>
            <a:xfrm>
              <a:off x="228600" y="1676520"/>
              <a:ext cx="44193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8"/>
            <p:cNvSpPr/>
            <p:nvPr/>
          </p:nvSpPr>
          <p:spPr>
            <a:xfrm>
              <a:off x="698760" y="182916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а, это 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9"/>
          <p:cNvGrpSpPr/>
          <p:nvPr/>
        </p:nvGrpSpPr>
        <p:grpSpPr>
          <a:xfrm>
            <a:off x="380880" y="2895480"/>
            <a:ext cx="4419360" cy="914400"/>
            <a:chOff x="380880" y="2895480"/>
            <a:chExt cx="4419360" cy="914400"/>
          </a:xfrm>
        </p:grpSpPr>
        <p:sp>
          <p:nvSpPr>
            <p:cNvPr id="110" name="Oval 20"/>
            <p:cNvSpPr/>
            <p:nvPr/>
          </p:nvSpPr>
          <p:spPr>
            <a:xfrm>
              <a:off x="380880" y="2895480"/>
              <a:ext cx="44193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1"/>
            <p:cNvSpPr/>
            <p:nvPr/>
          </p:nvSpPr>
          <p:spPr>
            <a:xfrm>
              <a:off x="851040" y="304812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Нет, их сумма равна другому числ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2"/>
          <p:cNvGrpSpPr/>
          <p:nvPr/>
        </p:nvGrpSpPr>
        <p:grpSpPr>
          <a:xfrm>
            <a:off x="380880" y="4114800"/>
            <a:ext cx="4419360" cy="914400"/>
            <a:chOff x="380880" y="4114800"/>
            <a:chExt cx="4419360" cy="914400"/>
          </a:xfrm>
        </p:grpSpPr>
        <p:sp>
          <p:nvSpPr>
            <p:cNvPr id="113" name="Oval 23"/>
            <p:cNvSpPr/>
            <p:nvPr/>
          </p:nvSpPr>
          <p:spPr>
            <a:xfrm>
              <a:off x="380880" y="4114800"/>
              <a:ext cx="44193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4"/>
            <p:cNvSpPr/>
            <p:nvPr/>
          </p:nvSpPr>
          <p:spPr>
            <a:xfrm>
              <a:off x="851040" y="426744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Их сумма составляет 360 граду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380880" y="5638680"/>
            <a:ext cx="4419360" cy="914400"/>
            <a:chOff x="380880" y="5638680"/>
            <a:chExt cx="4419360" cy="914400"/>
          </a:xfrm>
        </p:grpSpPr>
        <p:sp>
          <p:nvSpPr>
            <p:cNvPr id="116" name="Oval 26"/>
            <p:cNvSpPr/>
            <p:nvPr/>
          </p:nvSpPr>
          <p:spPr>
            <a:xfrm>
              <a:off x="380880" y="5638680"/>
              <a:ext cx="44193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7"/>
            <p:cNvSpPr/>
            <p:nvPr/>
          </p:nvSpPr>
          <p:spPr>
            <a:xfrm>
              <a:off x="851040" y="579132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Затрудняюсь ответ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8584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2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стороны, образующие  прямой угол  прямоугольного треуголь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6248520" y="1302120"/>
            <a:ext cx="3285000" cy="4374360"/>
            <a:chOff x="6248520" y="1302120"/>
            <a:chExt cx="3285000" cy="4374360"/>
          </a:xfrm>
        </p:grpSpPr>
        <p:sp>
          <p:nvSpPr>
            <p:cNvPr id="120" name="Прямоугольный треугольник 5"/>
            <p:cNvSpPr/>
            <p:nvPr/>
          </p:nvSpPr>
          <p:spPr>
            <a:xfrm rot="4662000">
              <a:off x="5925240" y="2236320"/>
              <a:ext cx="3930840" cy="2505240"/>
            </a:xfrm>
            <a:prstGeom prst="rtTriangle">
              <a:avLst/>
            </a:prstGeom>
            <a:solidFill>
              <a:srgbClr val="92d05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6"/>
            <p:cNvSpPr/>
            <p:nvPr/>
          </p:nvSpPr>
          <p:spPr>
            <a:xfrm rot="4788000">
              <a:off x="6294960" y="1832760"/>
              <a:ext cx="372960" cy="3268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6">
            <a:hlinkClick r:id="rId1" action="ppaction://hlinksldjump"/>
          </p:cNvPr>
          <p:cNvSpPr/>
          <p:nvPr/>
        </p:nvSpPr>
        <p:spPr>
          <a:xfrm>
            <a:off x="4206960" y="1968480"/>
            <a:ext cx="1012680" cy="406440"/>
          </a:xfrm>
          <a:custGeom>
            <a:avLst/>
            <a:gdLst>
              <a:gd name="textAreaLeft" fmla="*/ 26280 w 1012680"/>
              <a:gd name="textAreaRight" fmla="*/ 986400 w 10126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3790" h="21600">
                <a:moveTo>
                  <a:pt x="0" y="0"/>
                </a:moveTo>
                <a:lnTo>
                  <a:pt x="53790" y="0"/>
                </a:lnTo>
                <a:lnTo>
                  <a:pt x="53790" y="21600"/>
                </a:lnTo>
                <a:lnTo>
                  <a:pt x="0" y="21600"/>
                </a:lnTo>
                <a:close/>
              </a:path>
              <a:path fill="lightenLess" w="53790" h="21600">
                <a:moveTo>
                  <a:pt x="0" y="0"/>
                </a:moveTo>
                <a:lnTo>
                  <a:pt x="53790" y="0"/>
                </a:lnTo>
                <a:lnTo>
                  <a:pt x="52390" y="1400"/>
                </a:lnTo>
                <a:lnTo>
                  <a:pt x="1400" y="1400"/>
                </a:lnTo>
                <a:close/>
              </a:path>
              <a:path fill="darken" w="53790" h="21600">
                <a:moveTo>
                  <a:pt x="53790" y="0"/>
                </a:moveTo>
                <a:lnTo>
                  <a:pt x="53790" y="21600"/>
                </a:lnTo>
                <a:lnTo>
                  <a:pt x="52390" y="20200"/>
                </a:lnTo>
                <a:lnTo>
                  <a:pt x="52390" y="1400"/>
                </a:lnTo>
                <a:close/>
              </a:path>
              <a:path fill="darkenLess" w="53790" h="21600">
                <a:moveTo>
                  <a:pt x="53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90" y="20200"/>
                </a:lnTo>
                <a:close/>
              </a:path>
              <a:path fill="lighten" w="53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rId2" action="ppaction://hlinksldjump"/>
          </p:cNvPr>
          <p:cNvSpPr/>
          <p:nvPr/>
        </p:nvSpPr>
        <p:spPr>
          <a:xfrm>
            <a:off x="4800600" y="5638680"/>
            <a:ext cx="990720" cy="38124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99" h="21600">
                <a:moveTo>
                  <a:pt x="0" y="0"/>
                </a:moveTo>
                <a:lnTo>
                  <a:pt x="56099" y="0"/>
                </a:lnTo>
                <a:lnTo>
                  <a:pt x="56099" y="21600"/>
                </a:lnTo>
                <a:lnTo>
                  <a:pt x="0" y="21600"/>
                </a:lnTo>
                <a:close/>
              </a:path>
              <a:path fill="lightenLess" w="56099" h="21600">
                <a:moveTo>
                  <a:pt x="0" y="0"/>
                </a:moveTo>
                <a:lnTo>
                  <a:pt x="56099" y="0"/>
                </a:lnTo>
                <a:lnTo>
                  <a:pt x="54699" y="1400"/>
                </a:lnTo>
                <a:lnTo>
                  <a:pt x="1400" y="1400"/>
                </a:lnTo>
                <a:close/>
              </a:path>
              <a:path fill="darken" w="56099" h="21600">
                <a:moveTo>
                  <a:pt x="56099" y="0"/>
                </a:moveTo>
                <a:lnTo>
                  <a:pt x="56099" y="21600"/>
                </a:lnTo>
                <a:lnTo>
                  <a:pt x="54699" y="20200"/>
                </a:lnTo>
                <a:lnTo>
                  <a:pt x="54699" y="1400"/>
                </a:lnTo>
                <a:close/>
              </a:path>
              <a:path fill="darkenLess" w="56099" h="21600">
                <a:moveTo>
                  <a:pt x="56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9" y="20200"/>
                </a:lnTo>
                <a:close/>
              </a:path>
              <a:path fill="lighten" w="56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rId3" action="ppaction://hlinksldjump"/>
          </p:cNvPr>
          <p:cNvSpPr/>
          <p:nvPr/>
        </p:nvSpPr>
        <p:spPr>
          <a:xfrm>
            <a:off x="4214880" y="4143240"/>
            <a:ext cx="990360" cy="38124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78" h="21600">
                <a:moveTo>
                  <a:pt x="0" y="0"/>
                </a:moveTo>
                <a:lnTo>
                  <a:pt x="56078" y="0"/>
                </a:lnTo>
                <a:lnTo>
                  <a:pt x="56078" y="21600"/>
                </a:lnTo>
                <a:lnTo>
                  <a:pt x="0" y="21600"/>
                </a:lnTo>
                <a:close/>
              </a:path>
              <a:path fill="lightenLess" w="56078" h="21600">
                <a:moveTo>
                  <a:pt x="0" y="0"/>
                </a:moveTo>
                <a:lnTo>
                  <a:pt x="56078" y="0"/>
                </a:lnTo>
                <a:lnTo>
                  <a:pt x="54679" y="1400"/>
                </a:lnTo>
                <a:lnTo>
                  <a:pt x="1400" y="1400"/>
                </a:lnTo>
                <a:close/>
              </a:path>
              <a:path fill="darken" w="56078" h="21600">
                <a:moveTo>
                  <a:pt x="56078" y="0"/>
                </a:moveTo>
                <a:lnTo>
                  <a:pt x="56078" y="21600"/>
                </a:lnTo>
                <a:lnTo>
                  <a:pt x="54679" y="20200"/>
                </a:lnTo>
                <a:lnTo>
                  <a:pt x="54679" y="1400"/>
                </a:lnTo>
                <a:close/>
              </a:path>
              <a:path fill="darkenLess" w="56078" h="21600">
                <a:moveTo>
                  <a:pt x="56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79" y="20200"/>
                </a:lnTo>
                <a:close/>
              </a:path>
              <a:path fill="lighten" w="56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>
            <a:hlinkClick r:id="rId4" action="ppaction://hlinksldjump"/>
          </p:cNvPr>
          <p:cNvSpPr/>
          <p:nvPr/>
        </p:nvSpPr>
        <p:spPr>
          <a:xfrm>
            <a:off x="4130640" y="3111480"/>
            <a:ext cx="946080" cy="406440"/>
          </a:xfrm>
          <a:custGeom>
            <a:avLst/>
            <a:gdLst>
              <a:gd name="textAreaLeft" fmla="*/ 26280 w 946080"/>
              <a:gd name="textAreaRight" fmla="*/ 919800 w 9460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0253" h="21600">
                <a:moveTo>
                  <a:pt x="0" y="0"/>
                </a:moveTo>
                <a:lnTo>
                  <a:pt x="50253" y="0"/>
                </a:lnTo>
                <a:lnTo>
                  <a:pt x="50253" y="21600"/>
                </a:lnTo>
                <a:lnTo>
                  <a:pt x="0" y="21600"/>
                </a:lnTo>
                <a:close/>
              </a:path>
              <a:path fill="lightenLess" w="50253" h="21600">
                <a:moveTo>
                  <a:pt x="0" y="0"/>
                </a:moveTo>
                <a:lnTo>
                  <a:pt x="50253" y="0"/>
                </a:lnTo>
                <a:lnTo>
                  <a:pt x="48854" y="1400"/>
                </a:lnTo>
                <a:lnTo>
                  <a:pt x="1400" y="1400"/>
                </a:lnTo>
                <a:close/>
              </a:path>
              <a:path fill="darken" w="50253" h="21600">
                <a:moveTo>
                  <a:pt x="50253" y="0"/>
                </a:moveTo>
                <a:lnTo>
                  <a:pt x="50253" y="21600"/>
                </a:lnTo>
                <a:lnTo>
                  <a:pt x="48854" y="20200"/>
                </a:lnTo>
                <a:lnTo>
                  <a:pt x="48854" y="1400"/>
                </a:lnTo>
                <a:close/>
              </a:path>
              <a:path fill="darkenLess" w="50253" h="21600">
                <a:moveTo>
                  <a:pt x="50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54" y="20200"/>
                </a:lnTo>
                <a:close/>
              </a:path>
              <a:path fill="lighten" w="50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304920" y="1676520"/>
            <a:ext cx="3733200" cy="914400"/>
            <a:chOff x="304920" y="1676520"/>
            <a:chExt cx="3733200" cy="914400"/>
          </a:xfrm>
        </p:grpSpPr>
        <p:sp>
          <p:nvSpPr>
            <p:cNvPr id="128" name="Oval 12"/>
            <p:cNvSpPr/>
            <p:nvPr/>
          </p:nvSpPr>
          <p:spPr>
            <a:xfrm>
              <a:off x="304920" y="1676520"/>
              <a:ext cx="373320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702000" y="1829160"/>
              <a:ext cx="33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Кате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304920" y="3886200"/>
            <a:ext cx="3581280" cy="914400"/>
            <a:chOff x="304920" y="3886200"/>
            <a:chExt cx="3581280" cy="914400"/>
          </a:xfrm>
        </p:grpSpPr>
        <p:sp>
          <p:nvSpPr>
            <p:cNvPr id="131" name="Oval 15"/>
            <p:cNvSpPr/>
            <p:nvPr/>
          </p:nvSpPr>
          <p:spPr>
            <a:xfrm>
              <a:off x="304920" y="3886200"/>
              <a:ext cx="35812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685800" y="4038840"/>
              <a:ext cx="3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Боковые сторо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7"/>
          <p:cNvGrpSpPr/>
          <p:nvPr/>
        </p:nvGrpSpPr>
        <p:grpSpPr>
          <a:xfrm>
            <a:off x="152280" y="2895480"/>
            <a:ext cx="3885840" cy="914400"/>
            <a:chOff x="152280" y="2895480"/>
            <a:chExt cx="3885840" cy="914400"/>
          </a:xfrm>
        </p:grpSpPr>
        <p:sp>
          <p:nvSpPr>
            <p:cNvPr id="134" name="Oval 18"/>
            <p:cNvSpPr/>
            <p:nvPr/>
          </p:nvSpPr>
          <p:spPr>
            <a:xfrm>
              <a:off x="152280" y="2895480"/>
              <a:ext cx="388584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565920" y="3048120"/>
              <a:ext cx="34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Осн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228600" y="5334120"/>
            <a:ext cx="3962160" cy="914400"/>
            <a:chOff x="228600" y="5334120"/>
            <a:chExt cx="3962160" cy="914400"/>
          </a:xfrm>
        </p:grpSpPr>
        <p:sp>
          <p:nvSpPr>
            <p:cNvPr id="137" name="Oval 21"/>
            <p:cNvSpPr/>
            <p:nvPr/>
          </p:nvSpPr>
          <p:spPr>
            <a:xfrm>
              <a:off x="228600" y="5334120"/>
              <a:ext cx="39621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2"/>
            <p:cNvSpPr/>
            <p:nvPr/>
          </p:nvSpPr>
          <p:spPr>
            <a:xfrm>
              <a:off x="650160" y="5486760"/>
              <a:ext cx="35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Нет особого наз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857160" y="35712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3: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АВС с прямым углом С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 = 30°, АВ = 36 с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лину катета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 вер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ый треугольник 8"/>
          <p:cNvSpPr/>
          <p:nvPr/>
        </p:nvSpPr>
        <p:spPr>
          <a:xfrm flipH="1">
            <a:off x="4786200" y="2500200"/>
            <a:ext cx="3786480" cy="1785960"/>
          </a:xfrm>
          <a:prstGeom prst="rtTriangle">
            <a:avLst/>
          </a:prstGeom>
          <a:solidFill>
            <a:srgbClr val="00b0f0"/>
          </a:solidFill>
          <a:ln w="414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8358120" y="4071960"/>
            <a:ext cx="21456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8429760" y="2143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8429760" y="4286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4431960" y="421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3200400" y="5486400"/>
            <a:ext cx="1981080" cy="914400"/>
            <a:chOff x="3200400" y="5486400"/>
            <a:chExt cx="1981080" cy="914400"/>
          </a:xfrm>
        </p:grpSpPr>
        <p:sp>
          <p:nvSpPr>
            <p:cNvPr id="146" name="Oval 10"/>
            <p:cNvSpPr/>
            <p:nvPr/>
          </p:nvSpPr>
          <p:spPr>
            <a:xfrm>
              <a:off x="3200400" y="548640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581280" y="571500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льзя определ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15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6"/>
          <p:cNvGrpSpPr/>
          <p:nvPr/>
        </p:nvGrpSpPr>
        <p:grpSpPr>
          <a:xfrm>
            <a:off x="152280" y="1828800"/>
            <a:ext cx="1676520" cy="762120"/>
            <a:chOff x="152280" y="1828800"/>
            <a:chExt cx="1676520" cy="762120"/>
          </a:xfrm>
        </p:grpSpPr>
        <p:sp>
          <p:nvSpPr>
            <p:cNvPr id="150" name="Oval 17"/>
            <p:cNvSpPr/>
            <p:nvPr/>
          </p:nvSpPr>
          <p:spPr>
            <a:xfrm>
              <a:off x="152280" y="1828800"/>
              <a:ext cx="1676520" cy="762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329760" y="19558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36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"/>
          <p:cNvGrpSpPr/>
          <p:nvPr/>
        </p:nvGrpSpPr>
        <p:grpSpPr>
          <a:xfrm>
            <a:off x="762120" y="3200400"/>
            <a:ext cx="1447560" cy="762120"/>
            <a:chOff x="762120" y="3200400"/>
            <a:chExt cx="1447560" cy="762120"/>
          </a:xfrm>
        </p:grpSpPr>
        <p:sp>
          <p:nvSpPr>
            <p:cNvPr id="153" name="Oval 20"/>
            <p:cNvSpPr/>
            <p:nvPr/>
          </p:nvSpPr>
          <p:spPr>
            <a:xfrm>
              <a:off x="762120" y="3200400"/>
              <a:ext cx="1447560" cy="762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1"/>
            <p:cNvSpPr/>
            <p:nvPr/>
          </p:nvSpPr>
          <p:spPr>
            <a:xfrm>
              <a:off x="916200" y="3327480"/>
              <a:ext cx="129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18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2"/>
          <p:cNvGrpSpPr/>
          <p:nvPr/>
        </p:nvGrpSpPr>
        <p:grpSpPr>
          <a:xfrm>
            <a:off x="990720" y="4343400"/>
            <a:ext cx="1600200" cy="762120"/>
            <a:chOff x="990720" y="4343400"/>
            <a:chExt cx="1600200" cy="762120"/>
          </a:xfrm>
        </p:grpSpPr>
        <p:sp>
          <p:nvSpPr>
            <p:cNvPr id="156" name="Oval 23"/>
            <p:cNvSpPr/>
            <p:nvPr/>
          </p:nvSpPr>
          <p:spPr>
            <a:xfrm>
              <a:off x="990720" y="4343400"/>
              <a:ext cx="1600200" cy="762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4"/>
            <p:cNvSpPr/>
            <p:nvPr/>
          </p:nvSpPr>
          <p:spPr>
            <a:xfrm>
              <a:off x="1162080" y="4470480"/>
              <a:ext cx="14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72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7">
            <a:hlinkClick r:id="rId1" action="ppaction://hlinksldjump"/>
          </p:cNvPr>
          <p:cNvSpPr/>
          <p:nvPr/>
        </p:nvSpPr>
        <p:spPr>
          <a:xfrm>
            <a:off x="2571840" y="335772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>
            <a:hlinkClick r:id="rId2" action="ppaction://hlinksldjump"/>
          </p:cNvPr>
          <p:cNvSpPr/>
          <p:nvPr/>
        </p:nvSpPr>
        <p:spPr>
          <a:xfrm>
            <a:off x="3000240" y="45007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>
            <a:hlinkClick r:id="rId3" action="ppaction://hlinksldjump"/>
          </p:cNvPr>
          <p:cNvSpPr/>
          <p:nvPr/>
        </p:nvSpPr>
        <p:spPr>
          <a:xfrm>
            <a:off x="5429160" y="5786280"/>
            <a:ext cx="990720" cy="38124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99" h="21600">
                <a:moveTo>
                  <a:pt x="0" y="0"/>
                </a:moveTo>
                <a:lnTo>
                  <a:pt x="56099" y="0"/>
                </a:lnTo>
                <a:lnTo>
                  <a:pt x="56099" y="21600"/>
                </a:lnTo>
                <a:lnTo>
                  <a:pt x="0" y="21600"/>
                </a:lnTo>
                <a:close/>
              </a:path>
              <a:path fill="lightenLess" w="56099" h="21600">
                <a:moveTo>
                  <a:pt x="0" y="0"/>
                </a:moveTo>
                <a:lnTo>
                  <a:pt x="56099" y="0"/>
                </a:lnTo>
                <a:lnTo>
                  <a:pt x="54699" y="1400"/>
                </a:lnTo>
                <a:lnTo>
                  <a:pt x="1400" y="1400"/>
                </a:lnTo>
                <a:close/>
              </a:path>
              <a:path fill="darken" w="56099" h="21600">
                <a:moveTo>
                  <a:pt x="56099" y="0"/>
                </a:moveTo>
                <a:lnTo>
                  <a:pt x="56099" y="21600"/>
                </a:lnTo>
                <a:lnTo>
                  <a:pt x="54699" y="20200"/>
                </a:lnTo>
                <a:lnTo>
                  <a:pt x="54699" y="1400"/>
                </a:lnTo>
                <a:close/>
              </a:path>
              <a:path fill="darkenLess" w="56099" h="21600">
                <a:moveTo>
                  <a:pt x="56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9" y="20200"/>
                </a:lnTo>
                <a:close/>
              </a:path>
              <a:path fill="lighten" w="56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>
            <a:hlinkClick r:id="rId4" action="ppaction://hlinksldjump"/>
          </p:cNvPr>
          <p:cNvSpPr/>
          <p:nvPr/>
        </p:nvSpPr>
        <p:spPr>
          <a:xfrm>
            <a:off x="2286000" y="2000160"/>
            <a:ext cx="990720" cy="38124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99" h="21600">
                <a:moveTo>
                  <a:pt x="0" y="0"/>
                </a:moveTo>
                <a:lnTo>
                  <a:pt x="56099" y="0"/>
                </a:lnTo>
                <a:lnTo>
                  <a:pt x="56099" y="21600"/>
                </a:lnTo>
                <a:lnTo>
                  <a:pt x="0" y="21600"/>
                </a:lnTo>
                <a:close/>
              </a:path>
              <a:path fill="lightenLess" w="56099" h="21600">
                <a:moveTo>
                  <a:pt x="0" y="0"/>
                </a:moveTo>
                <a:lnTo>
                  <a:pt x="56099" y="0"/>
                </a:lnTo>
                <a:lnTo>
                  <a:pt x="54699" y="1400"/>
                </a:lnTo>
                <a:lnTo>
                  <a:pt x="1400" y="1400"/>
                </a:lnTo>
                <a:close/>
              </a:path>
              <a:path fill="darken" w="56099" h="21600">
                <a:moveTo>
                  <a:pt x="56099" y="0"/>
                </a:moveTo>
                <a:lnTo>
                  <a:pt x="56099" y="21600"/>
                </a:lnTo>
                <a:lnTo>
                  <a:pt x="54699" y="20200"/>
                </a:lnTo>
                <a:lnTo>
                  <a:pt x="54699" y="1400"/>
                </a:lnTo>
                <a:close/>
              </a:path>
              <a:path fill="darkenLess" w="56099" h="21600">
                <a:moveTo>
                  <a:pt x="56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9" y="20200"/>
                </a:lnTo>
                <a:close/>
              </a:path>
              <a:path fill="lighten" w="56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500040" y="3571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4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свойством обладает кате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ого треугольника, противолежащий углу в 30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>
            <a:hlinkClick r:id="rId1" action="ppaction://hlinksldjump"/>
          </p:cNvPr>
          <p:cNvSpPr/>
          <p:nvPr/>
        </p:nvSpPr>
        <p:spPr>
          <a:xfrm>
            <a:off x="5219640" y="3068640"/>
            <a:ext cx="1008000" cy="406440"/>
          </a:xfrm>
          <a:custGeom>
            <a:avLst/>
            <a:gdLst>
              <a:gd name="textAreaLeft" fmla="*/ 26280 w 1008000"/>
              <a:gd name="textAreaRight" fmla="*/ 981720 w 10080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3541" h="21600">
                <a:moveTo>
                  <a:pt x="0" y="0"/>
                </a:moveTo>
                <a:lnTo>
                  <a:pt x="53541" y="0"/>
                </a:lnTo>
                <a:lnTo>
                  <a:pt x="53541" y="21600"/>
                </a:lnTo>
                <a:lnTo>
                  <a:pt x="0" y="21600"/>
                </a:lnTo>
                <a:close/>
              </a:path>
              <a:path fill="lightenLess" w="53541" h="21600">
                <a:moveTo>
                  <a:pt x="0" y="0"/>
                </a:moveTo>
                <a:lnTo>
                  <a:pt x="53541" y="0"/>
                </a:lnTo>
                <a:lnTo>
                  <a:pt x="52141" y="1400"/>
                </a:lnTo>
                <a:lnTo>
                  <a:pt x="1400" y="1400"/>
                </a:lnTo>
                <a:close/>
              </a:path>
              <a:path fill="darken" w="53541" h="21600">
                <a:moveTo>
                  <a:pt x="53541" y="0"/>
                </a:moveTo>
                <a:lnTo>
                  <a:pt x="53541" y="21600"/>
                </a:lnTo>
                <a:lnTo>
                  <a:pt x="52141" y="20200"/>
                </a:lnTo>
                <a:lnTo>
                  <a:pt x="52141" y="1400"/>
                </a:lnTo>
                <a:close/>
              </a:path>
              <a:path fill="darkenLess" w="53541" h="21600">
                <a:moveTo>
                  <a:pt x="53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41" y="20200"/>
                </a:lnTo>
                <a:close/>
              </a:path>
              <a:path fill="lighten" w="53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457200" y="5334120"/>
            <a:ext cx="4114080" cy="761760"/>
            <a:chOff x="457200" y="5334120"/>
            <a:chExt cx="4114080" cy="761760"/>
          </a:xfrm>
        </p:grpSpPr>
        <p:sp>
          <p:nvSpPr>
            <p:cNvPr id="165" name="Oval 5"/>
            <p:cNvSpPr/>
            <p:nvPr/>
          </p:nvSpPr>
          <p:spPr>
            <a:xfrm>
              <a:off x="457200" y="5334120"/>
              <a:ext cx="411408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1248480" y="5524560"/>
              <a:ext cx="26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Нельзя определ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10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380880" y="1600200"/>
            <a:ext cx="4419360" cy="914400"/>
            <a:chOff x="380880" y="1600200"/>
            <a:chExt cx="4419360" cy="914400"/>
          </a:xfrm>
        </p:grpSpPr>
        <p:sp>
          <p:nvSpPr>
            <p:cNvPr id="169" name="Oval 12"/>
            <p:cNvSpPr/>
            <p:nvPr/>
          </p:nvSpPr>
          <p:spPr>
            <a:xfrm>
              <a:off x="380880" y="1600200"/>
              <a:ext cx="44193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851040" y="175284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Он равен другому кате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4"/>
          <p:cNvGrpSpPr/>
          <p:nvPr/>
        </p:nvGrpSpPr>
        <p:grpSpPr>
          <a:xfrm>
            <a:off x="380880" y="2819520"/>
            <a:ext cx="4419360" cy="914400"/>
            <a:chOff x="380880" y="2819520"/>
            <a:chExt cx="4419360" cy="914400"/>
          </a:xfrm>
        </p:grpSpPr>
        <p:sp>
          <p:nvSpPr>
            <p:cNvPr id="172" name="Oval 15"/>
            <p:cNvSpPr/>
            <p:nvPr/>
          </p:nvSpPr>
          <p:spPr>
            <a:xfrm>
              <a:off x="380880" y="2819520"/>
              <a:ext cx="44193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851040" y="297216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Он в два раза меньше гипотен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"/>
          <p:cNvGrpSpPr/>
          <p:nvPr/>
        </p:nvGrpSpPr>
        <p:grpSpPr>
          <a:xfrm>
            <a:off x="457200" y="3886200"/>
            <a:ext cx="4419360" cy="914400"/>
            <a:chOff x="457200" y="3886200"/>
            <a:chExt cx="4419360" cy="914400"/>
          </a:xfrm>
        </p:grpSpPr>
        <p:sp>
          <p:nvSpPr>
            <p:cNvPr id="175" name="Oval 18"/>
            <p:cNvSpPr/>
            <p:nvPr/>
          </p:nvSpPr>
          <p:spPr>
            <a:xfrm>
              <a:off x="457200" y="3886200"/>
              <a:ext cx="441936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927360" y="4038840"/>
              <a:ext cx="39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Он равен гипотенуз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AutoShape 14">
            <a:hlinkClick r:id="rId2" action="ppaction://hlinksldjump"/>
          </p:cNvPr>
          <p:cNvSpPr/>
          <p:nvPr/>
        </p:nvSpPr>
        <p:spPr>
          <a:xfrm>
            <a:off x="5273640" y="196848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4">
            <a:hlinkClick r:id="rId3" action="ppaction://hlinksldjump"/>
          </p:cNvPr>
          <p:cNvSpPr/>
          <p:nvPr/>
        </p:nvSpPr>
        <p:spPr>
          <a:xfrm>
            <a:off x="5292720" y="422100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>
            <a:hlinkClick r:id="rId4" action="ppaction://hlinksldjump"/>
          </p:cNvPr>
          <p:cNvSpPr/>
          <p:nvPr/>
        </p:nvSpPr>
        <p:spPr>
          <a:xfrm>
            <a:off x="5076720" y="537372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Равнобедренный треугольник 6"/>
          <p:cNvSpPr/>
          <p:nvPr/>
        </p:nvSpPr>
        <p:spPr>
          <a:xfrm>
            <a:off x="4929120" y="3286080"/>
            <a:ext cx="2643120" cy="3143160"/>
          </a:xfrm>
          <a:prstGeom prst="triangle">
            <a:avLst>
              <a:gd name="adj" fmla="val 50000"/>
            </a:avLst>
          </a:prstGeom>
          <a:solidFill>
            <a:srgbClr val="65d7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7"/>
          <p:cNvSpPr/>
          <p:nvPr/>
        </p:nvSpPr>
        <p:spPr>
          <a:xfrm>
            <a:off x="6249960" y="3286080"/>
            <a:ext cx="1440" cy="3144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6286680" y="6215040"/>
            <a:ext cx="214200" cy="214200"/>
          </a:xfrm>
          <a:prstGeom prst="rect">
            <a:avLst/>
          </a:prstGeom>
          <a:solidFill>
            <a:srgbClr val="65d7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 rot="1413000">
            <a:off x="5176440" y="5748480"/>
            <a:ext cx="214200" cy="214200"/>
          </a:xfrm>
          <a:prstGeom prst="rect">
            <a:avLst/>
          </a:prstGeom>
          <a:solidFill>
            <a:srgbClr val="65d7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10"/>
          <p:cNvSpPr/>
          <p:nvPr/>
        </p:nvSpPr>
        <p:spPr>
          <a:xfrm flipH="1" flipV="1">
            <a:off x="5143320" y="5928840"/>
            <a:ext cx="1107720" cy="500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6"/>
          <p:cNvSpPr/>
          <p:nvPr/>
        </p:nvSpPr>
        <p:spPr>
          <a:xfrm>
            <a:off x="635796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8"/>
          <p:cNvSpPr/>
          <p:nvPr/>
        </p:nvSpPr>
        <p:spPr>
          <a:xfrm>
            <a:off x="471492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4572000" y="6215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6286680" y="47149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1"/>
          <p:cNvSpPr/>
          <p:nvPr/>
        </p:nvSpPr>
        <p:spPr>
          <a:xfrm>
            <a:off x="6500880" y="3714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есяц 16"/>
          <p:cNvSpPr/>
          <p:nvPr/>
        </p:nvSpPr>
        <p:spPr>
          <a:xfrm rot="15046200">
            <a:off x="6324120" y="3855960"/>
            <a:ext cx="131760" cy="1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53" y="1992"/>
                  <a:pt x="11105" y="5080"/>
                  <a:pt x="11105" y="10800"/>
                </a:cubicBezTo>
                <a:cubicBezTo>
                  <a:pt x="11105" y="16520"/>
                  <a:pt x="16353" y="1960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Равнобедренный треугольник 17"/>
          <p:cNvSpPr/>
          <p:nvPr/>
        </p:nvSpPr>
        <p:spPr>
          <a:xfrm>
            <a:off x="4929120" y="3286080"/>
            <a:ext cx="2643120" cy="3143160"/>
          </a:xfrm>
          <a:prstGeom prst="triangle">
            <a:avLst>
              <a:gd name="adj" fmla="val 50000"/>
            </a:avLst>
          </a:prstGeom>
          <a:solidFill>
            <a:srgbClr val="65d7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18"/>
          <p:cNvSpPr/>
          <p:nvPr/>
        </p:nvSpPr>
        <p:spPr>
          <a:xfrm>
            <a:off x="6248520" y="3276720"/>
            <a:ext cx="1440" cy="3144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9"/>
          <p:cNvSpPr/>
          <p:nvPr/>
        </p:nvSpPr>
        <p:spPr>
          <a:xfrm>
            <a:off x="6286680" y="6215040"/>
            <a:ext cx="214200" cy="214200"/>
          </a:xfrm>
          <a:prstGeom prst="rect">
            <a:avLst/>
          </a:prstGeom>
          <a:solidFill>
            <a:srgbClr val="65d7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0"/>
          <p:cNvSpPr/>
          <p:nvPr/>
        </p:nvSpPr>
        <p:spPr>
          <a:xfrm rot="1413000">
            <a:off x="5176440" y="5748480"/>
            <a:ext cx="214200" cy="214200"/>
          </a:xfrm>
          <a:prstGeom prst="rect">
            <a:avLst/>
          </a:prstGeom>
          <a:solidFill>
            <a:srgbClr val="65d7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21"/>
          <p:cNvSpPr/>
          <p:nvPr/>
        </p:nvSpPr>
        <p:spPr>
          <a:xfrm flipH="1" flipV="1">
            <a:off x="5143320" y="5928840"/>
            <a:ext cx="1107720" cy="500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6"/>
          <p:cNvSpPr/>
          <p:nvPr/>
        </p:nvSpPr>
        <p:spPr>
          <a:xfrm>
            <a:off x="635796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8"/>
          <p:cNvSpPr/>
          <p:nvPr/>
        </p:nvSpPr>
        <p:spPr>
          <a:xfrm>
            <a:off x="471492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9"/>
          <p:cNvSpPr/>
          <p:nvPr/>
        </p:nvSpPr>
        <p:spPr>
          <a:xfrm>
            <a:off x="4572000" y="6215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0"/>
          <p:cNvSpPr/>
          <p:nvPr/>
        </p:nvSpPr>
        <p:spPr>
          <a:xfrm>
            <a:off x="6286680" y="47149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1"/>
          <p:cNvSpPr/>
          <p:nvPr/>
        </p:nvSpPr>
        <p:spPr>
          <a:xfrm>
            <a:off x="6500880" y="3714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есяц 27"/>
          <p:cNvSpPr/>
          <p:nvPr/>
        </p:nvSpPr>
        <p:spPr>
          <a:xfrm rot="15046200">
            <a:off x="6324120" y="3855960"/>
            <a:ext cx="131760" cy="1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53" y="1992"/>
                  <a:pt x="11105" y="5080"/>
                  <a:pt x="11105" y="10800"/>
                </a:cubicBezTo>
                <a:cubicBezTo>
                  <a:pt x="11105" y="16520"/>
                  <a:pt x="16353" y="1960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9"/>
          <p:cNvSpPr/>
          <p:nvPr/>
        </p:nvSpPr>
        <p:spPr>
          <a:xfrm>
            <a:off x="7572240" y="6286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9"/>
          <p:cNvSpPr/>
          <p:nvPr/>
        </p:nvSpPr>
        <p:spPr>
          <a:xfrm>
            <a:off x="6072120" y="6488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7"/>
          <p:cNvGrpSpPr/>
          <p:nvPr/>
        </p:nvGrpSpPr>
        <p:grpSpPr>
          <a:xfrm>
            <a:off x="380880" y="5638680"/>
            <a:ext cx="1981440" cy="914400"/>
            <a:chOff x="380880" y="5638680"/>
            <a:chExt cx="1981440" cy="914400"/>
          </a:xfrm>
        </p:grpSpPr>
        <p:sp>
          <p:nvSpPr>
            <p:cNvPr id="205" name="Oval 28"/>
            <p:cNvSpPr/>
            <p:nvPr/>
          </p:nvSpPr>
          <p:spPr>
            <a:xfrm>
              <a:off x="380880" y="5638680"/>
              <a:ext cx="198144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9"/>
            <p:cNvSpPr/>
            <p:nvPr/>
          </p:nvSpPr>
          <p:spPr>
            <a:xfrm>
              <a:off x="762120" y="58672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Нельзя определ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AutoShape 33">
            <a:hlinkClick r:id="" action="ppaction://hlinkshowjump?jump=nextslide"/>
          </p:cNvPr>
          <p:cNvSpPr/>
          <p:nvPr/>
        </p:nvSpPr>
        <p:spPr>
          <a:xfrm>
            <a:off x="800100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4"/>
          <p:cNvGrpSpPr/>
          <p:nvPr/>
        </p:nvGrpSpPr>
        <p:grpSpPr>
          <a:xfrm>
            <a:off x="457200" y="4572000"/>
            <a:ext cx="1676520" cy="762120"/>
            <a:chOff x="457200" y="4572000"/>
            <a:chExt cx="1676520" cy="762120"/>
          </a:xfrm>
        </p:grpSpPr>
        <p:sp>
          <p:nvSpPr>
            <p:cNvPr id="209" name="Oval 35"/>
            <p:cNvSpPr/>
            <p:nvPr/>
          </p:nvSpPr>
          <p:spPr>
            <a:xfrm>
              <a:off x="457200" y="4572000"/>
              <a:ext cx="1676520" cy="762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634680" y="46990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8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457200" y="3352680"/>
            <a:ext cx="1676520" cy="762120"/>
            <a:chOff x="457200" y="3352680"/>
            <a:chExt cx="1676520" cy="762120"/>
          </a:xfrm>
        </p:grpSpPr>
        <p:sp>
          <p:nvSpPr>
            <p:cNvPr id="212" name="Oval 38"/>
            <p:cNvSpPr/>
            <p:nvPr/>
          </p:nvSpPr>
          <p:spPr>
            <a:xfrm>
              <a:off x="457200" y="3352680"/>
              <a:ext cx="1676520" cy="762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634680" y="347976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2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380880" y="1905120"/>
            <a:ext cx="1676520" cy="761760"/>
            <a:chOff x="380880" y="1905120"/>
            <a:chExt cx="1676520" cy="761760"/>
          </a:xfrm>
        </p:grpSpPr>
        <p:sp>
          <p:nvSpPr>
            <p:cNvPr id="215" name="Oval 41"/>
            <p:cNvSpPr/>
            <p:nvPr/>
          </p:nvSpPr>
          <p:spPr>
            <a:xfrm>
              <a:off x="380880" y="1905120"/>
              <a:ext cx="167652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2"/>
            <p:cNvSpPr/>
            <p:nvPr/>
          </p:nvSpPr>
          <p:spPr>
            <a:xfrm>
              <a:off x="558360" y="203220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4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Прямоугольник 1"/>
          <p:cNvSpPr/>
          <p:nvPr/>
        </p:nvSpPr>
        <p:spPr>
          <a:xfrm>
            <a:off x="0" y="21420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внобедренном треугольник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с основанием АD проведена высота 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из точки F на сторону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пущен перпендикуляр F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лину перпендикуляра FВ, 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высота СF = 4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>
            <a:hlinkClick r:id="rId1" action="ppaction://hlinksldjump"/>
          </p:cNvPr>
          <p:cNvSpPr/>
          <p:nvPr/>
        </p:nvSpPr>
        <p:spPr>
          <a:xfrm>
            <a:off x="2700360" y="3429000"/>
            <a:ext cx="934920" cy="406440"/>
          </a:xfrm>
          <a:custGeom>
            <a:avLst/>
            <a:gdLst>
              <a:gd name="textAreaLeft" fmla="*/ 26280 w 934920"/>
              <a:gd name="textAreaRight" fmla="*/ 908640 w 9349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49661" h="21600">
                <a:moveTo>
                  <a:pt x="0" y="0"/>
                </a:moveTo>
                <a:lnTo>
                  <a:pt x="49661" y="0"/>
                </a:lnTo>
                <a:lnTo>
                  <a:pt x="49661" y="21600"/>
                </a:lnTo>
                <a:lnTo>
                  <a:pt x="0" y="21600"/>
                </a:lnTo>
                <a:close/>
              </a:path>
              <a:path fill="lightenLess" w="49661" h="21600">
                <a:moveTo>
                  <a:pt x="0" y="0"/>
                </a:moveTo>
                <a:lnTo>
                  <a:pt x="49661" y="0"/>
                </a:lnTo>
                <a:lnTo>
                  <a:pt x="48261" y="1400"/>
                </a:lnTo>
                <a:lnTo>
                  <a:pt x="1400" y="1400"/>
                </a:lnTo>
                <a:close/>
              </a:path>
              <a:path fill="darken" w="49661" h="21600">
                <a:moveTo>
                  <a:pt x="49661" y="0"/>
                </a:moveTo>
                <a:lnTo>
                  <a:pt x="49661" y="21600"/>
                </a:lnTo>
                <a:lnTo>
                  <a:pt x="48261" y="20200"/>
                </a:lnTo>
                <a:lnTo>
                  <a:pt x="48261" y="1400"/>
                </a:lnTo>
                <a:close/>
              </a:path>
              <a:path fill="darkenLess" w="49661" h="21600">
                <a:moveTo>
                  <a:pt x="49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1" y="20200"/>
                </a:lnTo>
                <a:close/>
              </a:path>
              <a:path fill="lighten" w="49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>
            <a:hlinkClick r:id="rId2" action="ppaction://hlinksldjump"/>
          </p:cNvPr>
          <p:cNvSpPr/>
          <p:nvPr/>
        </p:nvSpPr>
        <p:spPr>
          <a:xfrm>
            <a:off x="2627280" y="479736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>
            <a:hlinkClick r:id="rId3" action="ppaction://hlinksldjump"/>
          </p:cNvPr>
          <p:cNvSpPr/>
          <p:nvPr/>
        </p:nvSpPr>
        <p:spPr>
          <a:xfrm>
            <a:off x="2627280" y="595008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>
            <a:hlinkClick r:id="rId4" action="ppaction://hlinksldjump"/>
          </p:cNvPr>
          <p:cNvSpPr/>
          <p:nvPr/>
        </p:nvSpPr>
        <p:spPr>
          <a:xfrm>
            <a:off x="2484360" y="213372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85840" y="35712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6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внобедренном треугольнике АВС с основанием ВС боковая сторона АВ  равна 12 см, а угол при вершине А – 120°. Определите высоту АН треугольника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7"/>
          <p:cNvGraphicFramePr/>
          <p:nvPr/>
        </p:nvGraphicFramePr>
        <p:xfrm>
          <a:off x="7229520" y="1679400"/>
          <a:ext cx="1219320" cy="2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9520" y="1679400"/>
                    <a:ext cx="12193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Равнобедренный треугольник 13"/>
          <p:cNvSpPr/>
          <p:nvPr/>
        </p:nvSpPr>
        <p:spPr>
          <a:xfrm>
            <a:off x="285840" y="4214880"/>
            <a:ext cx="5357880" cy="1643040"/>
          </a:xfrm>
          <a:prstGeom prst="triangle">
            <a:avLst>
              <a:gd name="adj" fmla="val 4964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381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2786040" y="385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214200" y="59292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3000240" y="59292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7"/>
          <p:cNvSpPr/>
          <p:nvPr/>
        </p:nvSpPr>
        <p:spPr>
          <a:xfrm>
            <a:off x="5500800" y="5929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9"/>
          <p:cNvSpPr/>
          <p:nvPr/>
        </p:nvSpPr>
        <p:spPr>
          <a:xfrm>
            <a:off x="2944800" y="4216320"/>
            <a:ext cx="1440" cy="1643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5334120" y="2666880"/>
            <a:ext cx="1981080" cy="838440"/>
            <a:chOff x="5334120" y="2666880"/>
            <a:chExt cx="1981080" cy="838440"/>
          </a:xfrm>
        </p:grpSpPr>
        <p:sp>
          <p:nvSpPr>
            <p:cNvPr id="232" name="Oval 12"/>
            <p:cNvSpPr/>
            <p:nvPr/>
          </p:nvSpPr>
          <p:spPr>
            <a:xfrm>
              <a:off x="5334120" y="2666880"/>
              <a:ext cx="1981080" cy="8384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3"/>
            <p:cNvSpPr/>
            <p:nvPr/>
          </p:nvSpPr>
          <p:spPr>
            <a:xfrm>
              <a:off x="5715000" y="2876400"/>
              <a:ext cx="129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Нельзя определ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AutoShape 17">
            <a:hlinkClick r:id="" action="ppaction://hlinkshowjump?jump=nextslide"/>
          </p:cNvPr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8"/>
          <p:cNvGrpSpPr/>
          <p:nvPr/>
        </p:nvGrpSpPr>
        <p:grpSpPr>
          <a:xfrm>
            <a:off x="5105520" y="1752480"/>
            <a:ext cx="1904760" cy="762120"/>
            <a:chOff x="5105520" y="1752480"/>
            <a:chExt cx="1904760" cy="762120"/>
          </a:xfrm>
        </p:grpSpPr>
        <p:sp>
          <p:nvSpPr>
            <p:cNvPr id="236" name="Oval 19"/>
            <p:cNvSpPr/>
            <p:nvPr/>
          </p:nvSpPr>
          <p:spPr>
            <a:xfrm>
              <a:off x="5105520" y="1752480"/>
              <a:ext cx="1904760" cy="762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0"/>
            <p:cNvSpPr/>
            <p:nvPr/>
          </p:nvSpPr>
          <p:spPr>
            <a:xfrm>
              <a:off x="5307120" y="1879560"/>
              <a:ext cx="170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24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1"/>
          <p:cNvGrpSpPr/>
          <p:nvPr/>
        </p:nvGrpSpPr>
        <p:grpSpPr>
          <a:xfrm>
            <a:off x="5486400" y="3962520"/>
            <a:ext cx="1981080" cy="761760"/>
            <a:chOff x="5486400" y="3962520"/>
            <a:chExt cx="1981080" cy="761760"/>
          </a:xfrm>
        </p:grpSpPr>
        <p:sp>
          <p:nvSpPr>
            <p:cNvPr id="239" name="Oval 22"/>
            <p:cNvSpPr/>
            <p:nvPr/>
          </p:nvSpPr>
          <p:spPr>
            <a:xfrm>
              <a:off x="5486400" y="3962520"/>
              <a:ext cx="198108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3"/>
            <p:cNvSpPr/>
            <p:nvPr/>
          </p:nvSpPr>
          <p:spPr>
            <a:xfrm>
              <a:off x="5696280" y="4089600"/>
              <a:ext cx="17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12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4"/>
          <p:cNvGrpSpPr/>
          <p:nvPr/>
        </p:nvGrpSpPr>
        <p:grpSpPr>
          <a:xfrm>
            <a:off x="5638680" y="5181480"/>
            <a:ext cx="1905120" cy="762120"/>
            <a:chOff x="5638680" y="5181480"/>
            <a:chExt cx="1905120" cy="762120"/>
          </a:xfrm>
        </p:grpSpPr>
        <p:sp>
          <p:nvSpPr>
            <p:cNvPr id="242" name="Oval 25"/>
            <p:cNvSpPr/>
            <p:nvPr/>
          </p:nvSpPr>
          <p:spPr>
            <a:xfrm>
              <a:off x="5638680" y="5181480"/>
              <a:ext cx="1905120" cy="762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6"/>
            <p:cNvSpPr/>
            <p:nvPr/>
          </p:nvSpPr>
          <p:spPr>
            <a:xfrm>
              <a:off x="5840280" y="5308560"/>
              <a:ext cx="170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6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3"/>
          <p:cNvSpPr/>
          <p:nvPr/>
        </p:nvSpPr>
        <p:spPr>
          <a:xfrm>
            <a:off x="7885080" y="5300640"/>
            <a:ext cx="863640" cy="406440"/>
          </a:xfrm>
          <a:custGeom>
            <a:avLst/>
            <a:gdLst>
              <a:gd name="textAreaLeft" fmla="*/ 26280 w 863640"/>
              <a:gd name="textAreaRight" fmla="*/ 837360 w 86364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45876" h="21600">
                <a:moveTo>
                  <a:pt x="0" y="0"/>
                </a:moveTo>
                <a:lnTo>
                  <a:pt x="45876" y="0"/>
                </a:lnTo>
                <a:lnTo>
                  <a:pt x="45876" y="21600"/>
                </a:lnTo>
                <a:lnTo>
                  <a:pt x="0" y="21600"/>
                </a:lnTo>
                <a:close/>
              </a:path>
              <a:path fill="lightenLess" w="45876" h="21600">
                <a:moveTo>
                  <a:pt x="0" y="0"/>
                </a:moveTo>
                <a:lnTo>
                  <a:pt x="45876" y="0"/>
                </a:lnTo>
                <a:lnTo>
                  <a:pt x="44476" y="1400"/>
                </a:lnTo>
                <a:lnTo>
                  <a:pt x="1400" y="1400"/>
                </a:lnTo>
                <a:close/>
              </a:path>
              <a:path fill="darken" w="45876" h="21600">
                <a:moveTo>
                  <a:pt x="45876" y="0"/>
                </a:moveTo>
                <a:lnTo>
                  <a:pt x="45876" y="21600"/>
                </a:lnTo>
                <a:lnTo>
                  <a:pt x="44476" y="20200"/>
                </a:lnTo>
                <a:lnTo>
                  <a:pt x="44476" y="1400"/>
                </a:lnTo>
                <a:close/>
              </a:path>
              <a:path fill="darkenLess" w="45876" h="21600">
                <a:moveTo>
                  <a:pt x="45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76" y="20200"/>
                </a:lnTo>
                <a:close/>
              </a:path>
              <a:path fill="lighten" w="45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7236000" y="1916280"/>
            <a:ext cx="1028520" cy="40608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080"/>
              <a:gd name="textAreaBottom" fmla="*/ 379800 h 406080"/>
            </a:gdLst>
            <a:ahLst/>
            <a:rect l="textAreaLeft" t="textAreaTop" r="textAreaRight" b="textAreaBottom"/>
            <a:pathLst>
              <a:path w="54679" h="21600">
                <a:moveTo>
                  <a:pt x="0" y="0"/>
                </a:moveTo>
                <a:lnTo>
                  <a:pt x="54679" y="0"/>
                </a:lnTo>
                <a:lnTo>
                  <a:pt x="54679" y="21600"/>
                </a:lnTo>
                <a:lnTo>
                  <a:pt x="0" y="21600"/>
                </a:lnTo>
                <a:close/>
              </a:path>
              <a:path fill="lightenLess" w="54679" h="21600">
                <a:moveTo>
                  <a:pt x="0" y="0"/>
                </a:moveTo>
                <a:lnTo>
                  <a:pt x="54679" y="0"/>
                </a:lnTo>
                <a:lnTo>
                  <a:pt x="53279" y="1400"/>
                </a:lnTo>
                <a:lnTo>
                  <a:pt x="1400" y="1400"/>
                </a:lnTo>
                <a:close/>
              </a:path>
              <a:path fill="darken" w="54679" h="21600">
                <a:moveTo>
                  <a:pt x="54679" y="0"/>
                </a:moveTo>
                <a:lnTo>
                  <a:pt x="54679" y="21600"/>
                </a:lnTo>
                <a:lnTo>
                  <a:pt x="53279" y="20200"/>
                </a:lnTo>
                <a:lnTo>
                  <a:pt x="53279" y="1400"/>
                </a:lnTo>
                <a:close/>
              </a:path>
              <a:path fill="darkenLess" w="54679" h="21600">
                <a:moveTo>
                  <a:pt x="54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79" y="20200"/>
                </a:lnTo>
                <a:close/>
              </a:path>
              <a:path fill="lighten" w="54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7524720" y="285264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7524720" y="4076640"/>
            <a:ext cx="1028880" cy="406440"/>
          </a:xfrm>
          <a:custGeom>
            <a:avLst/>
            <a:gdLst>
              <a:gd name="textAreaLeft" fmla="*/ 26280 w 1028880"/>
              <a:gd name="textAreaRight" fmla="*/ 1002600 w 1028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50" h="21600">
                <a:moveTo>
                  <a:pt x="0" y="0"/>
                </a:moveTo>
                <a:lnTo>
                  <a:pt x="54650" y="0"/>
                </a:lnTo>
                <a:lnTo>
                  <a:pt x="54650" y="21600"/>
                </a:lnTo>
                <a:lnTo>
                  <a:pt x="0" y="21600"/>
                </a:lnTo>
                <a:close/>
              </a:path>
              <a:path fill="lightenLess" w="54650" h="21600">
                <a:moveTo>
                  <a:pt x="0" y="0"/>
                </a:moveTo>
                <a:lnTo>
                  <a:pt x="54650" y="0"/>
                </a:lnTo>
                <a:lnTo>
                  <a:pt x="53250" y="1400"/>
                </a:lnTo>
                <a:lnTo>
                  <a:pt x="1400" y="1400"/>
                </a:lnTo>
                <a:close/>
              </a:path>
              <a:path fill="darken" w="54650" h="21600">
                <a:moveTo>
                  <a:pt x="54650" y="0"/>
                </a:moveTo>
                <a:lnTo>
                  <a:pt x="54650" y="21600"/>
                </a:lnTo>
                <a:lnTo>
                  <a:pt x="53250" y="20200"/>
                </a:lnTo>
                <a:lnTo>
                  <a:pt x="53250" y="1400"/>
                </a:lnTo>
                <a:close/>
              </a:path>
              <a:path fill="darkenLess" w="54650" h="21600">
                <a:moveTo>
                  <a:pt x="54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50" y="20200"/>
                </a:lnTo>
                <a:close/>
              </a:path>
              <a:path fill="lighten" w="54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428760" y="285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7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ом равнобедренном треугольнике гипотенуза равна 18 см. Определите высоту треугольника, опущенную из вершины прям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ый треугольник 6"/>
          <p:cNvSpPr/>
          <p:nvPr/>
        </p:nvSpPr>
        <p:spPr>
          <a:xfrm rot="8149200">
            <a:off x="4896720" y="2488680"/>
            <a:ext cx="3063960" cy="3025800"/>
          </a:xfrm>
          <a:prstGeom prst="rtTriangle">
            <a:avLst/>
          </a:prstGeom>
          <a:solidFill>
            <a:srgbClr val="65d7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6429240" y="3786120"/>
            <a:ext cx="21456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"/>
          <p:cNvSpPr/>
          <p:nvPr/>
        </p:nvSpPr>
        <p:spPr>
          <a:xfrm rot="3049200">
            <a:off x="5281920" y="25430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 rot="19100400">
            <a:off x="7271280" y="26244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2"/>
          <p:cNvSpPr/>
          <p:nvPr/>
        </p:nvSpPr>
        <p:spPr>
          <a:xfrm rot="2578800">
            <a:off x="6392520" y="1887120"/>
            <a:ext cx="149040" cy="15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8"/>
          <p:cNvSpPr/>
          <p:nvPr/>
        </p:nvSpPr>
        <p:spPr>
          <a:xfrm flipH="1">
            <a:off x="6429240" y="1849320"/>
            <a:ext cx="44640" cy="2152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14400" y="1752480"/>
            <a:ext cx="1981080" cy="914400"/>
            <a:chOff x="914400" y="1752480"/>
            <a:chExt cx="1981080" cy="914400"/>
          </a:xfrm>
        </p:grpSpPr>
        <p:sp>
          <p:nvSpPr>
            <p:cNvPr id="256" name="Oval 11"/>
            <p:cNvSpPr/>
            <p:nvPr/>
          </p:nvSpPr>
          <p:spPr>
            <a:xfrm>
              <a:off x="914400" y="175248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1600200" y="20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838080" y="2743200"/>
            <a:ext cx="1981080" cy="914400"/>
            <a:chOff x="838080" y="2743200"/>
            <a:chExt cx="1981080" cy="914400"/>
          </a:xfrm>
        </p:grpSpPr>
        <p:sp>
          <p:nvSpPr>
            <p:cNvPr id="259" name="Oval 14"/>
            <p:cNvSpPr/>
            <p:nvPr/>
          </p:nvSpPr>
          <p:spPr>
            <a:xfrm>
              <a:off x="838080" y="274320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1523880" y="3048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6"/>
          <p:cNvGrpSpPr/>
          <p:nvPr/>
        </p:nvGrpSpPr>
        <p:grpSpPr>
          <a:xfrm>
            <a:off x="762120" y="4038480"/>
            <a:ext cx="1981080" cy="914400"/>
            <a:chOff x="762120" y="4038480"/>
            <a:chExt cx="1981080" cy="914400"/>
          </a:xfrm>
        </p:grpSpPr>
        <p:sp>
          <p:nvSpPr>
            <p:cNvPr id="262" name="Oval 17"/>
            <p:cNvSpPr/>
            <p:nvPr/>
          </p:nvSpPr>
          <p:spPr>
            <a:xfrm>
              <a:off x="762120" y="403848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1447920" y="4343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685800" y="5334120"/>
            <a:ext cx="1981080" cy="914400"/>
            <a:chOff x="685800" y="5334120"/>
            <a:chExt cx="1981080" cy="914400"/>
          </a:xfrm>
        </p:grpSpPr>
        <p:sp>
          <p:nvSpPr>
            <p:cNvPr id="265" name="Oval 20"/>
            <p:cNvSpPr/>
            <p:nvPr/>
          </p:nvSpPr>
          <p:spPr>
            <a:xfrm>
              <a:off x="685800" y="5334120"/>
              <a:ext cx="1981080" cy="914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1066680" y="5562720"/>
              <a:ext cx="129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Нельзя определ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AutoShape 25"/>
          <p:cNvSpPr/>
          <p:nvPr/>
        </p:nvSpPr>
        <p:spPr>
          <a:xfrm>
            <a:off x="769608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3132000" y="4292640"/>
            <a:ext cx="1008360" cy="406440"/>
          </a:xfrm>
          <a:custGeom>
            <a:avLst/>
            <a:gdLst>
              <a:gd name="textAreaLeft" fmla="*/ 26280 w 1008360"/>
              <a:gd name="textAreaRight" fmla="*/ 982080 w 100836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3560" h="21600">
                <a:moveTo>
                  <a:pt x="0" y="0"/>
                </a:moveTo>
                <a:lnTo>
                  <a:pt x="53560" y="0"/>
                </a:lnTo>
                <a:lnTo>
                  <a:pt x="53560" y="21600"/>
                </a:lnTo>
                <a:lnTo>
                  <a:pt x="0" y="21600"/>
                </a:lnTo>
                <a:close/>
              </a:path>
              <a:path fill="lightenLess" w="53560" h="21600">
                <a:moveTo>
                  <a:pt x="0" y="0"/>
                </a:moveTo>
                <a:lnTo>
                  <a:pt x="53560" y="0"/>
                </a:lnTo>
                <a:lnTo>
                  <a:pt x="52160" y="1400"/>
                </a:lnTo>
                <a:lnTo>
                  <a:pt x="1400" y="1400"/>
                </a:lnTo>
                <a:close/>
              </a:path>
              <a:path fill="darken" w="53560" h="21600">
                <a:moveTo>
                  <a:pt x="53560" y="0"/>
                </a:moveTo>
                <a:lnTo>
                  <a:pt x="53560" y="21600"/>
                </a:lnTo>
                <a:lnTo>
                  <a:pt x="52160" y="20200"/>
                </a:lnTo>
                <a:lnTo>
                  <a:pt x="52160" y="1400"/>
                </a:lnTo>
                <a:close/>
              </a:path>
              <a:path fill="darkenLess" w="53560" h="21600">
                <a:moveTo>
                  <a:pt x="53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60" y="20200"/>
                </a:lnTo>
                <a:close/>
              </a:path>
              <a:path fill="lighten" w="53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>
            <a:off x="3276720" y="1916280"/>
            <a:ext cx="1028520" cy="40608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080"/>
              <a:gd name="textAreaBottom" fmla="*/ 379800 h 406080"/>
            </a:gdLst>
            <a:ahLst/>
            <a:rect l="textAreaLeft" t="textAreaTop" r="textAreaRight" b="textAreaBottom"/>
            <a:pathLst>
              <a:path w="54679" h="21600">
                <a:moveTo>
                  <a:pt x="0" y="0"/>
                </a:moveTo>
                <a:lnTo>
                  <a:pt x="54679" y="0"/>
                </a:lnTo>
                <a:lnTo>
                  <a:pt x="54679" y="21600"/>
                </a:lnTo>
                <a:lnTo>
                  <a:pt x="0" y="21600"/>
                </a:lnTo>
                <a:close/>
              </a:path>
              <a:path fill="lightenLess" w="54679" h="21600">
                <a:moveTo>
                  <a:pt x="0" y="0"/>
                </a:moveTo>
                <a:lnTo>
                  <a:pt x="54679" y="0"/>
                </a:lnTo>
                <a:lnTo>
                  <a:pt x="53279" y="1400"/>
                </a:lnTo>
                <a:lnTo>
                  <a:pt x="1400" y="1400"/>
                </a:lnTo>
                <a:close/>
              </a:path>
              <a:path fill="darken" w="54679" h="21600">
                <a:moveTo>
                  <a:pt x="54679" y="0"/>
                </a:moveTo>
                <a:lnTo>
                  <a:pt x="54679" y="21600"/>
                </a:lnTo>
                <a:lnTo>
                  <a:pt x="53279" y="20200"/>
                </a:lnTo>
                <a:lnTo>
                  <a:pt x="53279" y="1400"/>
                </a:lnTo>
                <a:close/>
              </a:path>
              <a:path fill="darkenLess" w="54679" h="21600">
                <a:moveTo>
                  <a:pt x="54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79" y="20200"/>
                </a:lnTo>
                <a:close/>
              </a:path>
              <a:path fill="lighten" w="54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4"/>
          <p:cNvSpPr/>
          <p:nvPr/>
        </p:nvSpPr>
        <p:spPr>
          <a:xfrm>
            <a:off x="3059280" y="2997360"/>
            <a:ext cx="1028520" cy="40608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080"/>
              <a:gd name="textAreaBottom" fmla="*/ 379800 h 406080"/>
            </a:gdLst>
            <a:ahLst/>
            <a:rect l="textAreaLeft" t="textAreaTop" r="textAreaRight" b="textAreaBottom"/>
            <a:pathLst>
              <a:path w="54679" h="21600">
                <a:moveTo>
                  <a:pt x="0" y="0"/>
                </a:moveTo>
                <a:lnTo>
                  <a:pt x="54679" y="0"/>
                </a:lnTo>
                <a:lnTo>
                  <a:pt x="54679" y="21600"/>
                </a:lnTo>
                <a:lnTo>
                  <a:pt x="0" y="21600"/>
                </a:lnTo>
                <a:close/>
              </a:path>
              <a:path fill="lightenLess" w="54679" h="21600">
                <a:moveTo>
                  <a:pt x="0" y="0"/>
                </a:moveTo>
                <a:lnTo>
                  <a:pt x="54679" y="0"/>
                </a:lnTo>
                <a:lnTo>
                  <a:pt x="53279" y="1400"/>
                </a:lnTo>
                <a:lnTo>
                  <a:pt x="1400" y="1400"/>
                </a:lnTo>
                <a:close/>
              </a:path>
              <a:path fill="darken" w="54679" h="21600">
                <a:moveTo>
                  <a:pt x="54679" y="0"/>
                </a:moveTo>
                <a:lnTo>
                  <a:pt x="54679" y="21600"/>
                </a:lnTo>
                <a:lnTo>
                  <a:pt x="53279" y="20200"/>
                </a:lnTo>
                <a:lnTo>
                  <a:pt x="53279" y="1400"/>
                </a:lnTo>
                <a:close/>
              </a:path>
              <a:path fill="darkenLess" w="54679" h="21600">
                <a:moveTo>
                  <a:pt x="54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79" y="20200"/>
                </a:lnTo>
                <a:close/>
              </a:path>
              <a:path fill="lighten" w="54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4"/>
          <p:cNvSpPr/>
          <p:nvPr/>
        </p:nvSpPr>
        <p:spPr>
          <a:xfrm>
            <a:off x="3059280" y="5589720"/>
            <a:ext cx="1028520" cy="406440"/>
          </a:xfrm>
          <a:custGeom>
            <a:avLst/>
            <a:gdLst>
              <a:gd name="textAreaLeft" fmla="*/ 26280 w 1028520"/>
              <a:gd name="textAreaRight" fmla="*/ 1002240 w 1028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4631" h="21600">
                <a:moveTo>
                  <a:pt x="0" y="0"/>
                </a:moveTo>
                <a:lnTo>
                  <a:pt x="54631" y="0"/>
                </a:lnTo>
                <a:lnTo>
                  <a:pt x="54631" y="21600"/>
                </a:lnTo>
                <a:lnTo>
                  <a:pt x="0" y="21600"/>
                </a:lnTo>
                <a:close/>
              </a:path>
              <a:path fill="lightenLess" w="54631" h="21600">
                <a:moveTo>
                  <a:pt x="0" y="0"/>
                </a:moveTo>
                <a:lnTo>
                  <a:pt x="54631" y="0"/>
                </a:lnTo>
                <a:lnTo>
                  <a:pt x="53231" y="1400"/>
                </a:lnTo>
                <a:lnTo>
                  <a:pt x="1400" y="1400"/>
                </a:lnTo>
                <a:close/>
              </a:path>
              <a:path fill="darken" w="54631" h="21600">
                <a:moveTo>
                  <a:pt x="54631" y="0"/>
                </a:moveTo>
                <a:lnTo>
                  <a:pt x="54631" y="21600"/>
                </a:lnTo>
                <a:lnTo>
                  <a:pt x="53231" y="20200"/>
                </a:lnTo>
                <a:lnTo>
                  <a:pt x="53231" y="1400"/>
                </a:lnTo>
                <a:close/>
              </a:path>
              <a:path fill="darkenLess" w="54631" h="21600">
                <a:moveTo>
                  <a:pt x="5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31" y="20200"/>
                </a:lnTo>
                <a:close/>
              </a:path>
              <a:path fill="lighten" w="5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914400" y="1852560"/>
          <a:ext cx="380988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52560"/>
                    <a:ext cx="38098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800600" y="2743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ы хорошо поработал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4">
            <a:hlinkClick r:id="" action="ppaction://hlinkshowjump?jump=previousslide"/>
          </p:cNvPr>
          <p:cNvSpPr/>
          <p:nvPr/>
        </p:nvSpPr>
        <p:spPr>
          <a:xfrm>
            <a:off x="298440" y="5410080"/>
            <a:ext cx="831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риступай к решению следующей задач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5"/>
          <p:cNvSpPr txBox="1"/>
          <p:nvPr/>
        </p:nvSpPr>
        <p:spPr>
          <a:xfrm>
            <a:off x="609480" y="380880"/>
            <a:ext cx="8077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Times New Roman"/>
              </a:rPr>
              <a:t>МОЛОДЕЦ</a:t>
            </a:r>
            <a:endParaRPr b="1" i="1" lang="en-US" sz="28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AutoShape 6">
            <a:hlinkClick r:id="" action="ppaction://hlinkshowjump?jump=previousslide"/>
          </p:cNvPr>
          <p:cNvSpPr/>
          <p:nvPr/>
        </p:nvSpPr>
        <p:spPr>
          <a:xfrm>
            <a:off x="7772400" y="60958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10800"/>
                </a:moveTo>
                <a:lnTo>
                  <a:pt x="27243" y="3794"/>
                </a:lnTo>
                <a:lnTo>
                  <a:pt x="27243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2:43:29Z</dcterms:created>
  <dc:creator>Щемеровы</dc:creator>
  <dc:description/>
  <dc:language>en-US</dc:language>
  <cp:lastModifiedBy>Щемеровы</cp:lastModifiedBy>
  <dcterms:modified xsi:type="dcterms:W3CDTF">2013-10-05T18:30:42Z</dcterms:modified>
  <cp:revision>9</cp:revision>
  <dc:subject/>
  <dc:title>Слайд 1</dc:title>
</cp:coreProperties>
</file>