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C17-284F-461B-9FD6-45F427458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C5B-346D-4315-B7BE-872B23590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0AE-8983-4AE2-B5F7-39F41939EA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5FF-C4DE-42B1-93ED-3E7337ABF6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636-1835-44B2-920A-83EF30D89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73BE-94D3-453B-BAD9-133E0E8DD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6C5B-21B1-4D7C-938B-341D305175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555C-6F2D-4863-9C4C-131899123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58B-8853-46E1-8B6F-23A27E10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B89-54B0-4718-8E56-90A7DA0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AD2-C118-4473-9E8B-305D89D0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CA5-921D-41E0-881D-6919CAC1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39F-01AC-43B3-9E9D-441BD89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D6B-2EB9-4C06-A879-E2C7AE5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83A-BBD5-44F3-AE54-E059E8C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B8A-A7F3-469B-A72A-1092A00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FB9-B44B-48FC-8E07-289DD90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D3F-CCE3-4307-BEE8-5484F3D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46D-C3A4-46C1-B57F-8145CA6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F53-39EB-4548-88F2-7D6DFC3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37C2-C379-47C0-A19F-DA4EFE8EB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ussian_language" TargetMode="External"/><Relationship Id="rId2" Type="http://schemas.openxmlformats.org/officeDocument/2006/relationships/hyperlink" Target="http://en.wikipedia.org/wiki/Krasnodar" TargetMode="External"/><Relationship Id="rId3" Type="http://schemas.openxmlformats.org/officeDocument/2006/relationships/hyperlink" Target="http://en.wikipedia.org/wiki/Russia" TargetMode="External"/><Relationship Id="rId4" Type="http://schemas.openxmlformats.org/officeDocument/2006/relationships/hyperlink" Target="http://en.wikipedia.org/wiki/Russia" TargetMode="External"/><Relationship Id="rId5" Type="http://schemas.openxmlformats.org/officeDocument/2006/relationships/hyperlink" Target="http://en.wikipedia.org/wiki/Operatic" TargetMode="External"/><Relationship Id="rId6" Type="http://schemas.openxmlformats.org/officeDocument/2006/relationships/hyperlink" Target="http://en.wikipedia.org/wiki/Soprano" TargetMode="External"/><Relationship Id="rId7" Type="http://schemas.openxmlformats.org/officeDocument/2006/relationships/hyperlink" Target="http://en.wikipedia.org/wiki/Vienna" TargetMode="External"/><Relationship Id="rId8" Type="http://schemas.openxmlformats.org/officeDocument/2006/relationships/hyperlink" Target="http://en.wikipedia.org/wiki/Saint_Petersburg" TargetMode="External"/><Relationship Id="rId9" Type="http://schemas.openxmlformats.org/officeDocument/2006/relationships/hyperlink" Target="http://en.wikipedia.org/wiki/Mariinsky_Theatre" TargetMode="External"/><Relationship Id="rId10" Type="http://schemas.openxmlformats.org/officeDocument/2006/relationships/slide" Target=""/><Relationship Id="rId11" Type="http://schemas.openxmlformats.org/officeDocument/2006/relationships/hyperlink" Target="http://en.wikipedia.org/wiki/Valery_Gergiev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ustria" TargetMode="External"/><Relationship Id="rId2" Type="http://schemas.openxmlformats.org/officeDocument/2006/relationships/hyperlink" Target="http://en.wikipedia.org/wiki/Uruguay" TargetMode="External"/><Relationship Id="rId3" Type="http://schemas.openxmlformats.org/officeDocument/2006/relationships/hyperlink" Target="http://en.wikipedia.org/wiki/Baritone" TargetMode="External"/><Relationship Id="rId4" Type="http://schemas.openxmlformats.org/officeDocument/2006/relationships/hyperlink" Target="http://en.wikipedia.org/wiki/Erwin_Schrot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n.wikipedia.org/wiki/Time_(magazine)" TargetMode="External"/><Relationship Id="rId3" Type="http://schemas.openxmlformats.org/officeDocument/2006/relationships/hyperlink" Target="http://en.wikipedia.org/wiki/Time_100" TargetMode="External"/><Relationship Id="rId4" Type="http://schemas.openxmlformats.org/officeDocument/2006/relationships/slide" Target=""/><Relationship Id="rId5" Type="http://schemas.openxmlformats.org/officeDocument/2006/relationships/hyperlink" Target="http://en.wikipedia.org/w/index.php?title=Musical_America&amp;action=edit&amp;redlink=1" TargetMode="External"/><Relationship Id="rId6" Type="http://schemas.openxmlformats.org/officeDocument/2006/relationships/slide" Target=""/><Relationship Id="rId7" Type="http://schemas.openxmlformats.org/officeDocument/2006/relationships/hyperlink" Target="http://en.wikipedia.org/wiki/Associated_Press" TargetMode="External"/><Relationship Id="rId8" Type="http://schemas.openxmlformats.org/officeDocument/2006/relationships/hyperlink" Target="http://en.wikipedia.org/wiki/State_Prize_of_the_Russian_Federation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7012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atre or Opera Hous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o you enjoy listening opera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operas have you heard? What was your impress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Russian operatic singers do you know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know 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Anna_Netrebko.jpg"/>
          <p:cNvPicPr/>
          <p:nvPr/>
        </p:nvPicPr>
        <p:blipFill>
          <a:blip r:embed="rId1"/>
          <a:stretch/>
        </p:blipFill>
        <p:spPr>
          <a:xfrm>
            <a:off x="1143000" y="1143000"/>
            <a:ext cx="3929040" cy="5249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715000" y="171468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nna Netrebk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 you know something about h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1430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a Yuryevna Netrebk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ussi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Юрьевна Нетребко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rn September 18, 1971  (age 38) i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Krasnod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Russ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She is 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Russi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pera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opra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o currently resides i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Vien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a student at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Saint Petersbu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servatoire, Netrebko worked as a janitor at Saint Petersburg'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Mariinsky Theat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[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, she auditioned for the Mariinsky Theatre, where conduct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Valery Gergi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ognized her from her prior work in the the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76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March 2006, Netrebko applied to become an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ustria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itizen, receiving her citizenship in late July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April 2008, Netrebko announced that she and her fiancé,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ruguaya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arito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rwin Schrot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had married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ir son Tiago Aruã Schrott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s born on 5 September 2008 in Vienn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12984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48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2987.jpg"/>
          <p:cNvPicPr/>
          <p:nvPr/>
        </p:nvPicPr>
        <p:blipFill>
          <a:blip r:embed="rId2"/>
          <a:stretch/>
        </p:blipFill>
        <p:spPr>
          <a:xfrm>
            <a:off x="3929040" y="-14400"/>
            <a:ext cx="5214960" cy="687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298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12994.jpg"/>
          <p:cNvPicPr/>
          <p:nvPr/>
        </p:nvPicPr>
        <p:blipFill>
          <a:blip r:embed="rId4"/>
          <a:stretch/>
        </p:blipFill>
        <p:spPr>
          <a:xfrm>
            <a:off x="0" y="0"/>
            <a:ext cx="2786040" cy="4206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13035.jpg"/>
          <p:cNvPicPr/>
          <p:nvPr/>
        </p:nvPicPr>
        <p:blipFill>
          <a:blip r:embed="rId5"/>
          <a:stretch/>
        </p:blipFill>
        <p:spPr>
          <a:xfrm>
            <a:off x="0" y="0"/>
            <a:ext cx="385776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cognitions and aw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ime Magazine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placed her on its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ime 100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ist in 2007.</a:t>
            </a:r>
            <a:r>
              <a:rPr b="0" lang="en-US" sz="2900" spc="-1" strike="noStrike" u="sng" baseline="30000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[</a:t>
            </a:r>
            <a:r>
              <a:rPr b="1" lang="ru-RU" sz="29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he was identified by the journal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Musical America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as “a genuine superstar for the 21st century” and was named 'Musician of the Year' for 2008.</a:t>
            </a:r>
            <a:r>
              <a:rPr b="0" lang="en-US" sz="2900" spc="-1" strike="noStrike" u="sng" baseline="30000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[</a:t>
            </a:r>
            <a:r>
              <a:rPr b="1" lang="ru-RU" sz="29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he has also been described by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ssociated Press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as "the reigning new diva of the 21st century"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he was awarded the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State Prize of the Russian Federation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(2004and was made a People's Artist of Russia by President Putin in 2008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Playboy magazine placed her in their "sexiest babes of classical music" list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Netrebko has also won two prestigious Classical BRIT Awards: the 2007 Singer of the Year Award and the 2008 Female of the Yea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48:04Z</dcterms:created>
  <dc:creator>Юлия</dc:creator>
  <dc:description/>
  <dc:language>en-US</dc:language>
  <cp:lastModifiedBy>Юлия</cp:lastModifiedBy>
  <dcterms:modified xsi:type="dcterms:W3CDTF">2009-11-24T21:06:15Z</dcterms:modified>
  <cp:revision>7</cp:revision>
  <dc:subject/>
  <dc:title>Theatre or Opera House?</dc:title>
</cp:coreProperties>
</file>