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308-579C-4659-BBF2-E9062E77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0A2-3CE0-408C-8E06-BBBE2F94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111-2871-42D7-B4A0-3A58F39C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55B-F9F2-401E-B056-51A77908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4A09-92AB-4453-A390-C81F7FD1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2E49-A118-44D3-8F7C-068FBFBB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4830-42FF-4563-BEE0-A6440861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29E9-2683-4645-861A-1A4076DE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2E50-B248-4991-8DE8-66145CC3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0BA5-FB6C-41E7-A133-5EABA2C9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7248-4B35-4CDE-8FDE-6A2F1F1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202-4050-4C8E-A5D7-8EC5B80B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C994-DDD8-4A3E-877B-0364D50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EC13-F587-49D9-8BFB-3C7F1F1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F98A-9852-45DB-A6B6-E871035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F1EA-474C-476D-A482-404D2022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17CF-2A2E-48B9-958B-025B25FE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699F-58AD-401A-82B8-84C17AB6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7CCB-98D9-4983-BC2F-3B9A6CA3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F049-0462-48CB-8F60-73BD38F4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980C-548A-470C-BECF-5251B75F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3A4A-0E39-4F32-9CE8-63F97E13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32B-090F-435C-88C2-CBBFFA41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6CF1-DA35-4836-B8F3-30172414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04A2-7AE5-4626-BFCD-9D2EEB02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AB91-C8EE-45C5-B680-3731939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EF64-C936-4322-8F84-4F4FC71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2DFB-38FA-4FE0-BEB8-2D1ED349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34DA-817D-4926-9574-9418787B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302C-0CDB-45D9-B9F8-DB170C97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F97D-65AA-41B9-A665-ABAB7C1F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690A-A6B6-474A-A470-B8732D72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E047-2F08-4697-BBB0-6F48889D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BA6-E51D-4F52-97A3-F978A4DD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3E2DC-7442-4325-A4C8-5D11A738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F9EC-4FF8-4B4B-A7CE-F751336F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EC26-085F-42A1-8078-A96DA0B1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995E-1609-427B-A285-30AC6F14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0AD98-C19A-49A2-AF08-E6E1D3F0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7A674-3FDD-43FB-B142-E91D06D7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3B92-7433-43A4-AD3C-C4163A6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8978B-C0A3-4CC3-BC31-CE408EF9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2D38E-0945-4C2F-87B1-40D441C3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62FF6-B764-45C9-B10A-A40EC00F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145-E008-4C5E-AEF2-67C2F63B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A7ACC-409C-4F8A-BFB2-A9E647CA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CC4CD-99B3-4480-B754-0AAB39F6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7BC6F-E37C-4DD5-B414-4DD6F5ED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D5CC1-278B-4B1A-9121-07D652F3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F5318-5E69-4BA7-982F-377C4F8C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1D19-4023-439C-8FA0-973B0824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C6F29-69FC-4FC7-8757-93D05FE8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0198-4F06-4ECF-9544-E269CB78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F873A-783E-47D9-981D-498A7F5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1172B-B952-4D77-9833-427BC3BD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B8D-519A-4776-8371-7FBA5511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3B7FF-7E4E-4BD3-9F8D-E4400E01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49B4C-8044-4117-A761-D4E8B68D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51CA-6608-4648-BB1D-5D20B47E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7B892-348C-4F11-84E8-29B76BCC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FA872-3733-466F-945F-6740E56D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9EBF-10C9-4DAD-B641-A1B11221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B1609-39E4-4E36-800D-4908ACE4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CBAD-7E1A-4EAD-AAAE-9F2AA78E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73A2-660C-40D5-B91B-F3506CB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A44C-07F8-4001-9752-2BF06EF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76B-0124-4C89-A49F-C4218BE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71CC-3A9D-4CD8-9952-FAD6716C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F879-17E2-4E12-A43D-63F471D3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94735-26F2-46C9-8602-0F863D85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689-A56A-4269-A574-E9CD8DB1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5AE-51D7-4954-B001-9590CEF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224E-D1AA-45EB-AD3C-DD665C70ED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FF42-868E-40B5-824F-44228C90610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E6B8-6969-4ADA-B970-9F69035842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D30E-1D18-4FC2-A74A-7BE168E41A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A85E-8223-43A4-A3BF-28F6DB6725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7CB6-0CD7-42B2-B428-0294491892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749160" y="828720"/>
            <a:ext cx="7785360" cy="2573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4000" y="3645000"/>
            <a:ext cx="8064360" cy="19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30 имени А.И.Колду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оманова Е.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-2011 учебный го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понятия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уравнени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-следств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ильные уравн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9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763640" y="620280"/>
            <a:ext cx="691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я, состоящие из чисел, переменных, знаков арифметических и алгебраических операций, скобок, знака равенства, называют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авнениями</a:t>
            </a:r>
            <a:r>
              <a:rPr b="0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6560" y="2924280"/>
            <a:ext cx="7859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х+3= - 5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4х +3 =0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9" name="Picture 12" descr="prof"/>
          <p:cNvPicPr/>
          <p:nvPr/>
        </p:nvPicPr>
        <p:blipFill>
          <a:blip r:embed="rId1"/>
          <a:stretch/>
        </p:blipFill>
        <p:spPr>
          <a:xfrm>
            <a:off x="395280" y="836640"/>
            <a:ext cx="1214280" cy="1508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prof"/>
          <p:cNvPicPr/>
          <p:nvPr/>
        </p:nvPicPr>
        <p:blipFill>
          <a:blip r:embed="rId2"/>
          <a:stretch/>
        </p:blipFill>
        <p:spPr>
          <a:xfrm>
            <a:off x="6227640" y="3284640"/>
            <a:ext cx="14400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8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692280"/>
            <a:ext cx="82184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нем уравнени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такое значение переменной, при подстановки которого в уравнение  оно обращается в верное равенство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00000" y="3141720"/>
            <a:ext cx="5112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 2х+3= -5; 2х= -8; х= -4. Ответ: -4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-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4х +3 =0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+3=7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(-4±√7):(-1)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4±√7.                           Ответ: 4±√7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-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3х -4 =0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-16=-7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&lt;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ей нет.                      Ответ: корней не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Arial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4" name="Содержимое 9" descr="Рисунок7.png"/>
          <p:cNvPicPr/>
          <p:nvPr/>
        </p:nvPicPr>
        <p:blipFill>
          <a:blip r:embed="rId1"/>
          <a:stretch/>
        </p:blipFill>
        <p:spPr>
          <a:xfrm>
            <a:off x="6303960" y="3371760"/>
            <a:ext cx="2657520" cy="5095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AG00346_"/>
          <p:cNvPicPr/>
          <p:nvPr/>
        </p:nvPicPr>
        <p:blipFill>
          <a:blip r:embed="rId2"/>
          <a:stretch/>
        </p:blipFill>
        <p:spPr>
          <a:xfrm>
            <a:off x="900000" y="1700280"/>
            <a:ext cx="7712280" cy="12970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8"/>
          <p:cNvSpPr/>
          <p:nvPr/>
        </p:nvSpPr>
        <p:spPr>
          <a:xfrm>
            <a:off x="3635280" y="20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 – это значит найти все его корни или доказать, что таковых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68000" y="-360"/>
            <a:ext cx="82803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 называю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осильными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ножества их решений совпадают или они не имеют решен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аны два уравнения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х)=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х) и р(х)=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х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юбой корень первого уравнения является корнем второго уравнения, то второе уравнение называют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авнением –следствие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8000" y="3213000"/>
            <a:ext cx="83516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– 1-ое уравнение, √х=1- 2-ое уравнен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ое уравнение имеет корни ±1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ое уравнение имеет корень 1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-ое уравнение является уравнением-        следствием 1-ого уравн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33000"/>
            <a:ext cx="8362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и предложенных уравнений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3=0, 4х-5=11, 3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5х+7=0, 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х-12=0 выберите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ару равносильных уравнений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равнение и уравнение-следствие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5280" y="3284280"/>
            <a:ext cx="874872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равнения 2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3=0 и 3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5х+7=0 равносильны, т.к. на множестве действительных чисел они не имеют решения;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равнение 4х-5=11- уравнение-следствие уравнения 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х-12=0 , т.к. корень уравнения 4х-5=11 является корнем уравнения 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х-12=0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2:51:42Z</dcterms:created>
  <dc:creator>школа</dc:creator>
  <dc:description/>
  <dc:language>en-US</dc:language>
  <cp:lastModifiedBy>школа</cp:lastModifiedBy>
  <dcterms:modified xsi:type="dcterms:W3CDTF">2010-10-07T09:40:16Z</dcterms:modified>
  <cp:revision>44</cp:revision>
  <dc:subject/>
  <dc:title>Уравнения</dc:title>
</cp:coreProperties>
</file>