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EA9D-5C30-48A2-93CC-64832C4EE0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8923-899C-4F65-BF7B-5D08E21CFF9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8FD-7DE8-4C17-B64E-887D3713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56A-2C5E-400F-9DE1-BEAD343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E45-CC33-41BE-AA4F-77487766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BF1-84FC-42ED-8CFE-4E21E9EC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C8F-65A5-4613-AF38-CD9239EE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3E66-CF7B-44D1-998C-F24F91B8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BDE1-A99D-4EB0-8112-A5826543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8C6C-170D-4BC9-BDBB-1EE7BCA3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6ADF-0E62-4583-B15E-497C0BA9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C34-DB50-41E6-A4EC-A3843733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E94D-477F-4A72-A11B-F45FC40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BF8-30DA-48F2-862D-8A2F73C8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7D60-74C0-4078-B272-E6A6C11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C3D7-9E38-4E31-9C7E-C4D37825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DE0F-D2CD-4F65-860C-FE8CE34E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F827-482C-4EAB-8ECF-92EC74D6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E3D3-B2C4-48AF-AF54-CC0C5A2A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112FD-69CD-4802-96B6-75AF170D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10AC9-C9AE-469C-B176-B7EE3682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3CFE6-B118-4B0F-8320-8027450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08DEB-9A8C-49F9-8BFA-BD438FCE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A380C-9A8D-4E15-8AB4-B8CBEB0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95B-1B15-412C-926D-3905789C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BCD4D-E745-474F-93C7-D3BDD74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E64CE-7455-4FB8-9E26-73335BA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98EC5-E729-4078-BCAB-5E0B096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7F297-00BD-433C-A4A5-23017A2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FDAB6-7DD4-4DDC-9BC3-CD630CA3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CB230-C92F-4C73-86E6-6476A2D1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67D64-2047-4DB3-905C-DBA05F48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3BBE-7DBC-42EB-AA50-0FEFC2EA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564F-792F-4E88-8144-C393E63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AD1C-23E2-4D65-92E9-35117EC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95A-CAA7-45D7-B3F3-679C09B5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A51D-8B4F-4BDC-820B-2198B02A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08BF-3F9F-42E5-9908-29E1A8C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AB2BA-F332-422A-92EF-0F636662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FE5E-E7ED-4EA0-BE50-9218B1F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6D77-D325-4BB8-B7FC-5A2F3630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0E2A-F0A1-459A-83B2-535FA2EC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054C-5751-4144-AE28-F1B5651A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54DA-9146-41FC-913E-26779FC3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F5BEC-F039-4B21-BA52-7AEBABDC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7BA64-BDC6-461C-A7F5-9D7AA8D3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1D8-BA45-4690-A8AF-20A02AE4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7796D-A3D8-421F-80BF-387FBD1F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E9EC98-36B5-493C-8F6B-44332786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993EF-5EE8-4AB4-9AF6-DA1717AF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458FC-4B9D-4098-A83A-C75CA89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F559B-460C-4F6A-A0B5-E44DB27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A28901-86F5-4CC2-B2AE-79A6635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2C72B-96D8-4BC9-B4F0-50E1B2FA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E303A-B59F-4153-893C-4CEFB13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A57B6-2A88-4A65-B630-C7A4FA0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8F63D-6DBF-4A5F-90A0-8C28C4DD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CA7-C8A3-4086-BADD-5E10132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E57DB4-6F45-4289-9DA8-A3E62D05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9FB-0438-4634-8F19-217778E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658-0BEB-4D54-A562-1D0E621F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46C-5DA7-497C-A355-95A595AC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2C96-9C6F-4062-834E-4883AE6AC0AC}" type="slidenum">
              <a:rPr b="0" lang="ru-RU" sz="16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1E56-ABC5-4669-9B23-38623E1DD6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643A-337E-4A67-B4F6-DFCD69FD8705}" type="slidenum">
              <a:rPr b="0" lang="ru-RU" sz="16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925E-0B63-4711-A233-F7CBE39A8BD1}" type="slidenum">
              <a:rPr b="0" lang="ru-RU" sz="16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83B-C592-456E-A252-AEFB14CCAE29}" type="slidenum">
              <a:rPr b="0" lang="ru-RU" sz="16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Презентация о временах и месяцах год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Составлена воспитателем МБДОУ№3 г. Энгельс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Образенко Т.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Rectangle 10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20" name="WordArt 14"/>
          <p:cNvSpPr txBox="1"/>
          <p:nvPr/>
        </p:nvSpPr>
        <p:spPr>
          <a:xfrm>
            <a:off x="1428840" y="785880"/>
            <a:ext cx="678636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ремена года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6840" y="1341000"/>
            <a:ext cx="39704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о начинается после весны. Летний период длится с 1 июня по 31 авгу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ом можно наблюдать: предлетье (начало июня), начало лета (с середины июня до начала июля), полное лето ( до конца июля), спад лета (авгус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WordArt 5"/>
          <p:cNvSpPr txBox="1"/>
          <p:nvPr/>
        </p:nvSpPr>
        <p:spPr>
          <a:xfrm>
            <a:off x="1476360" y="33336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Picture 6" descr="23ууу_2"/>
          <p:cNvPicPr/>
          <p:nvPr/>
        </p:nvPicPr>
        <p:blipFill>
          <a:blip r:embed="rId1"/>
          <a:stretch/>
        </p:blipFill>
        <p:spPr>
          <a:xfrm>
            <a:off x="4429080" y="1785960"/>
            <a:ext cx="40068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78920" y="2071800"/>
            <a:ext cx="47530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юнь-первый месяц лета, шестой месяц в году. В июне 30 дн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онце июня стоят самые длинные дни, потому что 21-22 июня день летнего солнцестояния – самый длинный световой день в году, после него световой день начинает уменьшатся. Это летний солнцеворот – солнце поворачивается на зиму. В народе говорят. Что в июне «заря с зарей сходится» - только солнце зашло- и уже опять всход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835280" y="333360"/>
            <a:ext cx="5236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июнь</a:t>
            </a:r>
            <a:endParaRPr b="1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5197320" y="2071800"/>
            <a:ext cx="36957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643200" y="1571400"/>
            <a:ext cx="53215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юль – второй месяц лета, седьмой месяц в году. В июле 31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юль самый жаркий месяц в году, «макушка лет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названия «липец», «липень» (в это время цветёт липа), «сенозарник» (от слова «сено» и «зреет») и «сеностав» (косили сено и ставили его в стога), «жарник» (от слова «жара»), «грозник» или «грозовик» (потому что бывают сильные гроз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2050920" y="404640"/>
            <a:ext cx="480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июль</a:t>
            </a:r>
            <a:endParaRPr b="1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468360" y="1986120"/>
            <a:ext cx="2889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0560" y="1412640"/>
            <a:ext cx="504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густ - последний месяц лета, восьмой месяц года. В августе 31 д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т месяц называли «зарев», «заричник» - из-за яркого сияния зарниц, или «серпень», «жнивень» - потому что в это время убирали хлеб («жали») серпами. Называли его ещё «разносол» - так как собранный урожай овощей заготавливали на зиму, сол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Август пахнет яблоками, а сентябрь –капустой». Поспевают первые яблоки и люди отмечают праздник – Яблочный сп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1619280" y="476280"/>
            <a:ext cx="545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август</a:t>
            </a:r>
            <a:endParaRPr b="1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pic>
        <p:nvPicPr>
          <p:cNvPr id="256" name="Picture 7" descr="820009"/>
          <p:cNvPicPr/>
          <p:nvPr/>
        </p:nvPicPr>
        <p:blipFill>
          <a:blip r:embed="rId1"/>
          <a:stretch/>
        </p:blipFill>
        <p:spPr>
          <a:xfrm>
            <a:off x="5292720" y="1508040"/>
            <a:ext cx="3206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066920" y="1499760"/>
            <a:ext cx="4825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 наступает после лета. Осенью природа увядает, готовится к зимнему отдых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 начинается 1 сентября и длится до 30 ноября. В осеннем сезоне можно увидеть: начало осени (почти весь сентябрь), золотая осень (конец сентября – середина октября), глубокая осень (с середины – почти до конца октября), предзимье (с конца октября до конца ноябр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1835280" y="40464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ень</a:t>
            </a:r>
            <a:endParaRPr b="1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Picture 6" descr="золотой лес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427280" y="1412640"/>
            <a:ext cx="4716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нтябрь –первый месяц осени, девятый месяц года. В сентябре 30 д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признак прихода осени – желтеющие листья на деревьях. С началом осени ночи становятся холодн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2-23 сентября – это день осеннего равноденствия, день с ночью «равняются». Длительность дня становится короче. Солнце не успевает греть землю и наступают холода. Но в середине сентября тепло ненадолго возвращается. Это время называют «бабье лет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619280" y="333360"/>
            <a:ext cx="54529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cc33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сентябрь</a:t>
            </a:r>
            <a:endParaRPr b="1" lang="en-US" sz="1800" spc="1" strike="noStrike">
              <a:ln w="28440">
                <a:solidFill>
                  <a:srgbClr val="33cc33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871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4000" y="1484280"/>
            <a:ext cx="4319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тябрь – второй месяц осени, десятый месяц года. В октябре 31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тябре погода в течение дня резко меняется. В народе говорят: «в октябре семь погод на дворе: сеет, веет, кружит, мутит, ревёт, сверху льёт и снизу метё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1763640" y="404640"/>
            <a:ext cx="57373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cc33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октябрь</a:t>
            </a:r>
            <a:endParaRPr b="1" lang="en-US" sz="1800" spc="1" strike="noStrike">
              <a:ln w="28440">
                <a:solidFill>
                  <a:srgbClr val="33cc33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265" name="Picture 6" descr="680064"/>
          <p:cNvPicPr/>
          <p:nvPr/>
        </p:nvPicPr>
        <p:blipFill>
          <a:blip r:embed="rId1"/>
          <a:stretch/>
        </p:blipFill>
        <p:spPr>
          <a:xfrm>
            <a:off x="4932360" y="1413000"/>
            <a:ext cx="3568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284360" y="1642680"/>
            <a:ext cx="46083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ябрь –последний месяц осени. Одиннадцатый месяц года. В ноябре 30 д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роде говорят: «Ноябрь - сентябрев внук, октябрев сын, зиме родной батюшка». Заканчивается осень и видны первые признаки зимы. Водоёмы остыли и покрылись льдом. Лёдостав – «лёд стал» - эта примета начала зи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547640" y="404640"/>
            <a:ext cx="55245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cc33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ноябрь</a:t>
            </a:r>
            <a:endParaRPr b="1" lang="en-US" sz="1800" spc="1" strike="noStrike">
              <a:ln w="28440">
                <a:solidFill>
                  <a:srgbClr val="33cc33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702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78920" y="1915920"/>
            <a:ext cx="4589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има наступает после осени. Зимой вся природа засыпает и умирает. Начинается зима 1 декабря и длится до 28 (29) февра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имой можно наблюдать: предзимовье (почти весь декабрь), коренную зиму (с конца декабря до середины февраля), перелом зимы (конец феврал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1116000" y="357120"/>
            <a:ext cx="58849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</a:t>
            </a:r>
            <a:endParaRPr b="1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Picture 15" descr="05"/>
          <p:cNvPicPr/>
          <p:nvPr/>
        </p:nvPicPr>
        <p:blipFill>
          <a:blip r:embed="rId1"/>
          <a:stretch/>
        </p:blipFill>
        <p:spPr>
          <a:xfrm>
            <a:off x="5072040" y="1928880"/>
            <a:ext cx="357192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8920" y="1267920"/>
            <a:ext cx="4248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кабрь - перв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яц зимы и последний -двенадцатый месяц года. В декабре 31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Декабрь – ворота зимы». Солнце очень низко поднимается над горизонтом, поэтому почти не даёт тепла. В этом месяце самые короткие дни и самые длинные ноч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1979640" y="476280"/>
            <a:ext cx="466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декабрь</a:t>
            </a:r>
            <a:endParaRPr b="1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pic>
        <p:nvPicPr>
          <p:cNvPr id="226" name="Picture 6" descr="2_003"/>
          <p:cNvPicPr/>
          <p:nvPr/>
        </p:nvPicPr>
        <p:blipFill>
          <a:blip r:embed="rId1"/>
          <a:stretch/>
        </p:blipFill>
        <p:spPr>
          <a:xfrm>
            <a:off x="5072040" y="1857240"/>
            <a:ext cx="34304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57760" y="1500120"/>
            <a:ext cx="5106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нварь –первый месяц года; второй месяц зимы. В январе 31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роде говорят: «Январь - году начало, зиме середин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19 января начинаются Крещенские морозы. Холодное солнце едва светит в морозном тумане. В лесу часто слышится треск, и на стволах деревьев появляются трещины – морозобоины, поэтому и говорят «трескучие моро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763640" y="476280"/>
            <a:ext cx="56660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январь</a:t>
            </a:r>
            <a:endParaRPr b="1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31226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341000"/>
            <a:ext cx="4186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враль-второй месяц года; последний месяц зимы. В феврале 28 дней - это самый короткий месяц в году. Один раз в четыре года в феврале выпадает 29 дней. Такой год называется високос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нце февраля –в «послезимье» начинают петь птицы – клесты, синицы, сороки, снеги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1042920" y="549360"/>
            <a:ext cx="63151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февраль</a:t>
            </a:r>
            <a:endParaRPr b="1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pic>
        <p:nvPicPr>
          <p:cNvPr id="232" name="Picture 6" descr="SR111_L"/>
          <p:cNvPicPr/>
          <p:nvPr/>
        </p:nvPicPr>
        <p:blipFill>
          <a:blip r:embed="rId1"/>
          <a:stretch/>
        </p:blipFill>
        <p:spPr>
          <a:xfrm>
            <a:off x="4786200" y="1500120"/>
            <a:ext cx="3870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000680" y="1571760"/>
            <a:ext cx="46432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сна наступает после зимы. Весной просыпается вся природа, поэтому и называют её «благодатная», «всеоживляющая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ется весна 1 марта и длится до 31 мая. Весной можно выделить: перелом зимы (начало и середина марта), снеготаяние (с середины марта до середины апреля), оживление весны (середина апреля –начало мая), разгар весны (середина мая),предлетье (конец ма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900000" y="260280"/>
            <a:ext cx="741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66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66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680043"/>
          <p:cNvPicPr/>
          <p:nvPr/>
        </p:nvPicPr>
        <p:blipFill>
          <a:blip r:embed="rId1"/>
          <a:stretch/>
        </p:blipFill>
        <p:spPr>
          <a:xfrm>
            <a:off x="428760" y="1571760"/>
            <a:ext cx="3286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066920" y="1484280"/>
            <a:ext cx="4825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т первый месяц весны, третий месяц года. В марте -31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рте ночи продолжают укорачиваться, а дни становиться длиннее. 21 марта наступает день весеннего равноденствия, когда день и ночь одинаковой длинны. В народе говорят «день с ночью меряются, равняютс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WordArt 5"/>
          <p:cNvSpPr txBox="1"/>
          <p:nvPr/>
        </p:nvSpPr>
        <p:spPr>
          <a:xfrm>
            <a:off x="1763640" y="404640"/>
            <a:ext cx="530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март</a:t>
            </a:r>
            <a:endParaRPr b="1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pic>
        <p:nvPicPr>
          <p:cNvPr id="238" name="Picture 5" descr="78985"/>
          <p:cNvPicPr/>
          <p:nvPr/>
        </p:nvPicPr>
        <p:blipFill>
          <a:blip r:embed="rId1"/>
          <a:stretch/>
        </p:blipFill>
        <p:spPr>
          <a:xfrm>
            <a:off x="285840" y="1428840"/>
            <a:ext cx="374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4000" y="1714680"/>
            <a:ext cx="4535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рель - второй месяц весны, четвёртый месяц в году. В апреле 30 д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рель называют «снегогон», «водолей». Сходит снег, повсюду бегут ручьи. Лёд на реках пропитывается водой, прогревается солнцем и ломается – это ледолом. Мелкие льдины плывут по реке – начинается ледоход. За ним наступает половодь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1692360" y="404640"/>
            <a:ext cx="5879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апрель</a:t>
            </a:r>
            <a:endParaRPr b="1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2924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78920" y="1642680"/>
            <a:ext cx="4537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й - пятый месяц в году, последний месяц весны. В мае 31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авянское название этого месяца - «травень», так как вся земля в мае покрывается травой. Другие названия тоже говорят о том, что происходит в природе: «розоцвет» (цветут розовым цветом плодовые деревья в садах), «соловьиный месяц» (поют по ночам соловь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2268360" y="260280"/>
            <a:ext cx="451836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май</a:t>
            </a:r>
            <a:endParaRPr b="1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pic>
        <p:nvPicPr>
          <p:cNvPr id="244" name="Picture 6" descr="DY007_L"/>
          <p:cNvPicPr/>
          <p:nvPr/>
        </p:nvPicPr>
        <p:blipFill>
          <a:blip r:embed="rId1"/>
          <a:stretch/>
        </p:blipFill>
        <p:spPr>
          <a:xfrm>
            <a:off x="4929120" y="1928880"/>
            <a:ext cx="376236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9:30:06Z</dcterms:created>
  <dc:creator>Пользователь</dc:creator>
  <dc:description/>
  <dc:language>en-US</dc:language>
  <cp:lastModifiedBy>Артём</cp:lastModifiedBy>
  <dcterms:modified xsi:type="dcterms:W3CDTF">2013-10-05T10:38:32Z</dcterms:modified>
  <cp:revision>19</cp:revision>
  <dc:subject/>
  <dc:title>           </dc:title>
</cp:coreProperties>
</file>