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4.png" ContentType="image/png"/>
  <Override PartName="/ppt/media/image12.jpeg" ContentType="image/jpeg"/>
  <Override PartName="/ppt/media/image10.jpeg" ContentType="image/jpeg"/>
  <Override PartName="/ppt/media/image30.png" ContentType="image/png"/>
  <Override PartName="/ppt/media/image35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6.png" ContentType="image/png"/>
  <Override PartName="/ppt/media/image37.png" ContentType="image/png"/>
  <Override PartName="/ppt/media/image38.jpeg" ContentType="image/jpeg"/>
  <Override PartName="/ppt/media/image28.png" ContentType="image/png"/>
  <Override PartName="/ppt/media/image7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3.gif" ContentType="image/gif"/>
  <Override PartName="/ppt/media/image29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208-C62B-4318-9BCD-0F986F31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583F-0BAD-45C6-A6C7-9A7DD24C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3E24-F61C-4A57-8546-8EE43743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E03-4142-4E5C-8B3E-A40AC5D7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A12C-FF5A-4BE9-9639-323AD0B0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355A-700E-46AB-9B0A-73F1999A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209B-1868-45DD-B5C0-3223F216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0A2C-FF9E-4336-87A1-E2362F94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0F52-8426-41CE-A074-4322019A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8713-B21F-44EA-8661-64F4FBD4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673D-6EB0-40A4-B747-69C9E88D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A67-38EA-44FC-B013-B110E612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8243-80C6-4AA6-8C3D-0771FC4C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BF38-63FB-413D-9AE1-62BD91ED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1E3D-8741-45D7-A048-D37B18CA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1B76-78BA-41A2-B546-88F1D2AA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316F-543F-4259-92A7-35443C13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42A90-3D16-41C8-BC7F-BBCFA36A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2CB6F-42D3-44CD-9DF2-EB9B2465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79FCB-9A81-4435-91B7-F72A56A9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0D2D5-8523-4E74-8D70-304FE37E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B362C-33E6-4483-941D-455048FF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588-BB2D-4CC9-BE26-25F66FBB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2C8DA-E3E5-4352-9F41-F8705BD0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59662-C797-4ED6-853F-D116F40C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72CE5-D629-4D88-8E37-C2F0D850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72570-A27C-407E-BD63-DC3B258A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FF00C-5305-48D6-B340-74B3F8AF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E3D7B-F424-4A87-9567-29CEA89B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42691-142A-49A7-88DD-63AE65BA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88959-3CE7-4B03-8328-A6F4DA68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BD420-4D40-4DDC-AE74-60399E75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DB96D-1932-41CE-8DFF-E6403900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7A6-AF3A-4019-9236-0D21F355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C2B56-5E55-4981-94C1-158BAFF8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1C209-9520-495E-8047-2BE8A75E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2554F-ACCA-4DBA-8720-3F0BFD8E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DADB9-5904-4BC6-83D2-BD72F02E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5E8F4-4BA8-4CD5-AAB1-FC3D0975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64A78-D28C-49E4-A6E2-F9680D75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EF716-95EC-436B-9568-DEE02D38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28721-4DB8-4664-83DC-57852C4F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764CA-9213-4D03-B045-937E1CBE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372E3-00C5-452B-8E9A-001FB9CB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724-C2FE-4AC9-B9E6-10021D9E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C1930-03A7-408E-A5D1-CAC62E9A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18D89-BBA8-43FA-874C-12DC9653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5E61D-9110-4631-9D84-8E1DC6DC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0366E-DD62-47E2-8D07-AF991CF9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29CD8-6EE6-4532-A22A-447FEC46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1E4FE-19B2-440B-956D-EE08D19D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41BB4-4378-40E2-AEB2-C5754144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46C80-ED53-457F-95F8-01469F02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A3D58-CFCC-434B-B923-5CF94FDD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E39FB-C8CE-4F6E-B07B-6575B4CD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2CD-B21C-4A97-89C9-C7E96CCD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A9FAF-F4A8-41E2-A3F8-51E61D9E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CD9B4-962D-4E10-BE9D-F70BAF7C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F1A34-F8F1-4B20-8616-A06F3A80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1A527-45D5-467B-92F5-CF5AB827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4D03E-AC3C-4B16-88E5-F8A964B5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DC852-5483-4BB6-B622-97F62C8A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7C3BE-491D-4B4A-A3F6-FD7B0577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A5930-C959-46A5-9018-6BB30BC9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2960C-6C33-4A4F-B3D5-7B1EB92F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360E2-DF39-473A-BAAF-21866532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028-0936-49E4-B20F-62AE76D1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15D4F-4DEE-4BB5-960B-8A265A03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6DE27-876D-462A-BD32-48278C21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38CA5-2205-4FE2-AD56-B53BAC9F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40E69-4445-4CCB-B2FC-302DEA08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04598-0875-4EB0-9125-7F61441E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2E55E-D958-4F03-B7D5-D2A3F1D9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5E6D9-DEB5-48CA-A3D2-56B85EE5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30530-0DFB-4C19-B4BB-77D54588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EC572-A541-4A21-9E9B-3DBA8245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1BC17-8538-406B-B734-EFC93457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33A-F936-4FB6-AA3F-DDDECEC0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F9F09-23B3-4948-8A99-18C9F185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71954-7406-43F2-8023-390BF250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40F60-B667-4793-BF6C-0CA83727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79B89-4BFB-47CF-ABEB-DEC4F6F9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E8E8D-1BF6-4029-B4B4-F59DBDB4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674AD-0362-42CC-B8BC-0424716D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3E59C-19BB-431B-ABA4-18896BB7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37B97-6A20-4E7C-92A2-BBDBB3C7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CB94A-E6CE-4FBE-8081-3B9FC846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7A9E4-BDBD-4E39-9250-6293575C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9C6-7AEA-4BE1-B94C-39057EDA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00C9E-051A-414F-820F-CBA260AC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09516-5602-4223-AC30-9AFA9899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717EA-4785-4A8F-8229-25756622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B3A19-9C4C-4979-881F-F8D7AB97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7899C-846D-44F7-8510-334A7B9E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D276B-9F8E-4616-BF9A-7475D548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6AE32-C421-4F21-A122-A417AFB3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6FC5-2DC6-45B5-9819-817DD639DC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BCA0-9603-44CF-AAB9-FDAC878EF006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E092-1656-45B1-A594-FA7EA79E7FCA}" type="slidenum">
              <a:rPr b="0" lang="ru-RU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7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E9DB-57D3-42E6-B9BF-F44E93D6425B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Равнобедренный треугольник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034B-67A3-4A05-9821-91C016AB51A7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7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8C5A-1801-405F-A7B6-98872BDA72D1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Равнобедренный треугольник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7026-0A7E-4CC1-AC5C-4E90CF1876E0}" type="slidenum">
              <a:rPr b="0" lang="ru-RU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авнобедренный треугольник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6489-B61B-4893-AFF1-9E881606A3C0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F:\ШКОЛА\СШ!\ВНЕКЛАССНАЯ РАБОТА\праздники\картинки1\den-znan-jpg.gif"/>
          <p:cNvPicPr/>
          <p:nvPr/>
        </p:nvPicPr>
        <p:blipFill>
          <a:blip r:embed="rId2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43588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바탕"/>
                <a:ea typeface="바탕"/>
              </a:rPr>
              <a:t>Гимн </a:t>
            </a:r>
            <a:r>
              <a:rPr b="1" lang="en-US" sz="3200" spc="-1" strike="noStrike">
                <a:solidFill>
                  <a:srgbClr val="ffff00"/>
                </a:solidFill>
                <a:latin typeface="바탕"/>
                <a:ea typeface="바탕"/>
              </a:rPr>
              <a:t>– это торжественная хвалебная песня. Эта песня объединяет и сближает граждан всей стран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7" name="Picture 2" descr="D:\мама\родина\гимн1.jpg"/>
          <p:cNvPicPr/>
          <p:nvPr/>
        </p:nvPicPr>
        <p:blipFill>
          <a:blip r:embed="rId2"/>
          <a:stretch/>
        </p:blipFill>
        <p:spPr>
          <a:xfrm>
            <a:off x="468360" y="2133720"/>
            <a:ext cx="2927160" cy="43894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368" name="Picture 3" descr="D:\мама\родина\гимн.jpg"/>
          <p:cNvPicPr/>
          <p:nvPr/>
        </p:nvPicPr>
        <p:blipFill>
          <a:blip r:embed="rId3"/>
          <a:stretch/>
        </p:blipFill>
        <p:spPr>
          <a:xfrm>
            <a:off x="3924360" y="2492280"/>
            <a:ext cx="4941720" cy="33130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228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바탕"/>
                <a:ea typeface="바탕"/>
              </a:rPr>
              <a:t>Россия…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바탕"/>
                <a:ea typeface="바탕"/>
              </a:rPr>
              <a:t>Это бескра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й</a:t>
            </a:r>
            <a:r>
              <a:rPr b="1" lang="en-US" sz="2800" spc="-1" strike="noStrike">
                <a:solidFill>
                  <a:srgbClr val="00ffff"/>
                </a:solidFill>
                <a:latin typeface="바탕"/>
                <a:ea typeface="바탕"/>
              </a:rPr>
              <a:t>ние луга ярких цвет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1" name="Picture 2" descr="D:\мама\родина\лууг.jpg"/>
          <p:cNvPicPr/>
          <p:nvPr/>
        </p:nvPicPr>
        <p:blipFill>
          <a:blip r:embed="rId2"/>
          <a:stretch/>
        </p:blipFill>
        <p:spPr>
          <a:xfrm>
            <a:off x="250920" y="1844640"/>
            <a:ext cx="8642160" cy="47592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372" name="Picture 10" descr="1б"/>
          <p:cNvPicPr/>
          <p:nvPr/>
        </p:nvPicPr>
        <p:blipFill>
          <a:blip r:embed="rId3"/>
          <a:stretch/>
        </p:blipFill>
        <p:spPr>
          <a:xfrm>
            <a:off x="1258920" y="2708280"/>
            <a:ext cx="2857320" cy="1143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1б"/>
          <p:cNvPicPr/>
          <p:nvPr/>
        </p:nvPicPr>
        <p:blipFill>
          <a:blip r:embed="rId4"/>
          <a:stretch/>
        </p:blipFill>
        <p:spPr>
          <a:xfrm>
            <a:off x="4788000" y="249228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5116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바탕"/>
                <a:ea typeface="바탕"/>
              </a:rPr>
              <a:t>Россия…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바탕"/>
                <a:ea typeface="바탕"/>
              </a:rPr>
              <a:t>Это ясное голубое небо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6" name="Picture 2" descr="D:\мама\родина\небо.jpg"/>
          <p:cNvPicPr/>
          <p:nvPr/>
        </p:nvPicPr>
        <p:blipFill>
          <a:blip r:embed="rId2"/>
          <a:stretch/>
        </p:blipFill>
        <p:spPr>
          <a:xfrm>
            <a:off x="250920" y="2205000"/>
            <a:ext cx="8640720" cy="43196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377" name="Picture 6" descr="solnze"/>
          <p:cNvPicPr/>
          <p:nvPr/>
        </p:nvPicPr>
        <p:blipFill>
          <a:blip r:embed="rId3"/>
          <a:stretch/>
        </p:blipFill>
        <p:spPr>
          <a:xfrm rot="1510200">
            <a:off x="5603400" y="476280"/>
            <a:ext cx="354024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바탕"/>
                <a:ea typeface="바탕"/>
              </a:rPr>
              <a:t>Россия…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981000"/>
            <a:ext cx="82296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바탕"/>
                <a:ea typeface="바탕"/>
              </a:rPr>
              <a:t>Это подсолнух, похожий на солнц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80" name="Picture 2" descr="D:\мама\родина\подс.jpg"/>
          <p:cNvPicPr/>
          <p:nvPr/>
        </p:nvPicPr>
        <p:blipFill>
          <a:blip r:embed="rId2"/>
          <a:stretch/>
        </p:blipFill>
        <p:spPr>
          <a:xfrm>
            <a:off x="250920" y="1773360"/>
            <a:ext cx="8497800" cy="46083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6"/>
          <p:cNvSpPr/>
          <p:nvPr/>
        </p:nvSpPr>
        <p:spPr>
          <a:xfrm>
            <a:off x="2786040" y="1785960"/>
            <a:ext cx="321480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F:\ШКОЛА\СШ!\ВНЕКЛАССНАЯ РАБОТА\праздники\картинки1\thumb800x600x1x16777215_5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4"/>
          <p:cNvSpPr/>
          <p:nvPr/>
        </p:nvSpPr>
        <p:spPr>
          <a:xfrm>
            <a:off x="2643120" y="1714680"/>
            <a:ext cx="4286160" cy="2714400"/>
          </a:xfrm>
          <a:prstGeom prst="rect">
            <a:avLst/>
          </a:prstGeom>
          <a:solidFill>
            <a:srgbClr val="307c3e"/>
          </a:solidFill>
          <a:ln w="25560">
            <a:solidFill>
              <a:srgbClr val="317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3"/>
          <a:stretch/>
        </p:blipFill>
        <p:spPr>
          <a:xfrm>
            <a:off x="781200" y="2577960"/>
            <a:ext cx="732600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Georgia"/>
            </a:endParaRPr>
          </a:p>
        </p:txBody>
      </p:sp>
      <p:pic>
        <p:nvPicPr>
          <p:cNvPr id="387" name="Picture 2" descr="F:\ШКОЛА\СШ!\ВНЕКЛАССНАЯ РАБОТА\праздники\картинки1\3638554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F:\ШКОЛА\СШ!\ВНЕКЛАССНАЯ РАБОТА\праздники\картинки1\638074.jpg"/>
          <p:cNvPicPr/>
          <p:nvPr/>
        </p:nvPicPr>
        <p:blipFill>
          <a:blip r:embed="rId3"/>
          <a:stretch/>
        </p:blipFill>
        <p:spPr>
          <a:xfrm>
            <a:off x="6429240" y="214200"/>
            <a:ext cx="2571840" cy="29354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F:\ШКОЛА\СШ!\ВНЕКЛАССНАЯ РАБОТА\праздники\картинки1\121161_1.jpg"/>
          <p:cNvPicPr/>
          <p:nvPr/>
        </p:nvPicPr>
        <p:blipFill>
          <a:blip r:embed="rId4"/>
          <a:stretch/>
        </p:blipFill>
        <p:spPr>
          <a:xfrm>
            <a:off x="357120" y="3357720"/>
            <a:ext cx="3214800" cy="26715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F:\ШКОЛА\СШ!\ВНЕКЛАССНАЯ РАБОТА\праздники\картинки1\0001-001-TSifry-1.jpg"/>
          <p:cNvPicPr/>
          <p:nvPr/>
        </p:nvPicPr>
        <p:blipFill>
          <a:blip r:embed="rId5"/>
          <a:stretch/>
        </p:blipFill>
        <p:spPr>
          <a:xfrm>
            <a:off x="5429160" y="342900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F:\ШКОЛА\СШ!\ВНЕКЛАССНАЯ РАБОТА\праздники\картинки1\1-Azbuka-1994.jpg"/>
          <p:cNvPicPr/>
          <p:nvPr/>
        </p:nvPicPr>
        <p:blipFill>
          <a:blip r:embed="rId6"/>
          <a:stretch/>
        </p:blipFill>
        <p:spPr>
          <a:xfrm>
            <a:off x="3143160" y="1928880"/>
            <a:ext cx="22860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68178E-006 L -0.65937 -0.00555 E">
                                      <p:cBhvr>
                                        <p:cTn id="19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23774E-007 L 0.56094 -0.44612 E">
                                      <p:cBhvr>
                                        <p:cTn id="28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53 -0.01526 L -0.57031 -0.00717 E">
                                      <p:cBhvr>
                                        <p:cTn id="37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20999E-006 L 0.36198 0.23543 E">
                                      <p:cBhvr>
                                        <p:cTn id="48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6"/>
          <p:cNvSpPr/>
          <p:nvPr/>
        </p:nvSpPr>
        <p:spPr>
          <a:xfrm>
            <a:off x="2786040" y="1785960"/>
            <a:ext cx="321480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F:\ШКОЛА\СШ!\ВНЕКЛАССНАЯ РАБОТА\праздники\картинки1\thumb800x600x1x16777215_5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4"/>
          <p:cNvSpPr/>
          <p:nvPr/>
        </p:nvSpPr>
        <p:spPr>
          <a:xfrm>
            <a:off x="2643120" y="1643040"/>
            <a:ext cx="4286160" cy="2714760"/>
          </a:xfrm>
          <a:prstGeom prst="rect">
            <a:avLst/>
          </a:prstGeom>
          <a:solidFill>
            <a:srgbClr val="307c3e"/>
          </a:solidFill>
          <a:ln w="25560">
            <a:solidFill>
              <a:srgbClr val="317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Заголовок 1" descr=""/>
          <p:cNvPicPr/>
          <p:nvPr/>
        </p:nvPicPr>
        <p:blipFill>
          <a:blip r:embed="rId3"/>
          <a:stretch/>
        </p:blipFill>
        <p:spPr>
          <a:xfrm>
            <a:off x="781200" y="2577960"/>
            <a:ext cx="7326000" cy="878040"/>
          </a:xfrm>
          <a:prstGeom prst="rect">
            <a:avLst/>
          </a:prstGeom>
          <a:ln w="0">
            <a:noFill/>
          </a:ln>
        </p:spPr>
      </p:pic>
      <p:grpSp>
        <p:nvGrpSpPr>
          <p:cNvPr id="396" name="Прямоугольник 5"/>
          <p:cNvGrpSpPr/>
          <p:nvPr/>
        </p:nvGrpSpPr>
        <p:grpSpPr>
          <a:xfrm>
            <a:off x="4200480" y="3597120"/>
            <a:ext cx="2170080" cy="1219320"/>
            <a:chOff x="4200480" y="3597120"/>
            <a:chExt cx="2170080" cy="1219320"/>
          </a:xfrm>
        </p:grpSpPr>
        <p:pic>
          <p:nvPicPr>
            <p:cNvPr id="397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200480" y="3597120"/>
              <a:ext cx="21700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4357800" y="3786120"/>
              <a:ext cx="17859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усский язы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Прямоугольник 7"/>
          <p:cNvGrpSpPr/>
          <p:nvPr/>
        </p:nvGrpSpPr>
        <p:grpSpPr>
          <a:xfrm>
            <a:off x="3524400" y="2060640"/>
            <a:ext cx="2797200" cy="798480"/>
            <a:chOff x="3524400" y="2060640"/>
            <a:chExt cx="2797200" cy="798480"/>
          </a:xfrm>
        </p:grpSpPr>
        <p:pic>
          <p:nvPicPr>
            <p:cNvPr id="400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524400" y="2060640"/>
              <a:ext cx="27972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3714840" y="214308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атемат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оугольник 8"/>
          <p:cNvGrpSpPr/>
          <p:nvPr/>
        </p:nvGrpSpPr>
        <p:grpSpPr>
          <a:xfrm>
            <a:off x="865080" y="1828800"/>
            <a:ext cx="2811600" cy="1066680"/>
            <a:chOff x="865080" y="1828800"/>
            <a:chExt cx="2811600" cy="1066680"/>
          </a:xfrm>
        </p:grpSpPr>
        <p:pic>
          <p:nvPicPr>
            <p:cNvPr id="403" name="Прямоугольник 8" descr=""/>
            <p:cNvPicPr/>
            <p:nvPr/>
          </p:nvPicPr>
          <p:blipFill>
            <a:blip r:embed="rId6"/>
            <a:stretch/>
          </p:blipFill>
          <p:spPr>
            <a:xfrm>
              <a:off x="865080" y="1828800"/>
              <a:ext cx="281160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1000080" y="2000160"/>
              <a:ext cx="2428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литературно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чт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оугольник 9"/>
          <p:cNvGrpSpPr/>
          <p:nvPr/>
        </p:nvGrpSpPr>
        <p:grpSpPr>
          <a:xfrm>
            <a:off x="6272280" y="3736800"/>
            <a:ext cx="1444680" cy="835200"/>
            <a:chOff x="6272280" y="3736800"/>
            <a:chExt cx="1444680" cy="835200"/>
          </a:xfrm>
        </p:grpSpPr>
        <p:pic>
          <p:nvPicPr>
            <p:cNvPr id="406" name="Прямоугольник 9" descr=""/>
            <p:cNvPicPr/>
            <p:nvPr/>
          </p:nvPicPr>
          <p:blipFill>
            <a:blip r:embed="rId7"/>
            <a:stretch/>
          </p:blipFill>
          <p:spPr>
            <a:xfrm>
              <a:off x="6272280" y="3736800"/>
              <a:ext cx="14446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6429240" y="3786120"/>
              <a:ext cx="11430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З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Прямоугольник 10"/>
          <p:cNvGrpSpPr/>
          <p:nvPr/>
        </p:nvGrpSpPr>
        <p:grpSpPr>
          <a:xfrm>
            <a:off x="6224760" y="2060640"/>
            <a:ext cx="2968560" cy="725400"/>
            <a:chOff x="6224760" y="2060640"/>
            <a:chExt cx="2968560" cy="725400"/>
          </a:xfrm>
        </p:grpSpPr>
        <p:pic>
          <p:nvPicPr>
            <p:cNvPr id="409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6224760" y="2060640"/>
              <a:ext cx="29685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6429240" y="2214720"/>
              <a:ext cx="2571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физкультур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Прямоугольник 11"/>
          <p:cNvGrpSpPr/>
          <p:nvPr/>
        </p:nvGrpSpPr>
        <p:grpSpPr>
          <a:xfrm>
            <a:off x="1476360" y="3500280"/>
            <a:ext cx="2784240" cy="1067040"/>
            <a:chOff x="1476360" y="3500280"/>
            <a:chExt cx="2784240" cy="1067040"/>
          </a:xfrm>
        </p:grpSpPr>
        <p:pic>
          <p:nvPicPr>
            <p:cNvPr id="412" name="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1476360" y="3500280"/>
              <a:ext cx="27842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638000" y="3674880"/>
              <a:ext cx="23576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кружающий ми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Прямоугольник 12"/>
          <p:cNvGrpSpPr/>
          <p:nvPr/>
        </p:nvGrpSpPr>
        <p:grpSpPr>
          <a:xfrm>
            <a:off x="4853160" y="1341360"/>
            <a:ext cx="2004840" cy="731880"/>
            <a:chOff x="4853160" y="1341360"/>
            <a:chExt cx="2004840" cy="731880"/>
          </a:xfrm>
        </p:grpSpPr>
        <p:pic>
          <p:nvPicPr>
            <p:cNvPr id="415" name="Прямоугольник 12" descr=""/>
            <p:cNvPicPr/>
            <p:nvPr/>
          </p:nvPicPr>
          <p:blipFill>
            <a:blip r:embed="rId10"/>
            <a:stretch/>
          </p:blipFill>
          <p:spPr>
            <a:xfrm>
              <a:off x="4853160" y="1341360"/>
              <a:ext cx="200484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000760" y="1500120"/>
              <a:ext cx="1714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узы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Прямоугольник 13"/>
          <p:cNvGrpSpPr/>
          <p:nvPr/>
        </p:nvGrpSpPr>
        <p:grpSpPr>
          <a:xfrm>
            <a:off x="2998800" y="1305000"/>
            <a:ext cx="1420920" cy="731880"/>
            <a:chOff x="2998800" y="1305000"/>
            <a:chExt cx="1420920" cy="731880"/>
          </a:xfrm>
        </p:grpSpPr>
        <p:pic>
          <p:nvPicPr>
            <p:cNvPr id="418" name="Прямоугольник 13" descr=""/>
            <p:cNvPicPr/>
            <p:nvPr/>
          </p:nvPicPr>
          <p:blipFill>
            <a:blip r:embed="rId11"/>
            <a:stretch/>
          </p:blipFill>
          <p:spPr>
            <a:xfrm>
              <a:off x="2998800" y="1305000"/>
              <a:ext cx="14209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3071880" y="150012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ру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Georgia"/>
            </a:endParaRPr>
          </a:p>
        </p:txBody>
      </p:sp>
      <p:pic>
        <p:nvPicPr>
          <p:cNvPr id="422" name="Picture 2" descr="F:\ШКОЛА\СШ!\ВНЕКЛАССНАЯ РАБОТА\праздники\картинки1\25232105.jpg"/>
          <p:cNvPicPr/>
          <p:nvPr/>
        </p:nvPicPr>
        <p:blipFill>
          <a:blip r:embed="rId2"/>
          <a:stretch/>
        </p:blipFill>
        <p:spPr>
          <a:xfrm>
            <a:off x="428760" y="428760"/>
            <a:ext cx="82864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4"/>
          <p:cNvSpPr txBox="1"/>
          <p:nvPr/>
        </p:nvSpPr>
        <p:spPr>
          <a:xfrm>
            <a:off x="826920" y="2781360"/>
            <a:ext cx="7632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РОДИНА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47" name="Picture 6" descr="аи"/>
          <p:cNvPicPr/>
          <p:nvPr/>
        </p:nvPicPr>
        <p:blipFill>
          <a:blip r:embed="rId2"/>
          <a:stretch/>
        </p:blipFill>
        <p:spPr>
          <a:xfrm>
            <a:off x="395280" y="-36360"/>
            <a:ext cx="36720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Georgia"/>
            </a:endParaRPr>
          </a:p>
        </p:txBody>
      </p:sp>
      <p:pic>
        <p:nvPicPr>
          <p:cNvPr id="427" name="Picture 2" descr="F:\ШКОЛА\СШ!\ВНЕКЛАССНАЯ РАБОТА\праздники\картинки1\2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F:\ШКОЛА\СШ!\ВНЕКЛАССНАЯ РАБОТА\праздники\картинки1\0_5d986_7f3c7ed1_L.jpg"/>
          <p:cNvPicPr/>
          <p:nvPr/>
        </p:nvPicPr>
        <p:blipFill>
          <a:blip r:embed="rId3"/>
          <a:stretch/>
        </p:blipFill>
        <p:spPr>
          <a:xfrm>
            <a:off x="285840" y="214200"/>
            <a:ext cx="2000160" cy="1940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F:\ШКОЛА\СШ!\ВНЕКЛАССНАЯ РАБОТА\праздники\картинки1\8faa1c9ed2265ec0673d9eae9659c210.jpg"/>
          <p:cNvPicPr/>
          <p:nvPr/>
        </p:nvPicPr>
        <p:blipFill>
          <a:blip r:embed="rId4"/>
          <a:stretch/>
        </p:blipFill>
        <p:spPr>
          <a:xfrm>
            <a:off x="6858000" y="21420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D:\мама\родина\картаа.jpg"/>
          <p:cNvPicPr/>
          <p:nvPr/>
        </p:nvPicPr>
        <p:blipFill>
          <a:blip r:embed="rId2"/>
          <a:stretch/>
        </p:blipFill>
        <p:spPr>
          <a:xfrm>
            <a:off x="-1332000" y="1700280"/>
            <a:ext cx="12098520" cy="41036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바탕"/>
                <a:ea typeface="바탕"/>
              </a:rPr>
              <a:t>Наша Родина-Росс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26920" y="3284280"/>
            <a:ext cx="734544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바탕"/>
                <a:ea typeface="바탕"/>
              </a:rPr>
              <a:t>   </a:t>
            </a:r>
            <a:r>
              <a:rPr b="1" lang="en-US" sz="5400" spc="-1" strike="noStrike">
                <a:solidFill>
                  <a:srgbClr val="ff0000"/>
                </a:solidFill>
                <a:latin typeface="바탕"/>
                <a:ea typeface="바탕"/>
              </a:rPr>
              <a:t>Р   О   С   С   И   Я</a:t>
            </a:r>
            <a:r>
              <a:rPr b="1" lang="en-US" sz="5400" spc="-1" strike="noStrike">
                <a:solidFill>
                  <a:srgbClr val="ff0000"/>
                </a:solidFill>
                <a:latin typeface="바탕"/>
                <a:ea typeface="바탕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http://www.amic.ru/images/gallery_12-2011/640.555_67.jpg"/>
          <p:cNvPicPr/>
          <p:nvPr/>
        </p:nvPicPr>
        <p:blipFill>
          <a:blip r:embed="rId2"/>
          <a:stretch/>
        </p:blipFill>
        <p:spPr>
          <a:xfrm>
            <a:off x="1943280" y="80028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762120" y="64764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바탕"/>
                <a:ea typeface="바탕"/>
              </a:rPr>
              <a:t>Москва – столица России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5" name="Picture 4" descr="D:\мама\родина\кр2.jpeg"/>
          <p:cNvPicPr/>
          <p:nvPr/>
        </p:nvPicPr>
        <p:blipFill>
          <a:blip r:embed="rId2"/>
          <a:stretch/>
        </p:blipFill>
        <p:spPr>
          <a:xfrm>
            <a:off x="395280" y="1341360"/>
            <a:ext cx="8310600" cy="51530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바탕"/>
                <a:ea typeface="바탕"/>
              </a:rPr>
              <a:t>Президент России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9280" y="5300280"/>
            <a:ext cx="47530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Cambria"/>
              </a:rPr>
              <a:t>        </a:t>
            </a:r>
            <a:r>
              <a:rPr b="1" lang="en-US" sz="4400" spc="-1" strike="noStrike">
                <a:solidFill>
                  <a:srgbClr val="00ffff"/>
                </a:solidFill>
                <a:latin typeface="바탕"/>
                <a:ea typeface="바탕"/>
              </a:rPr>
              <a:t>В.В.Путин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Picture 2" descr="D:\мама\родина\пути.jpg"/>
          <p:cNvPicPr/>
          <p:nvPr/>
        </p:nvPicPr>
        <p:blipFill>
          <a:blip r:embed="rId2"/>
          <a:stretch/>
        </p:blipFill>
        <p:spPr>
          <a:xfrm>
            <a:off x="5003640" y="1413000"/>
            <a:ext cx="3829320" cy="51940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바탕"/>
                <a:ea typeface="바탕"/>
              </a:rPr>
              <a:t>Герб России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50560" y="1484280"/>
            <a:ext cx="45370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바탕"/>
                <a:ea typeface="바탕"/>
              </a:rPr>
              <a:t>У России величаво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바탕"/>
                <a:ea typeface="바탕"/>
              </a:rPr>
              <a:t>На гербе орёл двуглавы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바탕"/>
                <a:ea typeface="바탕"/>
              </a:rPr>
              <a:t>Чтоб на запад и восто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바탕"/>
                <a:ea typeface="바탕"/>
              </a:rPr>
              <a:t>Он смотреть бы сразу мог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바탕"/>
                <a:ea typeface="바탕"/>
              </a:rPr>
              <a:t>Сильный, мудрый он и горды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바탕"/>
                <a:ea typeface="바탕"/>
              </a:rPr>
              <a:t>Он России дух свободны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Picture 2" descr="D:\мама\родина\герб 3.jpg"/>
          <p:cNvPicPr/>
          <p:nvPr/>
        </p:nvPicPr>
        <p:blipFill>
          <a:blip r:embed="rId2"/>
          <a:stretch/>
        </p:blipFill>
        <p:spPr>
          <a:xfrm>
            <a:off x="4788000" y="189000"/>
            <a:ext cx="4078080" cy="38275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바탕"/>
                <a:ea typeface="바탕"/>
              </a:rPr>
              <a:t>Флаг России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50560" y="1700280"/>
            <a:ext cx="5041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바탕"/>
                <a:ea typeface="바탕"/>
              </a:rPr>
              <a:t>Внизу – </a:t>
            </a:r>
            <a:r>
              <a:rPr b="1" lang="ru-RU" sz="3200" spc="-1" strike="noStrike">
                <a:solidFill>
                  <a:srgbClr val="ff0000"/>
                </a:solidFill>
                <a:latin typeface="바탕"/>
                <a:ea typeface="바탕"/>
              </a:rPr>
              <a:t>красны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바탕"/>
                <a:ea typeface="바탕"/>
              </a:rPr>
              <a:t>Выше – </a:t>
            </a:r>
            <a:r>
              <a:rPr b="1" lang="ru-RU" sz="3200" spc="-1" strike="noStrike" u="sng">
                <a:solidFill>
                  <a:srgbClr val="00ffff"/>
                </a:solidFill>
                <a:uFillTx/>
                <a:latin typeface="바탕"/>
                <a:ea typeface="바탕"/>
              </a:rPr>
              <a:t>голубой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바탕"/>
                <a:ea typeface="바탕"/>
              </a:rPr>
              <a:t>Еще выше – </a:t>
            </a:r>
            <a:r>
              <a:rPr b="1" lang="ru-RU" sz="3200" spc="-1" strike="noStrike">
                <a:solidFill>
                  <a:srgbClr val="ffffff"/>
                </a:solidFill>
                <a:latin typeface="바탕"/>
                <a:ea typeface="바탕"/>
              </a:rPr>
              <a:t>белый</a:t>
            </a:r>
            <a:r>
              <a:rPr b="1" lang="ru-RU" sz="3200" spc="-1" strike="noStrike">
                <a:solidFill>
                  <a:srgbClr val="00ffff"/>
                </a:solidFill>
                <a:latin typeface="바탕"/>
                <a:ea typeface="바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4" name="Picture 2" descr="D:\мама\родина\ф1.gif"/>
          <p:cNvPicPr/>
          <p:nvPr/>
        </p:nvPicPr>
        <p:blipFill>
          <a:blip r:embed="rId2"/>
          <a:stretch/>
        </p:blipFill>
        <p:spPr>
          <a:xfrm>
            <a:off x="5508720" y="260280"/>
            <a:ext cx="3405240" cy="20811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D:\мама\родина\ф.jpg"/>
          <p:cNvPicPr/>
          <p:nvPr/>
        </p:nvPicPr>
        <p:blipFill>
          <a:blip r:embed="rId3"/>
          <a:stretch/>
        </p:blipFill>
        <p:spPr>
          <a:xfrm>
            <a:off x="5003640" y="3500280"/>
            <a:ext cx="3816360" cy="30528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6:15:03Z</dcterms:created>
  <dc:creator>Bill Gates</dc:creator>
  <dc:description/>
  <dc:language>en-US</dc:language>
  <cp:lastModifiedBy>Белевикина</cp:lastModifiedBy>
  <dcterms:modified xsi:type="dcterms:W3CDTF">2013-10-06T11:40:17Z</dcterms:modified>
  <cp:revision>50</cp:revision>
  <dc:subject/>
  <dc:title>родина</dc:title>
</cp:coreProperties>
</file>