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7AE-2502-46ED-B3DF-0F362E68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B6D-7BB3-4A2B-8855-97C23773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0070-1C2F-43FA-8851-DFB93F7F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837-CC2B-405C-A948-7FD2E297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8E48-2179-447A-A55F-025DDA9A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CC31-56DA-4FDD-B564-37C08FCC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DB6F-B5B3-457A-AEB3-B44D7D41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25DF-7299-48E7-8125-23228AEA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742B-66F5-4637-AAED-48855899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E8B6-0422-4D0F-A9DB-2168B35D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2FE8-488D-4AE9-94DF-DE766D9E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430-F060-4770-A61E-85D50C0C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864A-FEAD-42EA-9E78-6E16AF6C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CDF0-BBC9-4DEE-B583-5B4BC365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C8BF-7F8D-4341-9FE8-FFA57F7F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C343-CEF3-431D-A47F-DF250B1B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3B57-78A8-4200-903C-13A5898B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79E-BD2C-4AAB-BD2A-BEC112BC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388-40A0-4275-994D-1F5F1D1D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208-AB18-463C-83A0-B38DFDD8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A08-B233-4FF4-8F8A-2D2B985D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93B-B26B-42D7-8CE5-E619BD46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4CF-21D3-4FAF-BB32-0A33B9FB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91E-673C-4129-A60A-05D06456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BCED-EAE2-45D3-875C-C7BF7CA5D7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9C32-1578-48F7-AA90-49AB2C590A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ектная раб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666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«7 чудес моей малой Родины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Сидорович Е.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ОУ «СОШ № 40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бочий материал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480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6697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6408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4bbfb"/>
                </a:solidFill>
                <a:latin typeface="Arial Black"/>
              </a:rPr>
              <a:t>Аннотация проекта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60280"/>
            <a:ext cx="88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4bbfb"/>
                </a:solidFill>
                <a:latin typeface="Arial Black"/>
              </a:rPr>
              <a:t>«Семь чудес моей малой родины»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36640"/>
            <a:ext cx="835344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ffffb7"/>
                </a:solidFill>
                <a:latin typeface="Arial Black"/>
              </a:rPr>
              <a:t>Предметная область: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окружающий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ир, краеведение, технология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ffffb7"/>
                </a:solidFill>
                <a:latin typeface="Arial Black"/>
              </a:rPr>
              <a:t>Участники проекта: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ученики 1 класса (7-8 лет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ffffb7"/>
                </a:solidFill>
                <a:latin typeface="Arial Black"/>
              </a:rPr>
              <a:t>Цель проекта: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развитие личности и создание основ творческого потенциала ребенка, формировать у учащихся умение оценивать свои знания, представлять результаты творческой самостоятельной работы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ffffb7"/>
                </a:solidFill>
                <a:latin typeface="Arial Black"/>
              </a:rPr>
              <a:t>Задачи: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УУД Личностные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. У обучающегося будут сформированы: положительное отношение к школе и учебной деятельности, интерес к учебному материалу; обучающийся получить возможность для формирования: основ гражданской идентичности личности (чувство сопричастности к своей родине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Метапредметные: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Регулятивные. Обучающиеся получат возможность научиться адекватно воспринимать оценку своей работы учителем, товарищами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ознавательные.  Обучающиеся научаться: осуществлять поиск нужной информации, понимать заданный вопрос, в соответствии с ним строить ответ в устной форме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Коммуникативные. Ученики научатся формулировать собственное мнение и позицию задавать вопросы.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Предметные.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У обучающийся знает, что такое презентация творческой работы, правила презентации, правила поведения присутствующих на презентации, правила оценивания представленной работы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496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b7"/>
                </a:solidFill>
                <a:latin typeface="Arial Black"/>
              </a:rPr>
              <a:t>Описание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: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проект реализуется в 1 классе начальной школы, при узучении программы «Окружающий мир» по системе Л.В. Занков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ходе работы над проектом учащиеся изучают справочную литературу, материалы Интернет, знакомятся с достопримечательностями нашего город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Продукт проекта: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перезентация (альбом с фотографиями, коллаж, газета, рисунки и т.д.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К работе в проекте активно привлекаются родители учеников, которые помогают оформить презентацию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b7"/>
                </a:solidFill>
                <a:latin typeface="Arial Black"/>
              </a:rPr>
              <a:t>Информационные технологии: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информационно-коммуникационные технологии, поисковая деятельность, индивидуальное исследование, защита исследовательской работы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b7"/>
                </a:solidFill>
                <a:latin typeface="Arial Black"/>
              </a:rPr>
              <a:t>Ключевые слова: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алая родина, памятник, достопримечательность, арт-     объект, символ город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b7"/>
                </a:solidFill>
                <a:latin typeface="Arial Black"/>
              </a:rPr>
              <a:t>Авторы: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Сидорович Елена Владимировна и ученики и родители 1 «е» класса МАОУ «СОШ № 40» г. Пермь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0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b7"/>
                </a:solidFill>
                <a:latin typeface="Arial Black"/>
              </a:rPr>
              <a:t>Планирование проекта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Актуальность проекта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ФГОС нового поколения требует использования в образовательном процессе методов проектно-исследовательской деятельности, так как именно собственная деятельность способна вызвать эмоционально-ценностное отношение к изучаемым событиям, явлениям, фактам. Знания и умения необходимые для организации проектной деятельности, в будущем станут основой для организации научно-исследовательской деятельности в основной школ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Оригинальность проекта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В последнее время бурно обсуждается в прессе и проходят голосования по определению 7 чудес света, почему бы не обсудить и не выявить 7 чудес своей  малой родины, встав на позицию «историка», «архитектора», «скульптора», «географа»! Ведь удивительное – рядом!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Ожидаемые результаты: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реализация данного проекта позволит учащимся познакомится с достопримечательностями своего родного края, представлять результаты домашней творческой самостоятельной работы</a:t>
            </a:r>
            <a:r>
              <a:rPr b="1" lang="en-US" sz="17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b7"/>
                </a:solidFill>
                <a:latin typeface="Arial Black"/>
              </a:rPr>
              <a:t>Учебно-методические материалы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66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, мультимедийный проектор, электронные пособия, посещение музеев, выставок, библиотек, экскурс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 классе работа над проектом по полной структуре затруднительна (плохо читают, пишут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ценка и стандар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ценочный лист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куратность и дизайн оформ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ование собственных (авторских) материал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ние изложить самое интересное и ценно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ние отвечать на вопро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ние защищать свою точку з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тоговый балл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максимально 5 баллов по каждой позици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624720" cy="3716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4220640"/>
            <a:ext cx="734544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ценочный лист проекта (пример оценива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ккуратность и дизайн оформления – 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ние собственных (авторских) материалов –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ие изложить самое интересное и ценное - 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ие отвечать на вопросы - 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ие защищать свою точку зрения -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тоговый балл: 16 балл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6408720" cy="3968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55640" y="4220640"/>
            <a:ext cx="734544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ценочный лист проекта (пример оценива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ккуратность и дизайн оформления – 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ние собственных (авторских) материалов – 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ие изложить самое интересное и ценное - 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ие отвечать на вопросы - 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ие защищать свою точку зрения -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тоговый балл: 23 балл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б авторе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Профессия: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 учит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начальных класс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Профессиональные интересы:</a:t>
            </a:r>
            <a:r>
              <a:rPr b="1" lang="en-US" sz="25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исследовательская деятельность младших школьников; применение ИКТ в начальной школе; проектная деятельность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Увлечения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чтение книг, цветоводство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туризм, кулинария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Стаж педагогиче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деятельности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5 лет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24360" y="2637000"/>
            <a:ext cx="3200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9:28:02Z</dcterms:created>
  <dc:creator>Саша</dc:creator>
  <dc:description/>
  <dc:language>en-US</dc:language>
  <cp:lastModifiedBy>Саша</cp:lastModifiedBy>
  <dcterms:modified xsi:type="dcterms:W3CDTF">2013-10-06T17:31:31Z</dcterms:modified>
  <cp:revision>5</cp:revision>
  <dc:subject/>
  <dc:title>Аннотация проекта</dc:title>
</cp:coreProperties>
</file>